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5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8.wmf" ContentType="image/x-wmf"/>
  <Override PartName="/ppt/media/image33.jpeg" ContentType="image/jpeg"/>
  <Override PartName="/ppt/media/image5.wmf" ContentType="image/x-wmf"/>
  <Override PartName="/ppt/media/image38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AAF-7D60-43FD-B977-32715438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D2B-F5BA-46C4-AC86-24C65F52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442-6257-4D08-A9DB-8093B257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48B-5838-4389-8EBE-273356B6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1589-FE3F-4A12-9DE9-700920C8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4134-CED6-4DA4-B29B-30F18EC4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1B2B-8EC8-4577-95C1-978DF467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BFAA-7513-4561-AE6D-0A83340E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DA69-68EC-47F3-8D36-3342AE13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04F6-75F4-48B5-BEF0-5B319411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C3A2-27AB-4086-8DBE-657A4B9B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4E4-E1A4-4DF5-B42D-B82ABE61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E7A0-EFFD-4BC8-BE02-DB953C2F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3429-2787-4854-8EE8-645A0020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A11A-CACB-477C-9EB3-46BE34DB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E67A-61A8-4330-BDA6-54FD51D5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21FE-D479-42AB-8C7C-8436F6D5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004D-49C0-45E6-A6AF-65604EC6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D37-F0B8-4408-9DB0-87C20F49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F79-6BB5-4CD5-8FE5-158098D6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5AC-6FA3-442A-8E8A-EF7D6FC5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0CB-725F-4C0B-91F4-6B03BB23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5EC-6BCE-48F7-A65F-DB3217BD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204-DC5A-4363-AD1C-ABFE4966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21CB-2F28-430D-84EE-DA781CDA70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D497-CB5C-4E88-9988-09217473BD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dang Aplikasi E-Co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23880"/>
          <a:ext cx="8686800" cy="53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68680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luang &amp; Kendala E-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828800"/>
          <a:ext cx="914400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Commerce Teori-nya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fitas di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tualisasi Pengembangan Wilay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Custom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Busi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05740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 (ED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 Whom EDI Can Be Us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cost to move to E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base dibalik Web 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ntangan Selanjutnya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ion L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 Teori-nya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al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suk ke Internet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rvey Poten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&amp; Profile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19360" y="2666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Web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ey User 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79640" y="1994040"/>
          <a:ext cx="301464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994040"/>
                    <a:ext cx="301464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Traffic Web Indone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0-80% traffic datangnya dari / ke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informasi Web yang agak banyak datangnya da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com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edu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sg di Singap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ar traffic Web  harian mencapai 80-100M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Perdag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ga Bersa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tu Tin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epatan Waktu sampai ke Pa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Profile User Hasil Sebuah Stu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akteritik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ference and Per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Sources &amp; Distribution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u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42080" y="2454120"/>
          <a:ext cx="3089160" cy="43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080" y="2454120"/>
                    <a:ext cx="308916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mum Well Educated 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kar menemukan User Internet yang hanya berpendidikan SD :-)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 dominasi oleh P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umnya single atau tidak punya an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umnya Antara 25-35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ih Relatif Mu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co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Amerika Serik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65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Ero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42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97320" y="4648320"/>
          <a:ext cx="361656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7320" y="4648320"/>
                    <a:ext cx="3616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49400" y="4560840"/>
          <a:ext cx="517824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" y="4560840"/>
                    <a:ext cx="51782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pe Perusahaan Yang Akan di Untungk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am Waktu Dek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erusahaan Kec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&lt;100 Pegawa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6512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reativ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ustomizabil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veni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760" y="2097000"/>
          <a:ext cx="370656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097000"/>
                    <a:ext cx="370656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otal Customer Satisf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a competitive analysis and remember content is 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name of the game is the dom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't waste your time, do a tim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pond, respond, resp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 on the circu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Offensive di Lap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ada Indonesia Technolog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disional vs Elektroni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it promosi &amp; akses pa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timpangan persaingan dag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onomi biaya tinggi &amp; birokra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edu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ar kurang kompeti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ses pasar mud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laian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siasi &amp; penawaran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mudahan permintaan produk bar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ur informasi transpar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yanan interak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nada Indonesia TechNet (CITN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ower SMEs (Small Medium Enterpri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, Research, NGO, Gov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dian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-ctn@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jkt@ibm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TN - CTN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486080"/>
          <a:ext cx="70866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86080"/>
                    <a:ext cx="70866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@isnet.itb.ac.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man, RCTI, Bank, Dept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90720" y="1165320"/>
          <a:ext cx="8153280" cy="61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65320"/>
                    <a:ext cx="815328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AN Agriculture W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riculture@apan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 on Agri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orting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nd Card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-9600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+ Sound Card +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ome.pages.de/~flexnet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TT FlexNet via Se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tt_ser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ycom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1752480"/>
          <a:ext cx="861048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6104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-3240" y="-3240"/>
          <a:ext cx="9074160" cy="67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88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AD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ADI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2514600"/>
          <a:ext cx="8839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839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i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4920" y="1600200"/>
          <a:ext cx="883908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83908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CD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10 km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in Router + Ethernet conn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ydra.carleton.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(CDM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74800"/>
          <a:ext cx="914400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4800"/>
                    <a:ext cx="91440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8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ational Tr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504800"/>
          <a:ext cx="8076960" cy="5353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04800"/>
                    <a:ext cx="8076960" cy="535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ateur Packet Satell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FOTO-13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FOT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Call Wai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2" name="ipfax_white3" descr=""/>
          <p:cNvPicPr/>
          <p:nvPr/>
        </p:nvPicPr>
        <p:blipFill>
          <a:blip r:embed="rId1"/>
          <a:stretch/>
        </p:blipFill>
        <p:spPr>
          <a:xfrm>
            <a:off x="380880" y="1625760"/>
            <a:ext cx="84582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 Glob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674720"/>
          <a:ext cx="73152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4720"/>
                    <a:ext cx="7315200" cy="518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7e988b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deo Con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6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ptualisasi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1758960" y="2063880"/>
            <a:ext cx="6921360" cy="3568680"/>
          </a:xfrm>
          <a:custGeom>
            <a:avLst/>
            <a:gdLst>
              <a:gd name="textAreaLeft" fmla="*/ 256320 w 6921360"/>
              <a:gd name="textAreaRight" fmla="*/ 6665040 w 6921360"/>
              <a:gd name="textAreaTop" fmla="*/ 132120 h 3568680"/>
              <a:gd name="textAreaBottom" fmla="*/ 2850120 h 3568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425840" y="387360"/>
            <a:ext cx="4635720" cy="364500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135000 h 3645000"/>
              <a:gd name="textAreaBottom" fmla="*/ 2910960 h 3645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835280" y="6480"/>
            <a:ext cx="6769080" cy="25779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5400 h 2577960"/>
              <a:gd name="textAreaBottom" fmla="*/ 2058840 h 25779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892680" y="6480"/>
            <a:ext cx="5168880" cy="265428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98280 h 2654280"/>
              <a:gd name="textAreaBottom" fmla="*/ 2119680 h 2654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H="1">
            <a:off x="81720" y="6480"/>
            <a:ext cx="6769080" cy="242568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se Inovasi 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ation: penghematan bia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sion:peningkatan performa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: nilai tambah ba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2133720"/>
          <a:ext cx="7084800" cy="52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084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Empower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 Cre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Technology Supp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09:48:31Z</dcterms:created>
  <dc:creator>Onno W. Purbo</dc:creator>
  <dc:description/>
  <dc:language>en-US</dc:language>
  <cp:lastModifiedBy>Onno W. Purbo</cp:lastModifiedBy>
  <dcterms:modified xsi:type="dcterms:W3CDTF">1999-06-29T02:23:48Z</dcterms:modified>
  <cp:revision>24</cp:revision>
  <dc:subject/>
  <dc:title>No Slide Title</dc:title>
</cp:coreProperties>
</file>