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400E-06C1-4A37-8191-F92954D48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CADE-C95B-417E-A8B6-0279AE96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DDF7-3EC3-4569-A81E-C6CE276F1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4D6E-5FB7-44F1-875B-7C5A1B23E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829F-1B17-42D9-AB7F-01667C1E7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506D-2782-4E39-997B-174269D2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1E66-C431-4697-947B-642C01DD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6A87-C0AE-4511-84E8-E1C768A8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387C-C7D5-4FDA-A262-8F4B7862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CF4E-6F30-49AD-806A-341C57B2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B1F7-79BB-49D1-ADD0-844FBAA3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8BBC-B1BA-43F5-9C55-AB6EC787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EB3E-01E5-40CE-A95E-8049319C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33C5-3701-476F-B741-087B7BCD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A6F3-8FFC-48EA-B6CD-B0606A7F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B9CB-7875-42AD-BC41-53C3AD843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A79C-5A6A-45C1-A087-698FD2109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8A62-5607-4F1B-9839-773216D9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B109-3D49-4A8D-8E62-280BE1D9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BE94-6AC4-4B62-84E9-84B0552A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4383-5DC1-4F37-90FF-C786D727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D7B8-B923-472B-A893-46A76D56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8734-0523-4059-8D55-49D922AF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7A11-7BBC-4E05-9D36-1A96150C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73a2ff"/>
                </a:gs>
                <a:gs pos="100000">
                  <a:srgbClr val="354a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73a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F1DF-FD6B-4F68-8D3E-18E449C4F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3a2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d5cf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d5c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73a2ff"/>
                </a:gs>
                <a:gs pos="100000">
                  <a:srgbClr val="354a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73a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0A0E-3852-4E60-83E9-21BC78FAA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28800" y="575640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523880"/>
            <a:ext cx="75549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f0165"/>
                </a:solidFill>
                <a:latin typeface="Arial"/>
              </a:rPr>
              <a:t>Ricochet –</a:t>
            </a:r>
            <a:r>
              <a:rPr b="0" lang="en-US" sz="4000" spc="-1" strike="noStrike">
                <a:solidFill>
                  <a:srgbClr val="0f0165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f0165"/>
                </a:solidFill>
                <a:latin typeface="Arial"/>
              </a:rPr>
              <a:t>Autopsy of a Wireless Carr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495680" y="5791320"/>
            <a:ext cx="4648320" cy="1066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32767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id It Happen &amp; How to Avoid the Same Resul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5029200"/>
          <a:ext cx="281952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029200"/>
                    <a:ext cx="2819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Rules of the Road to Suc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Be Paranoid, but Understand Competitive Technolo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derstand the Difference between Evolutionary &amp; Disruptive Technolog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Define &amp; Deploy a Compelling Price Value Relation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rget Segment - Mobile Subscriber vs SME &amp; DSL Consumer Market Seg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Build Distribution from the Bottom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CI vs Small to Medium Regional/Local ISPs, SIs &amp; NSPs/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Don’t Scale Deployment Without: Tested Operations &amp; Distribution Mod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 Burn Rates &amp; Low Subscriber Ad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The Availability of Capital is not Endur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imize Burn Rates until Growth Takes Of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6400800"/>
            <a:ext cx="24382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Rules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Focus On One Thing at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reless Carrier vs Technology Developme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) Hire the Best Employees You Can Afford &amp; List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can’t alter the laws of Physic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rint – 40+ Markets - $5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cochet – 40+ Markets 1.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) Watch Out for Economic Cyc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Can’t Change Them &amp; They Can Hurt You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) Be agile – If Its Not Working – CHANGE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-evaluate your Business Model Early &amp; Ofte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Willing to 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) Go Back to Rule # 4 – LIVE BY IT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6400800"/>
            <a:ext cx="25909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3T21:10:11Z</dcterms:created>
  <dc:creator>IT Support</dc:creator>
  <dc:description/>
  <dc:language>en-US</dc:language>
  <cp:lastModifiedBy>Lee Gopadze</cp:lastModifiedBy>
  <dcterms:modified xsi:type="dcterms:W3CDTF">2002-02-08T16:09:59Z</dcterms:modified>
  <cp:revision>336</cp:revision>
  <dc:subject/>
  <dc:title>PowerPoint Presentation</dc:title>
</cp:coreProperties>
</file>