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DA22-F9F9-4DBD-867F-A79C2900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EB4-5AE6-474D-AD02-C2DECFE2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CF3-0876-48D5-ABC1-F1AA6C56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3CE4-F78D-4106-855D-4CA72284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482B-F9B5-49A4-8B05-61B6B95C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C8C6-F72D-4CF3-8799-213114F5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2229-1C14-4738-9049-26B7590F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64B1-533A-4CDD-9608-38B38E21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1282-2F25-49EE-B784-D614967B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6594-EE9A-4BA1-B699-20D48D8F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EDDC-405D-483A-B205-CDF8F497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D3B-F15C-4395-8BF6-E084FB65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300D-43C4-45B8-9EA4-04E3E6D3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E481-01B8-4391-BD55-5B9F7DF9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B787-B9D7-4075-B938-528E6092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4795-09B1-455A-B98E-58B147A6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E0C0-9B0D-4696-BE5E-025B4A8B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7F9C-BFB5-4BD6-8710-4E6A08DB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7A1-AB5A-4F56-9A3F-4BE375E2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CB1-2DEE-4B01-947C-3538C89A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727D-0904-4AF8-B855-2A8C5396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1CDE-453F-443C-A3ED-61198284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07E3-2C65-4964-95EF-36060A4F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323B-5A18-4114-9451-ED3F1C38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D97F-9879-4852-969F-962B5F281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EB1F-C693-4149-8062-F9EF2E25C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ttclogo1%206-200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3049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Caslon Regular"/>
              </a:rPr>
              <a:t>Central Texas Telephone Cooperative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6440" y="2362320"/>
            <a:ext cx="4979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: Planning and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fitable Coverag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6240" y="4782960"/>
            <a:ext cx="4027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 Larry D. Pechacek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Texas Telephone Cooperative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ef Technology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Network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96600" y="233028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Transport via ATM Network A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ervices via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Emulation Interface To TD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ia ATM 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Concentration via ATM Switc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Network Qo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7680" y="41274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-location of MMDS and LMDS Systems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240" y="451008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Data Traffic From End Office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4080" y="48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VoIP to local End Office Switch - Existing Class 5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es With Appreciable Service Life From Both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ervices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4800" y="1981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Integrate Wireless Systems with Existing Wireli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RF Planning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95520" y="3672000"/>
            <a:ext cx="67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/LMDS Sectorization Used to Accommodat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Characterized by Customer Density and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(Capacity and Sym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4080" y="182880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Will Begin with 3 Super Cells and Additional Mini/Micro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s Needed Basis As Dictated By Line-of-Sigh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7320" y="2438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equires Planning and Coordination with Surrounding B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4080" y="30160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adius of Coverage, Channel Bandwidth,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Must be Coordinated for Best Fit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160" y="461628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 Requires Careful Radius of Coverage Determination Bas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Fade and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8040" y="5226120"/>
            <a:ext cx="63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ermitting of Telecommunications Facilities Can be Probl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99120" y="55767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Frequency Planning for TDD Systems vs FD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3360" y="595800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and Base and RF Planning Software for Link Evaluation &amp;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– Initial San Angelo, Tx RF Cover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447920" y="1828800"/>
          <a:ext cx="6781680" cy="409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6781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2280" y="190512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tarted With a 3 Base Station Deployment In San Angelo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ase Station Deployment In Goldthwai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5160" y="2819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Redeployed Using Ensemble Communication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94080" y="321480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Currently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ase Stations Deployed in San Angelo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ectors Using both A and B Ban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ly 52 Customers and 45 CPE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Voice (Limited) Services Provided an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ards Video Service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93000" y="496728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Allowed us to go into San Angelo, a town of 100,000 peo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ery efficiently deploy facilities without overbuilding, and 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service area and create additional revenue streams as a fu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C offering advanced broad band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94440" y="205740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Evaluation System in Goldthwaite and Under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0480" y="4343400"/>
            <a:ext cx="706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If it works as anticipated, and as we expect, the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local loop will allow us to deliver broad band service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across our Cooperative area and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.  It will also allow us to cost efficiently expand our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age areas into the surrounding rural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4080" y="30621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8 Test CPE with Services Being Provided Up To 25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4440" y="342756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Test Customer Installations Providing 2-Way Data and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 Using the Same Antenna.  (Replace the receiver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eiver and add a data mod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9120" y="266688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Using MDS I for Upstream and MMDS E1 for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94440" y="2330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up to 3 and 5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6960" y="272556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Generally Proprietary Equipment Based Upon ATM and DOC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97680" y="3335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Developing Towards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96240" y="41148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449568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Not Generally Subject to Multipath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4800" y="48769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Greater Compared to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2280" y="3716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ell (TDM via Circuit Emulation) and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95520" y="23302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25 to 30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880" y="272556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Both Standards Based and Proprietary Solu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7680" y="310680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Up To 3 Mbps on Standards Based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95880" y="385452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Relatively Unaffected by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93000" y="42354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 (or Near Line of S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4616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Subject to Multipath Interference (or Challe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4800" y="499752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Lower Compared to L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98400" y="34876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Experiences To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94080" y="190512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From Wireless TV Start-Up and Operation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Learning Curve for the 2-Way WL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art-up Issues/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60" y="28195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During First LMDS Deployment Has Been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eficial to Ascertaining Technology and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1920" y="365616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nterconnection Agreement Negotiations Were Initially Tedio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y; Today Favorable Agreements Exist That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ed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1920" y="449424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Zoning and Permitting of Telecommunications Facilities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4440" y="51055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ct the MMDS and LMDS WLL Technologies Will Pl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ole in Enabling Advanced and Broad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munications, and Expanding Our Service Are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nue Options in a Cost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96240" y="213372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and CTC - Very Excited About the Economic and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ies the MMDS and LMDS WLL Technologie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for our Organiz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0480" y="304812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be an Important Asset Signif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rviving Forthcoming Regulatory Requirements and 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ly Competit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0840" y="3960720"/>
            <a:ext cx="66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 by Alleviating the Need to Rock Saw for Pl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in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480" y="4876920"/>
            <a:ext cx="64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rove to be a Cost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echnically Capable Broadband Altern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97320" y="2286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unded in 1951 in Goldthwaite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040" y="2743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3,302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600" y="3200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17 Telephone Exchanges with DSL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ll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242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Approximately 7,600 Acc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6600" y="473868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ember of the Texas Lone Star Fib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4440" y="51958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Unregulated Services Through Central Texa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29588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Distance Learning by Connecting 12 Rural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6600" y="228600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rmed in 1993 to Provide Wireless TV Services Using MDS &amp;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8400" y="27432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47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7680" y="320040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3 Super Cells with Analog Hea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95520" y="365760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Video Broadcast Services to Approximately 3,000 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7680" y="4129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Long Distance to CTTC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9120" y="45864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perates an ISP Business Since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8040" y="5027760"/>
            <a:ext cx="60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rticipated in the 1997/1998 LMDS Auction and Ac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&amp; B Spectrum Blocks in 2 Basic Trad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ing 19 County Area Consisting of 212,000 p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and CTC Coverage Are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57" name="Texas%20LMDS_MMDS_ILEC%20Larry3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3244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egacy Narrow Band Net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2" name="Circuit%20Network%20No%20Title" descr=""/>
          <p:cNvPicPr/>
          <p:nvPr/>
        </p:nvPicPr>
        <p:blipFill>
          <a:blip r:embed="rId4"/>
          <a:stretch/>
        </p:blipFill>
        <p:spPr>
          <a:xfrm>
            <a:off x="205740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Fixed Wireless (LMDS) and ATM Network Overl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ATM%20Overlay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6095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otivations for Wireless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93360" y="22860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Services a High Cost Area - Alternative to Bulldoz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k S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9120" y="3519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xpand Serv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400" y="39146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New Reven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4440" y="4295880"/>
            <a:ext cx="60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Enhanced Services to ou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 B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Effective Packet Based Enabli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Voice Services (Vo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2640" y="289548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C - Cost Efficient Local Loop Enabling Facilities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ervices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Market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92640" y="198108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2-Way M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Radius of Coverage Area Suitable for Spar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Base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3 Mbps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ly Low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Residential, SOHO, and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3360" y="4005360"/>
            <a:ext cx="66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Radius of Coverage Area Suitable for Den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ATM and Packet Based System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ly High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Small Through Very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&amp; LMDS - Getting Star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96600" y="190512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Use Spectrum We’ve Secured Over th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93720" y="393048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dentified Requirements and Issued a Detailed Request for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lected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5520" y="26812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Leveraging Existing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 Network Into Surrounding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 of Mobile Wireless Affil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TV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7680" y="4586400"/>
            <a:ext cx="55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elected Vendors and Deployed Evalu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/Alc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com Communications and 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2286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Perform Preliminary Network RF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8:19:14Z</dcterms:created>
  <dc:creator>Mike Connely</dc:creator>
  <dc:description/>
  <dc:language>en-US</dc:language>
  <cp:lastModifiedBy>LarryP</cp:lastModifiedBy>
  <cp:lastPrinted>2001-12-18T15:54:35Z</cp:lastPrinted>
  <dcterms:modified xsi:type="dcterms:W3CDTF">2002-02-06T21:23:23Z</dcterms:modified>
  <cp:revision>77</cp:revision>
  <dc:subject/>
  <dc:title>No Slide Title</dc:title>
</cp:coreProperties>
</file>