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790015"/>
                </a:gs>
                <a:gs pos="100000">
                  <a:srgbClr val="60001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90600" y="324000"/>
              <a:ext cx="8367480" cy="6173640"/>
              <a:chOff x="390600" y="324000"/>
              <a:chExt cx="8367480" cy="6173640"/>
            </a:xfrm>
          </p:grpSpPr>
          <p:sp>
            <p:nvSpPr>
              <p:cNvPr id="3" name=""/>
              <p:cNvSpPr/>
              <p:nvPr/>
            </p:nvSpPr>
            <p:spPr>
              <a:xfrm>
                <a:off x="466560" y="361800"/>
                <a:ext cx="8282160" cy="6112080"/>
              </a:xfrm>
              <a:prstGeom prst="rect">
                <a:avLst/>
              </a:prstGeom>
              <a:solidFill>
                <a:srgbClr val="535353"/>
              </a:solidFill>
              <a:ln w="0">
                <a:noFill/>
              </a:ln>
              <a:effectLst>
                <a:outerShdw dist="19753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765680" y="600120"/>
                <a:ext cx="2239920" cy="5460840"/>
              </a:xfrm>
              <a:custGeom>
                <a:avLst/>
                <a:gdLst/>
                <a:ahLst/>
                <a:rect l="l" t="t" r="r" b="b"/>
                <a:pathLst>
                  <a:path w="1411" h="3440">
                    <a:moveTo>
                      <a:pt x="0" y="0"/>
                    </a:moveTo>
                    <a:lnTo>
                      <a:pt x="50" y="22"/>
                    </a:lnTo>
                    <a:lnTo>
                      <a:pt x="91" y="33"/>
                    </a:lnTo>
                    <a:lnTo>
                      <a:pt x="131" y="22"/>
                    </a:lnTo>
                    <a:lnTo>
                      <a:pt x="171" y="54"/>
                    </a:lnTo>
                    <a:lnTo>
                      <a:pt x="212" y="76"/>
                    </a:lnTo>
                    <a:lnTo>
                      <a:pt x="252" y="98"/>
                    </a:lnTo>
                    <a:lnTo>
                      <a:pt x="292" y="141"/>
                    </a:lnTo>
                    <a:lnTo>
                      <a:pt x="332" y="174"/>
                    </a:lnTo>
                    <a:lnTo>
                      <a:pt x="342" y="218"/>
                    </a:lnTo>
                    <a:lnTo>
                      <a:pt x="342" y="261"/>
                    </a:lnTo>
                    <a:lnTo>
                      <a:pt x="383" y="305"/>
                    </a:lnTo>
                    <a:lnTo>
                      <a:pt x="413" y="348"/>
                    </a:lnTo>
                    <a:lnTo>
                      <a:pt x="413" y="403"/>
                    </a:lnTo>
                    <a:lnTo>
                      <a:pt x="443" y="446"/>
                    </a:lnTo>
                    <a:lnTo>
                      <a:pt x="463" y="490"/>
                    </a:lnTo>
                    <a:lnTo>
                      <a:pt x="453" y="577"/>
                    </a:lnTo>
                    <a:lnTo>
                      <a:pt x="453" y="620"/>
                    </a:lnTo>
                    <a:lnTo>
                      <a:pt x="473" y="664"/>
                    </a:lnTo>
                    <a:lnTo>
                      <a:pt x="483" y="707"/>
                    </a:lnTo>
                    <a:lnTo>
                      <a:pt x="494" y="751"/>
                    </a:lnTo>
                    <a:lnTo>
                      <a:pt x="494" y="794"/>
                    </a:lnTo>
                    <a:lnTo>
                      <a:pt x="494" y="838"/>
                    </a:lnTo>
                    <a:lnTo>
                      <a:pt x="494" y="882"/>
                    </a:lnTo>
                    <a:lnTo>
                      <a:pt x="494" y="925"/>
                    </a:lnTo>
                    <a:lnTo>
                      <a:pt x="504" y="969"/>
                    </a:lnTo>
                    <a:lnTo>
                      <a:pt x="483" y="1012"/>
                    </a:lnTo>
                    <a:lnTo>
                      <a:pt x="473" y="1056"/>
                    </a:lnTo>
                    <a:lnTo>
                      <a:pt x="473" y="1099"/>
                    </a:lnTo>
                    <a:lnTo>
                      <a:pt x="473" y="1143"/>
                    </a:lnTo>
                    <a:lnTo>
                      <a:pt x="483" y="1186"/>
                    </a:lnTo>
                    <a:lnTo>
                      <a:pt x="483" y="1230"/>
                    </a:lnTo>
                    <a:lnTo>
                      <a:pt x="463" y="1284"/>
                    </a:lnTo>
                    <a:lnTo>
                      <a:pt x="453" y="1328"/>
                    </a:lnTo>
                    <a:lnTo>
                      <a:pt x="453" y="1382"/>
                    </a:lnTo>
                    <a:lnTo>
                      <a:pt x="433" y="1426"/>
                    </a:lnTo>
                    <a:lnTo>
                      <a:pt x="403" y="1469"/>
                    </a:lnTo>
                    <a:lnTo>
                      <a:pt x="383" y="1513"/>
                    </a:lnTo>
                    <a:lnTo>
                      <a:pt x="383" y="1556"/>
                    </a:lnTo>
                    <a:lnTo>
                      <a:pt x="383" y="1600"/>
                    </a:lnTo>
                    <a:lnTo>
                      <a:pt x="363" y="1643"/>
                    </a:lnTo>
                    <a:lnTo>
                      <a:pt x="353" y="1687"/>
                    </a:lnTo>
                    <a:lnTo>
                      <a:pt x="363" y="1730"/>
                    </a:lnTo>
                    <a:lnTo>
                      <a:pt x="383" y="1785"/>
                    </a:lnTo>
                    <a:lnTo>
                      <a:pt x="443" y="1796"/>
                    </a:lnTo>
                    <a:lnTo>
                      <a:pt x="463" y="1850"/>
                    </a:lnTo>
                    <a:lnTo>
                      <a:pt x="483" y="1894"/>
                    </a:lnTo>
                    <a:lnTo>
                      <a:pt x="494" y="1937"/>
                    </a:lnTo>
                    <a:lnTo>
                      <a:pt x="494" y="1981"/>
                    </a:lnTo>
                    <a:lnTo>
                      <a:pt x="524" y="2024"/>
                    </a:lnTo>
                    <a:lnTo>
                      <a:pt x="524" y="2068"/>
                    </a:lnTo>
                    <a:lnTo>
                      <a:pt x="544" y="2122"/>
                    </a:lnTo>
                    <a:lnTo>
                      <a:pt x="584" y="2155"/>
                    </a:lnTo>
                    <a:lnTo>
                      <a:pt x="614" y="2198"/>
                    </a:lnTo>
                    <a:lnTo>
                      <a:pt x="624" y="2275"/>
                    </a:lnTo>
                    <a:lnTo>
                      <a:pt x="685" y="2285"/>
                    </a:lnTo>
                    <a:lnTo>
                      <a:pt x="705" y="2351"/>
                    </a:lnTo>
                    <a:lnTo>
                      <a:pt x="745" y="2394"/>
                    </a:lnTo>
                    <a:lnTo>
                      <a:pt x="786" y="2438"/>
                    </a:lnTo>
                    <a:lnTo>
                      <a:pt x="836" y="2470"/>
                    </a:lnTo>
                    <a:lnTo>
                      <a:pt x="876" y="2514"/>
                    </a:lnTo>
                    <a:lnTo>
                      <a:pt x="896" y="2568"/>
                    </a:lnTo>
                    <a:lnTo>
                      <a:pt x="947" y="2612"/>
                    </a:lnTo>
                    <a:lnTo>
                      <a:pt x="997" y="2634"/>
                    </a:lnTo>
                    <a:lnTo>
                      <a:pt x="1027" y="2677"/>
                    </a:lnTo>
                    <a:lnTo>
                      <a:pt x="1078" y="2721"/>
                    </a:lnTo>
                    <a:lnTo>
                      <a:pt x="1108" y="2764"/>
                    </a:lnTo>
                    <a:lnTo>
                      <a:pt x="1128" y="2808"/>
                    </a:lnTo>
                    <a:lnTo>
                      <a:pt x="1158" y="2851"/>
                    </a:lnTo>
                    <a:lnTo>
                      <a:pt x="1188" y="2906"/>
                    </a:lnTo>
                    <a:lnTo>
                      <a:pt x="1229" y="2949"/>
                    </a:lnTo>
                    <a:lnTo>
                      <a:pt x="1269" y="3004"/>
                    </a:lnTo>
                    <a:lnTo>
                      <a:pt x="1279" y="3058"/>
                    </a:lnTo>
                    <a:lnTo>
                      <a:pt x="1289" y="3113"/>
                    </a:lnTo>
                    <a:lnTo>
                      <a:pt x="1319" y="3156"/>
                    </a:lnTo>
                    <a:lnTo>
                      <a:pt x="1350" y="3210"/>
                    </a:lnTo>
                    <a:lnTo>
                      <a:pt x="1360" y="3265"/>
                    </a:lnTo>
                    <a:lnTo>
                      <a:pt x="1370" y="3308"/>
                    </a:lnTo>
                    <a:lnTo>
                      <a:pt x="1390" y="3352"/>
                    </a:lnTo>
                    <a:lnTo>
                      <a:pt x="1400" y="3395"/>
                    </a:lnTo>
                    <a:lnTo>
                      <a:pt x="1400" y="3439"/>
                    </a:lnTo>
                    <a:lnTo>
                      <a:pt x="1400" y="3319"/>
                    </a:lnTo>
                    <a:lnTo>
                      <a:pt x="1410" y="3232"/>
                    </a:lnTo>
                    <a:lnTo>
                      <a:pt x="1410" y="3145"/>
                    </a:lnTo>
                    <a:lnTo>
                      <a:pt x="1410" y="3102"/>
                    </a:lnTo>
                    <a:lnTo>
                      <a:pt x="1380" y="3058"/>
                    </a:lnTo>
                    <a:lnTo>
                      <a:pt x="1340" y="3058"/>
                    </a:lnTo>
                    <a:lnTo>
                      <a:pt x="1309" y="2982"/>
                    </a:lnTo>
                    <a:lnTo>
                      <a:pt x="1299" y="2938"/>
                    </a:lnTo>
                    <a:lnTo>
                      <a:pt x="1259" y="2862"/>
                    </a:lnTo>
                    <a:lnTo>
                      <a:pt x="1239" y="2819"/>
                    </a:lnTo>
                    <a:lnTo>
                      <a:pt x="1178" y="2753"/>
                    </a:lnTo>
                    <a:lnTo>
                      <a:pt x="1098" y="2721"/>
                    </a:lnTo>
                    <a:lnTo>
                      <a:pt x="1037" y="2721"/>
                    </a:lnTo>
                    <a:lnTo>
                      <a:pt x="1007" y="2579"/>
                    </a:lnTo>
                    <a:lnTo>
                      <a:pt x="997" y="2514"/>
                    </a:lnTo>
                    <a:lnTo>
                      <a:pt x="967" y="2470"/>
                    </a:lnTo>
                    <a:lnTo>
                      <a:pt x="886" y="2460"/>
                    </a:lnTo>
                    <a:lnTo>
                      <a:pt x="806" y="2449"/>
                    </a:lnTo>
                    <a:lnTo>
                      <a:pt x="765" y="2438"/>
                    </a:lnTo>
                    <a:lnTo>
                      <a:pt x="755" y="2351"/>
                    </a:lnTo>
                    <a:lnTo>
                      <a:pt x="735" y="2307"/>
                    </a:lnTo>
                    <a:lnTo>
                      <a:pt x="715" y="2253"/>
                    </a:lnTo>
                    <a:lnTo>
                      <a:pt x="675" y="2209"/>
                    </a:lnTo>
                    <a:lnTo>
                      <a:pt x="635" y="2187"/>
                    </a:lnTo>
                    <a:lnTo>
                      <a:pt x="554" y="2100"/>
                    </a:lnTo>
                    <a:lnTo>
                      <a:pt x="534" y="2057"/>
                    </a:lnTo>
                    <a:lnTo>
                      <a:pt x="534" y="1959"/>
                    </a:lnTo>
                    <a:lnTo>
                      <a:pt x="524" y="1894"/>
                    </a:lnTo>
                    <a:lnTo>
                      <a:pt x="494" y="1839"/>
                    </a:lnTo>
                    <a:lnTo>
                      <a:pt x="443" y="1785"/>
                    </a:lnTo>
                    <a:lnTo>
                      <a:pt x="413" y="1741"/>
                    </a:lnTo>
                    <a:lnTo>
                      <a:pt x="393" y="1687"/>
                    </a:lnTo>
                    <a:lnTo>
                      <a:pt x="403" y="1632"/>
                    </a:lnTo>
                    <a:lnTo>
                      <a:pt x="403" y="1589"/>
                    </a:lnTo>
                    <a:lnTo>
                      <a:pt x="413" y="1545"/>
                    </a:lnTo>
                    <a:lnTo>
                      <a:pt x="433" y="1491"/>
                    </a:lnTo>
                    <a:lnTo>
                      <a:pt x="433" y="1447"/>
                    </a:lnTo>
                    <a:lnTo>
                      <a:pt x="463" y="1393"/>
                    </a:lnTo>
                    <a:lnTo>
                      <a:pt x="483" y="1349"/>
                    </a:lnTo>
                    <a:lnTo>
                      <a:pt x="494" y="1295"/>
                    </a:lnTo>
                    <a:lnTo>
                      <a:pt x="494" y="1252"/>
                    </a:lnTo>
                    <a:lnTo>
                      <a:pt x="483" y="1208"/>
                    </a:lnTo>
                    <a:lnTo>
                      <a:pt x="494" y="1164"/>
                    </a:lnTo>
                    <a:lnTo>
                      <a:pt x="524" y="1067"/>
                    </a:lnTo>
                    <a:lnTo>
                      <a:pt x="524" y="1023"/>
                    </a:lnTo>
                    <a:lnTo>
                      <a:pt x="524" y="936"/>
                    </a:lnTo>
                    <a:lnTo>
                      <a:pt x="524" y="871"/>
                    </a:lnTo>
                    <a:lnTo>
                      <a:pt x="514" y="805"/>
                    </a:lnTo>
                    <a:lnTo>
                      <a:pt x="524" y="762"/>
                    </a:lnTo>
                    <a:lnTo>
                      <a:pt x="544" y="707"/>
                    </a:lnTo>
                    <a:lnTo>
                      <a:pt x="534" y="642"/>
                    </a:lnTo>
                    <a:lnTo>
                      <a:pt x="524" y="599"/>
                    </a:lnTo>
                    <a:lnTo>
                      <a:pt x="514" y="555"/>
                    </a:lnTo>
                    <a:lnTo>
                      <a:pt x="554" y="522"/>
                    </a:lnTo>
                    <a:lnTo>
                      <a:pt x="584" y="479"/>
                    </a:lnTo>
                    <a:lnTo>
                      <a:pt x="594" y="435"/>
                    </a:lnTo>
                    <a:lnTo>
                      <a:pt x="665" y="392"/>
                    </a:lnTo>
                    <a:lnTo>
                      <a:pt x="725" y="305"/>
                    </a:lnTo>
                    <a:lnTo>
                      <a:pt x="786" y="239"/>
                    </a:lnTo>
                    <a:lnTo>
                      <a:pt x="826" y="218"/>
                    </a:lnTo>
                    <a:lnTo>
                      <a:pt x="856" y="174"/>
                    </a:lnTo>
                    <a:lnTo>
                      <a:pt x="856" y="131"/>
                    </a:lnTo>
                    <a:lnTo>
                      <a:pt x="876" y="76"/>
                    </a:lnTo>
                    <a:lnTo>
                      <a:pt x="917" y="44"/>
                    </a:lnTo>
                    <a:lnTo>
                      <a:pt x="957" y="0"/>
                    </a:lnTo>
                    <a:lnTo>
                      <a:pt x="917" y="11"/>
                    </a:lnTo>
                    <a:lnTo>
                      <a:pt x="856" y="22"/>
                    </a:lnTo>
                    <a:lnTo>
                      <a:pt x="796" y="44"/>
                    </a:lnTo>
                    <a:lnTo>
                      <a:pt x="765" y="87"/>
                    </a:lnTo>
                    <a:lnTo>
                      <a:pt x="776" y="131"/>
                    </a:lnTo>
                    <a:lnTo>
                      <a:pt x="755" y="174"/>
                    </a:lnTo>
                    <a:lnTo>
                      <a:pt x="755" y="218"/>
                    </a:lnTo>
                    <a:lnTo>
                      <a:pt x="826" y="229"/>
                    </a:lnTo>
                    <a:lnTo>
                      <a:pt x="786" y="272"/>
                    </a:lnTo>
                    <a:lnTo>
                      <a:pt x="745" y="305"/>
                    </a:lnTo>
                    <a:lnTo>
                      <a:pt x="705" y="348"/>
                    </a:lnTo>
                    <a:lnTo>
                      <a:pt x="665" y="424"/>
                    </a:lnTo>
                    <a:lnTo>
                      <a:pt x="624" y="435"/>
                    </a:lnTo>
                    <a:lnTo>
                      <a:pt x="584" y="468"/>
                    </a:lnTo>
                    <a:lnTo>
                      <a:pt x="544" y="479"/>
                    </a:lnTo>
                    <a:lnTo>
                      <a:pt x="534" y="522"/>
                    </a:lnTo>
                    <a:lnTo>
                      <a:pt x="534" y="566"/>
                    </a:lnTo>
                    <a:lnTo>
                      <a:pt x="494" y="620"/>
                    </a:lnTo>
                    <a:lnTo>
                      <a:pt x="483" y="664"/>
                    </a:lnTo>
                    <a:lnTo>
                      <a:pt x="483" y="707"/>
                    </a:lnTo>
                    <a:lnTo>
                      <a:pt x="483" y="620"/>
                    </a:lnTo>
                    <a:lnTo>
                      <a:pt x="473" y="511"/>
                    </a:lnTo>
                    <a:lnTo>
                      <a:pt x="463" y="446"/>
                    </a:lnTo>
                    <a:lnTo>
                      <a:pt x="453" y="403"/>
                    </a:lnTo>
                    <a:lnTo>
                      <a:pt x="443" y="348"/>
                    </a:lnTo>
                    <a:lnTo>
                      <a:pt x="413" y="305"/>
                    </a:lnTo>
                    <a:lnTo>
                      <a:pt x="383" y="261"/>
                    </a:lnTo>
                    <a:lnTo>
                      <a:pt x="383" y="218"/>
                    </a:lnTo>
                    <a:lnTo>
                      <a:pt x="353" y="174"/>
                    </a:lnTo>
                    <a:lnTo>
                      <a:pt x="312" y="141"/>
                    </a:lnTo>
                    <a:lnTo>
                      <a:pt x="302" y="98"/>
                    </a:lnTo>
                    <a:lnTo>
                      <a:pt x="262" y="76"/>
                    </a:lnTo>
                    <a:lnTo>
                      <a:pt x="222" y="76"/>
                    </a:lnTo>
                    <a:lnTo>
                      <a:pt x="181" y="33"/>
                    </a:lnTo>
                    <a:lnTo>
                      <a:pt x="141" y="11"/>
                    </a:lnTo>
                    <a:lnTo>
                      <a:pt x="101" y="0"/>
                    </a:lnTo>
                    <a:lnTo>
                      <a:pt x="60" y="11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28720" y="5421240"/>
                <a:ext cx="3119400" cy="777960"/>
              </a:xfrm>
              <a:custGeom>
                <a:avLst/>
                <a:gdLst/>
                <a:ahLst/>
                <a:rect l="l" t="t" r="r" b="b"/>
                <a:pathLst>
                  <a:path w="1965" h="490">
                    <a:moveTo>
                      <a:pt x="0" y="0"/>
                    </a:moveTo>
                    <a:lnTo>
                      <a:pt x="40" y="43"/>
                    </a:lnTo>
                    <a:lnTo>
                      <a:pt x="81" y="65"/>
                    </a:lnTo>
                    <a:lnTo>
                      <a:pt x="141" y="65"/>
                    </a:lnTo>
                    <a:lnTo>
                      <a:pt x="181" y="76"/>
                    </a:lnTo>
                    <a:lnTo>
                      <a:pt x="232" y="76"/>
                    </a:lnTo>
                    <a:lnTo>
                      <a:pt x="272" y="109"/>
                    </a:lnTo>
                    <a:lnTo>
                      <a:pt x="363" y="130"/>
                    </a:lnTo>
                    <a:lnTo>
                      <a:pt x="443" y="130"/>
                    </a:lnTo>
                    <a:lnTo>
                      <a:pt x="504" y="130"/>
                    </a:lnTo>
                    <a:lnTo>
                      <a:pt x="544" y="130"/>
                    </a:lnTo>
                    <a:lnTo>
                      <a:pt x="604" y="141"/>
                    </a:lnTo>
                    <a:lnTo>
                      <a:pt x="665" y="152"/>
                    </a:lnTo>
                    <a:lnTo>
                      <a:pt x="705" y="196"/>
                    </a:lnTo>
                    <a:lnTo>
                      <a:pt x="725" y="239"/>
                    </a:lnTo>
                    <a:lnTo>
                      <a:pt x="765" y="250"/>
                    </a:lnTo>
                    <a:lnTo>
                      <a:pt x="816" y="250"/>
                    </a:lnTo>
                    <a:lnTo>
                      <a:pt x="906" y="261"/>
                    </a:lnTo>
                    <a:lnTo>
                      <a:pt x="967" y="250"/>
                    </a:lnTo>
                    <a:lnTo>
                      <a:pt x="1007" y="261"/>
                    </a:lnTo>
                    <a:lnTo>
                      <a:pt x="1068" y="261"/>
                    </a:lnTo>
                    <a:lnTo>
                      <a:pt x="1148" y="250"/>
                    </a:lnTo>
                    <a:lnTo>
                      <a:pt x="1188" y="261"/>
                    </a:lnTo>
                    <a:lnTo>
                      <a:pt x="1219" y="304"/>
                    </a:lnTo>
                    <a:lnTo>
                      <a:pt x="1259" y="326"/>
                    </a:lnTo>
                    <a:lnTo>
                      <a:pt x="1299" y="315"/>
                    </a:lnTo>
                    <a:lnTo>
                      <a:pt x="1340" y="348"/>
                    </a:lnTo>
                    <a:lnTo>
                      <a:pt x="1380" y="380"/>
                    </a:lnTo>
                    <a:lnTo>
                      <a:pt x="1420" y="402"/>
                    </a:lnTo>
                    <a:lnTo>
                      <a:pt x="1460" y="424"/>
                    </a:lnTo>
                    <a:lnTo>
                      <a:pt x="1501" y="446"/>
                    </a:lnTo>
                    <a:lnTo>
                      <a:pt x="1541" y="446"/>
                    </a:lnTo>
                    <a:lnTo>
                      <a:pt x="1622" y="446"/>
                    </a:lnTo>
                    <a:lnTo>
                      <a:pt x="1662" y="446"/>
                    </a:lnTo>
                    <a:lnTo>
                      <a:pt x="1712" y="456"/>
                    </a:lnTo>
                    <a:lnTo>
                      <a:pt x="1752" y="456"/>
                    </a:lnTo>
                    <a:lnTo>
                      <a:pt x="1843" y="456"/>
                    </a:lnTo>
                    <a:lnTo>
                      <a:pt x="1883" y="467"/>
                    </a:lnTo>
                    <a:lnTo>
                      <a:pt x="1924" y="489"/>
                    </a:lnTo>
                    <a:lnTo>
                      <a:pt x="1964" y="489"/>
                    </a:lnTo>
                    <a:lnTo>
                      <a:pt x="1914" y="467"/>
                    </a:lnTo>
                    <a:lnTo>
                      <a:pt x="1863" y="467"/>
                    </a:lnTo>
                    <a:lnTo>
                      <a:pt x="1823" y="446"/>
                    </a:lnTo>
                    <a:lnTo>
                      <a:pt x="1783" y="446"/>
                    </a:lnTo>
                    <a:lnTo>
                      <a:pt x="1742" y="446"/>
                    </a:lnTo>
                    <a:lnTo>
                      <a:pt x="1692" y="446"/>
                    </a:lnTo>
                    <a:lnTo>
                      <a:pt x="1652" y="413"/>
                    </a:lnTo>
                    <a:lnTo>
                      <a:pt x="1611" y="402"/>
                    </a:lnTo>
                    <a:lnTo>
                      <a:pt x="1571" y="402"/>
                    </a:lnTo>
                    <a:lnTo>
                      <a:pt x="1531" y="413"/>
                    </a:lnTo>
                    <a:lnTo>
                      <a:pt x="1491" y="402"/>
                    </a:lnTo>
                    <a:lnTo>
                      <a:pt x="1450" y="369"/>
                    </a:lnTo>
                    <a:lnTo>
                      <a:pt x="1410" y="348"/>
                    </a:lnTo>
                    <a:lnTo>
                      <a:pt x="1370" y="348"/>
                    </a:lnTo>
                    <a:lnTo>
                      <a:pt x="1329" y="304"/>
                    </a:lnTo>
                    <a:lnTo>
                      <a:pt x="1289" y="272"/>
                    </a:lnTo>
                    <a:lnTo>
                      <a:pt x="1249" y="261"/>
                    </a:lnTo>
                    <a:lnTo>
                      <a:pt x="1209" y="283"/>
                    </a:lnTo>
                    <a:lnTo>
                      <a:pt x="1128" y="196"/>
                    </a:lnTo>
                    <a:lnTo>
                      <a:pt x="1047" y="130"/>
                    </a:lnTo>
                    <a:lnTo>
                      <a:pt x="1007" y="120"/>
                    </a:lnTo>
                    <a:lnTo>
                      <a:pt x="927" y="130"/>
                    </a:lnTo>
                    <a:lnTo>
                      <a:pt x="917" y="185"/>
                    </a:lnTo>
                    <a:lnTo>
                      <a:pt x="886" y="228"/>
                    </a:lnTo>
                    <a:lnTo>
                      <a:pt x="846" y="239"/>
                    </a:lnTo>
                    <a:lnTo>
                      <a:pt x="806" y="228"/>
                    </a:lnTo>
                    <a:lnTo>
                      <a:pt x="765" y="206"/>
                    </a:lnTo>
                    <a:lnTo>
                      <a:pt x="725" y="196"/>
                    </a:lnTo>
                    <a:lnTo>
                      <a:pt x="675" y="152"/>
                    </a:lnTo>
                    <a:lnTo>
                      <a:pt x="624" y="152"/>
                    </a:lnTo>
                    <a:lnTo>
                      <a:pt x="584" y="141"/>
                    </a:lnTo>
                    <a:lnTo>
                      <a:pt x="544" y="109"/>
                    </a:lnTo>
                    <a:lnTo>
                      <a:pt x="483" y="109"/>
                    </a:lnTo>
                    <a:lnTo>
                      <a:pt x="443" y="109"/>
                    </a:lnTo>
                    <a:lnTo>
                      <a:pt x="403" y="109"/>
                    </a:lnTo>
                    <a:lnTo>
                      <a:pt x="353" y="76"/>
                    </a:lnTo>
                    <a:lnTo>
                      <a:pt x="312" y="65"/>
                    </a:lnTo>
                    <a:lnTo>
                      <a:pt x="262" y="87"/>
                    </a:lnTo>
                    <a:lnTo>
                      <a:pt x="222" y="87"/>
                    </a:lnTo>
                    <a:lnTo>
                      <a:pt x="181" y="43"/>
                    </a:lnTo>
                    <a:lnTo>
                      <a:pt x="141" y="33"/>
                    </a:lnTo>
                    <a:lnTo>
                      <a:pt x="101" y="33"/>
                    </a:lnTo>
                    <a:lnTo>
                      <a:pt x="60" y="43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959520" y="633240"/>
                <a:ext cx="1654200" cy="2800440"/>
              </a:xfrm>
              <a:custGeom>
                <a:avLst/>
                <a:gdLst/>
                <a:ahLst/>
                <a:rect l="l" t="t" r="r" b="b"/>
                <a:pathLst>
                  <a:path w="1042" h="1764">
                    <a:moveTo>
                      <a:pt x="1038" y="0"/>
                    </a:moveTo>
                    <a:lnTo>
                      <a:pt x="977" y="76"/>
                    </a:lnTo>
                    <a:lnTo>
                      <a:pt x="937" y="109"/>
                    </a:lnTo>
                    <a:lnTo>
                      <a:pt x="907" y="152"/>
                    </a:lnTo>
                    <a:lnTo>
                      <a:pt x="866" y="131"/>
                    </a:lnTo>
                    <a:lnTo>
                      <a:pt x="826" y="131"/>
                    </a:lnTo>
                    <a:lnTo>
                      <a:pt x="786" y="131"/>
                    </a:lnTo>
                    <a:lnTo>
                      <a:pt x="745" y="152"/>
                    </a:lnTo>
                    <a:lnTo>
                      <a:pt x="725" y="196"/>
                    </a:lnTo>
                    <a:lnTo>
                      <a:pt x="685" y="229"/>
                    </a:lnTo>
                    <a:lnTo>
                      <a:pt x="645" y="229"/>
                    </a:lnTo>
                    <a:lnTo>
                      <a:pt x="604" y="250"/>
                    </a:lnTo>
                    <a:lnTo>
                      <a:pt x="564" y="283"/>
                    </a:lnTo>
                    <a:lnTo>
                      <a:pt x="524" y="283"/>
                    </a:lnTo>
                    <a:lnTo>
                      <a:pt x="484" y="305"/>
                    </a:lnTo>
                    <a:lnTo>
                      <a:pt x="443" y="348"/>
                    </a:lnTo>
                    <a:lnTo>
                      <a:pt x="413" y="392"/>
                    </a:lnTo>
                    <a:lnTo>
                      <a:pt x="383" y="435"/>
                    </a:lnTo>
                    <a:lnTo>
                      <a:pt x="343" y="446"/>
                    </a:lnTo>
                    <a:lnTo>
                      <a:pt x="343" y="511"/>
                    </a:lnTo>
                    <a:lnTo>
                      <a:pt x="332" y="555"/>
                    </a:lnTo>
                    <a:lnTo>
                      <a:pt x="302" y="599"/>
                    </a:lnTo>
                    <a:lnTo>
                      <a:pt x="262" y="609"/>
                    </a:lnTo>
                    <a:lnTo>
                      <a:pt x="222" y="599"/>
                    </a:lnTo>
                    <a:lnTo>
                      <a:pt x="181" y="609"/>
                    </a:lnTo>
                    <a:lnTo>
                      <a:pt x="141" y="653"/>
                    </a:lnTo>
                    <a:lnTo>
                      <a:pt x="101" y="664"/>
                    </a:lnTo>
                    <a:lnTo>
                      <a:pt x="60" y="653"/>
                    </a:lnTo>
                    <a:lnTo>
                      <a:pt x="20" y="664"/>
                    </a:lnTo>
                    <a:lnTo>
                      <a:pt x="0" y="707"/>
                    </a:lnTo>
                    <a:lnTo>
                      <a:pt x="40" y="729"/>
                    </a:lnTo>
                    <a:lnTo>
                      <a:pt x="81" y="729"/>
                    </a:lnTo>
                    <a:lnTo>
                      <a:pt x="121" y="773"/>
                    </a:lnTo>
                    <a:lnTo>
                      <a:pt x="141" y="816"/>
                    </a:lnTo>
                    <a:lnTo>
                      <a:pt x="181" y="816"/>
                    </a:lnTo>
                    <a:lnTo>
                      <a:pt x="222" y="816"/>
                    </a:lnTo>
                    <a:lnTo>
                      <a:pt x="262" y="827"/>
                    </a:lnTo>
                    <a:lnTo>
                      <a:pt x="302" y="860"/>
                    </a:lnTo>
                    <a:lnTo>
                      <a:pt x="343" y="903"/>
                    </a:lnTo>
                    <a:lnTo>
                      <a:pt x="383" y="914"/>
                    </a:lnTo>
                    <a:lnTo>
                      <a:pt x="423" y="914"/>
                    </a:lnTo>
                    <a:lnTo>
                      <a:pt x="463" y="914"/>
                    </a:lnTo>
                    <a:lnTo>
                      <a:pt x="504" y="925"/>
                    </a:lnTo>
                    <a:lnTo>
                      <a:pt x="524" y="882"/>
                    </a:lnTo>
                    <a:lnTo>
                      <a:pt x="544" y="838"/>
                    </a:lnTo>
                    <a:lnTo>
                      <a:pt x="584" y="816"/>
                    </a:lnTo>
                    <a:lnTo>
                      <a:pt x="615" y="773"/>
                    </a:lnTo>
                    <a:lnTo>
                      <a:pt x="655" y="784"/>
                    </a:lnTo>
                    <a:lnTo>
                      <a:pt x="675" y="827"/>
                    </a:lnTo>
                    <a:lnTo>
                      <a:pt x="705" y="871"/>
                    </a:lnTo>
                    <a:lnTo>
                      <a:pt x="715" y="914"/>
                    </a:lnTo>
                    <a:lnTo>
                      <a:pt x="735" y="958"/>
                    </a:lnTo>
                    <a:lnTo>
                      <a:pt x="776" y="1045"/>
                    </a:lnTo>
                    <a:lnTo>
                      <a:pt x="796" y="1088"/>
                    </a:lnTo>
                    <a:lnTo>
                      <a:pt x="796" y="1132"/>
                    </a:lnTo>
                    <a:lnTo>
                      <a:pt x="846" y="1186"/>
                    </a:lnTo>
                    <a:lnTo>
                      <a:pt x="876" y="1230"/>
                    </a:lnTo>
                    <a:lnTo>
                      <a:pt x="876" y="1273"/>
                    </a:lnTo>
                    <a:lnTo>
                      <a:pt x="887" y="1317"/>
                    </a:lnTo>
                    <a:lnTo>
                      <a:pt x="907" y="1360"/>
                    </a:lnTo>
                    <a:lnTo>
                      <a:pt x="917" y="1404"/>
                    </a:lnTo>
                    <a:lnTo>
                      <a:pt x="917" y="1447"/>
                    </a:lnTo>
                    <a:lnTo>
                      <a:pt x="917" y="1491"/>
                    </a:lnTo>
                    <a:lnTo>
                      <a:pt x="957" y="1534"/>
                    </a:lnTo>
                    <a:lnTo>
                      <a:pt x="977" y="1578"/>
                    </a:lnTo>
                    <a:lnTo>
                      <a:pt x="977" y="1622"/>
                    </a:lnTo>
                    <a:lnTo>
                      <a:pt x="1017" y="1665"/>
                    </a:lnTo>
                    <a:lnTo>
                      <a:pt x="1017" y="1709"/>
                    </a:lnTo>
                    <a:lnTo>
                      <a:pt x="1038" y="1748"/>
                    </a:lnTo>
                    <a:lnTo>
                      <a:pt x="1041" y="1763"/>
                    </a:lnTo>
                    <a:lnTo>
                      <a:pt x="1038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7040" y="1946160"/>
                <a:ext cx="7750080" cy="2227320"/>
              </a:xfrm>
              <a:custGeom>
                <a:avLst/>
                <a:gdLst/>
                <a:ahLst/>
                <a:rect l="l" t="t" r="r" b="b"/>
                <a:pathLst>
                  <a:path w="4882" h="1403">
                    <a:moveTo>
                      <a:pt x="0" y="0"/>
                    </a:moveTo>
                    <a:lnTo>
                      <a:pt x="40" y="22"/>
                    </a:lnTo>
                    <a:lnTo>
                      <a:pt x="81" y="33"/>
                    </a:lnTo>
                    <a:lnTo>
                      <a:pt x="121" y="11"/>
                    </a:lnTo>
                    <a:lnTo>
                      <a:pt x="151" y="54"/>
                    </a:lnTo>
                    <a:lnTo>
                      <a:pt x="192" y="76"/>
                    </a:lnTo>
                    <a:lnTo>
                      <a:pt x="222" y="120"/>
                    </a:lnTo>
                    <a:lnTo>
                      <a:pt x="242" y="163"/>
                    </a:lnTo>
                    <a:lnTo>
                      <a:pt x="252" y="206"/>
                    </a:lnTo>
                    <a:lnTo>
                      <a:pt x="282" y="250"/>
                    </a:lnTo>
                    <a:lnTo>
                      <a:pt x="323" y="272"/>
                    </a:lnTo>
                    <a:lnTo>
                      <a:pt x="363" y="272"/>
                    </a:lnTo>
                    <a:lnTo>
                      <a:pt x="403" y="250"/>
                    </a:lnTo>
                    <a:lnTo>
                      <a:pt x="484" y="250"/>
                    </a:lnTo>
                    <a:lnTo>
                      <a:pt x="524" y="261"/>
                    </a:lnTo>
                    <a:lnTo>
                      <a:pt x="565" y="304"/>
                    </a:lnTo>
                    <a:lnTo>
                      <a:pt x="595" y="348"/>
                    </a:lnTo>
                    <a:lnTo>
                      <a:pt x="635" y="380"/>
                    </a:lnTo>
                    <a:lnTo>
                      <a:pt x="666" y="424"/>
                    </a:lnTo>
                    <a:lnTo>
                      <a:pt x="686" y="467"/>
                    </a:lnTo>
                    <a:lnTo>
                      <a:pt x="686" y="511"/>
                    </a:lnTo>
                    <a:lnTo>
                      <a:pt x="686" y="554"/>
                    </a:lnTo>
                    <a:lnTo>
                      <a:pt x="706" y="609"/>
                    </a:lnTo>
                    <a:lnTo>
                      <a:pt x="726" y="663"/>
                    </a:lnTo>
                    <a:lnTo>
                      <a:pt x="766" y="706"/>
                    </a:lnTo>
                    <a:lnTo>
                      <a:pt x="807" y="717"/>
                    </a:lnTo>
                    <a:lnTo>
                      <a:pt x="847" y="674"/>
                    </a:lnTo>
                    <a:lnTo>
                      <a:pt x="887" y="652"/>
                    </a:lnTo>
                    <a:lnTo>
                      <a:pt x="908" y="696"/>
                    </a:lnTo>
                    <a:lnTo>
                      <a:pt x="918" y="739"/>
                    </a:lnTo>
                    <a:lnTo>
                      <a:pt x="898" y="783"/>
                    </a:lnTo>
                    <a:lnTo>
                      <a:pt x="887" y="826"/>
                    </a:lnTo>
                    <a:lnTo>
                      <a:pt x="928" y="869"/>
                    </a:lnTo>
                    <a:lnTo>
                      <a:pt x="968" y="848"/>
                    </a:lnTo>
                    <a:lnTo>
                      <a:pt x="1008" y="815"/>
                    </a:lnTo>
                    <a:lnTo>
                      <a:pt x="1049" y="826"/>
                    </a:lnTo>
                    <a:lnTo>
                      <a:pt x="1089" y="848"/>
                    </a:lnTo>
                    <a:lnTo>
                      <a:pt x="1129" y="848"/>
                    </a:lnTo>
                    <a:lnTo>
                      <a:pt x="1170" y="859"/>
                    </a:lnTo>
                    <a:lnTo>
                      <a:pt x="1210" y="869"/>
                    </a:lnTo>
                    <a:lnTo>
                      <a:pt x="1220" y="826"/>
                    </a:lnTo>
                    <a:lnTo>
                      <a:pt x="1261" y="815"/>
                    </a:lnTo>
                    <a:lnTo>
                      <a:pt x="1301" y="826"/>
                    </a:lnTo>
                    <a:lnTo>
                      <a:pt x="1341" y="815"/>
                    </a:lnTo>
                    <a:lnTo>
                      <a:pt x="1331" y="772"/>
                    </a:lnTo>
                    <a:lnTo>
                      <a:pt x="1331" y="728"/>
                    </a:lnTo>
                    <a:lnTo>
                      <a:pt x="1372" y="696"/>
                    </a:lnTo>
                    <a:lnTo>
                      <a:pt x="1392" y="652"/>
                    </a:lnTo>
                    <a:lnTo>
                      <a:pt x="1382" y="609"/>
                    </a:lnTo>
                    <a:lnTo>
                      <a:pt x="1412" y="565"/>
                    </a:lnTo>
                    <a:lnTo>
                      <a:pt x="1412" y="522"/>
                    </a:lnTo>
                    <a:lnTo>
                      <a:pt x="1372" y="500"/>
                    </a:lnTo>
                    <a:lnTo>
                      <a:pt x="1331" y="446"/>
                    </a:lnTo>
                    <a:lnTo>
                      <a:pt x="1301" y="402"/>
                    </a:lnTo>
                    <a:lnTo>
                      <a:pt x="1291" y="359"/>
                    </a:lnTo>
                    <a:lnTo>
                      <a:pt x="1291" y="315"/>
                    </a:lnTo>
                    <a:lnTo>
                      <a:pt x="1301" y="272"/>
                    </a:lnTo>
                    <a:lnTo>
                      <a:pt x="1341" y="228"/>
                    </a:lnTo>
                    <a:lnTo>
                      <a:pt x="1372" y="185"/>
                    </a:lnTo>
                    <a:lnTo>
                      <a:pt x="1412" y="163"/>
                    </a:lnTo>
                    <a:lnTo>
                      <a:pt x="1442" y="206"/>
                    </a:lnTo>
                    <a:lnTo>
                      <a:pt x="1482" y="217"/>
                    </a:lnTo>
                    <a:lnTo>
                      <a:pt x="1523" y="206"/>
                    </a:lnTo>
                    <a:lnTo>
                      <a:pt x="1563" y="206"/>
                    </a:lnTo>
                    <a:lnTo>
                      <a:pt x="1603" y="206"/>
                    </a:lnTo>
                    <a:lnTo>
                      <a:pt x="1654" y="196"/>
                    </a:lnTo>
                    <a:lnTo>
                      <a:pt x="1694" y="185"/>
                    </a:lnTo>
                    <a:lnTo>
                      <a:pt x="1735" y="185"/>
                    </a:lnTo>
                    <a:lnTo>
                      <a:pt x="1775" y="206"/>
                    </a:lnTo>
                    <a:lnTo>
                      <a:pt x="1785" y="250"/>
                    </a:lnTo>
                    <a:lnTo>
                      <a:pt x="1825" y="250"/>
                    </a:lnTo>
                    <a:lnTo>
                      <a:pt x="1866" y="283"/>
                    </a:lnTo>
                    <a:lnTo>
                      <a:pt x="1906" y="315"/>
                    </a:lnTo>
                    <a:lnTo>
                      <a:pt x="1946" y="293"/>
                    </a:lnTo>
                    <a:lnTo>
                      <a:pt x="1967" y="250"/>
                    </a:lnTo>
                    <a:lnTo>
                      <a:pt x="1977" y="206"/>
                    </a:lnTo>
                    <a:lnTo>
                      <a:pt x="1997" y="163"/>
                    </a:lnTo>
                    <a:lnTo>
                      <a:pt x="2037" y="152"/>
                    </a:lnTo>
                    <a:lnTo>
                      <a:pt x="2047" y="196"/>
                    </a:lnTo>
                    <a:lnTo>
                      <a:pt x="2088" y="217"/>
                    </a:lnTo>
                    <a:lnTo>
                      <a:pt x="2128" y="217"/>
                    </a:lnTo>
                    <a:lnTo>
                      <a:pt x="2138" y="174"/>
                    </a:lnTo>
                    <a:lnTo>
                      <a:pt x="2138" y="130"/>
                    </a:lnTo>
                    <a:lnTo>
                      <a:pt x="2178" y="120"/>
                    </a:lnTo>
                    <a:lnTo>
                      <a:pt x="2219" y="120"/>
                    </a:lnTo>
                    <a:lnTo>
                      <a:pt x="2259" y="163"/>
                    </a:lnTo>
                    <a:lnTo>
                      <a:pt x="2299" y="196"/>
                    </a:lnTo>
                    <a:lnTo>
                      <a:pt x="2340" y="196"/>
                    </a:lnTo>
                    <a:lnTo>
                      <a:pt x="2380" y="217"/>
                    </a:lnTo>
                    <a:lnTo>
                      <a:pt x="2420" y="261"/>
                    </a:lnTo>
                    <a:lnTo>
                      <a:pt x="2451" y="304"/>
                    </a:lnTo>
                    <a:lnTo>
                      <a:pt x="2491" y="337"/>
                    </a:lnTo>
                    <a:lnTo>
                      <a:pt x="2531" y="348"/>
                    </a:lnTo>
                    <a:lnTo>
                      <a:pt x="2572" y="348"/>
                    </a:lnTo>
                    <a:lnTo>
                      <a:pt x="2612" y="348"/>
                    </a:lnTo>
                    <a:lnTo>
                      <a:pt x="2652" y="359"/>
                    </a:lnTo>
                    <a:lnTo>
                      <a:pt x="2693" y="370"/>
                    </a:lnTo>
                    <a:lnTo>
                      <a:pt x="2733" y="391"/>
                    </a:lnTo>
                    <a:lnTo>
                      <a:pt x="2773" y="435"/>
                    </a:lnTo>
                    <a:lnTo>
                      <a:pt x="2783" y="478"/>
                    </a:lnTo>
                    <a:lnTo>
                      <a:pt x="2804" y="522"/>
                    </a:lnTo>
                    <a:lnTo>
                      <a:pt x="2854" y="565"/>
                    </a:lnTo>
                    <a:lnTo>
                      <a:pt x="2894" y="576"/>
                    </a:lnTo>
                    <a:lnTo>
                      <a:pt x="2945" y="576"/>
                    </a:lnTo>
                    <a:lnTo>
                      <a:pt x="2985" y="576"/>
                    </a:lnTo>
                    <a:lnTo>
                      <a:pt x="3025" y="576"/>
                    </a:lnTo>
                    <a:lnTo>
                      <a:pt x="3066" y="576"/>
                    </a:lnTo>
                    <a:lnTo>
                      <a:pt x="3106" y="587"/>
                    </a:lnTo>
                    <a:lnTo>
                      <a:pt x="3146" y="609"/>
                    </a:lnTo>
                    <a:lnTo>
                      <a:pt x="3177" y="652"/>
                    </a:lnTo>
                    <a:lnTo>
                      <a:pt x="3217" y="685"/>
                    </a:lnTo>
                    <a:lnTo>
                      <a:pt x="3257" y="696"/>
                    </a:lnTo>
                    <a:lnTo>
                      <a:pt x="3298" y="728"/>
                    </a:lnTo>
                    <a:lnTo>
                      <a:pt x="3338" y="772"/>
                    </a:lnTo>
                    <a:lnTo>
                      <a:pt x="3378" y="772"/>
                    </a:lnTo>
                    <a:lnTo>
                      <a:pt x="3419" y="772"/>
                    </a:lnTo>
                    <a:lnTo>
                      <a:pt x="3469" y="761"/>
                    </a:lnTo>
                    <a:lnTo>
                      <a:pt x="3509" y="761"/>
                    </a:lnTo>
                    <a:lnTo>
                      <a:pt x="3540" y="717"/>
                    </a:lnTo>
                    <a:lnTo>
                      <a:pt x="3580" y="706"/>
                    </a:lnTo>
                    <a:lnTo>
                      <a:pt x="3620" y="706"/>
                    </a:lnTo>
                    <a:lnTo>
                      <a:pt x="3661" y="706"/>
                    </a:lnTo>
                    <a:lnTo>
                      <a:pt x="3701" y="750"/>
                    </a:lnTo>
                    <a:lnTo>
                      <a:pt x="3741" y="772"/>
                    </a:lnTo>
                    <a:lnTo>
                      <a:pt x="3782" y="772"/>
                    </a:lnTo>
                    <a:lnTo>
                      <a:pt x="3822" y="761"/>
                    </a:lnTo>
                    <a:lnTo>
                      <a:pt x="3862" y="739"/>
                    </a:lnTo>
                    <a:lnTo>
                      <a:pt x="3903" y="717"/>
                    </a:lnTo>
                    <a:lnTo>
                      <a:pt x="3943" y="706"/>
                    </a:lnTo>
                    <a:lnTo>
                      <a:pt x="3983" y="706"/>
                    </a:lnTo>
                    <a:lnTo>
                      <a:pt x="4034" y="706"/>
                    </a:lnTo>
                    <a:lnTo>
                      <a:pt x="4074" y="696"/>
                    </a:lnTo>
                    <a:lnTo>
                      <a:pt x="4115" y="696"/>
                    </a:lnTo>
                    <a:lnTo>
                      <a:pt x="4155" y="696"/>
                    </a:lnTo>
                    <a:lnTo>
                      <a:pt x="4195" y="696"/>
                    </a:lnTo>
                    <a:lnTo>
                      <a:pt x="4236" y="717"/>
                    </a:lnTo>
                    <a:lnTo>
                      <a:pt x="4276" y="750"/>
                    </a:lnTo>
                    <a:lnTo>
                      <a:pt x="4316" y="772"/>
                    </a:lnTo>
                    <a:lnTo>
                      <a:pt x="4357" y="783"/>
                    </a:lnTo>
                    <a:lnTo>
                      <a:pt x="4397" y="783"/>
                    </a:lnTo>
                    <a:lnTo>
                      <a:pt x="4437" y="783"/>
                    </a:lnTo>
                    <a:lnTo>
                      <a:pt x="4478" y="783"/>
                    </a:lnTo>
                    <a:lnTo>
                      <a:pt x="4518" y="783"/>
                    </a:lnTo>
                    <a:lnTo>
                      <a:pt x="4558" y="783"/>
                    </a:lnTo>
                    <a:lnTo>
                      <a:pt x="4599" y="783"/>
                    </a:lnTo>
                    <a:lnTo>
                      <a:pt x="4639" y="783"/>
                    </a:lnTo>
                    <a:lnTo>
                      <a:pt x="4679" y="772"/>
                    </a:lnTo>
                    <a:lnTo>
                      <a:pt x="4720" y="761"/>
                    </a:lnTo>
                    <a:lnTo>
                      <a:pt x="4760" y="761"/>
                    </a:lnTo>
                    <a:lnTo>
                      <a:pt x="4800" y="761"/>
                    </a:lnTo>
                    <a:lnTo>
                      <a:pt x="4841" y="772"/>
                    </a:lnTo>
                    <a:lnTo>
                      <a:pt x="4881" y="772"/>
                    </a:lnTo>
                    <a:lnTo>
                      <a:pt x="4841" y="815"/>
                    </a:lnTo>
                    <a:lnTo>
                      <a:pt x="4800" y="826"/>
                    </a:lnTo>
                    <a:lnTo>
                      <a:pt x="4760" y="848"/>
                    </a:lnTo>
                    <a:lnTo>
                      <a:pt x="4720" y="880"/>
                    </a:lnTo>
                    <a:lnTo>
                      <a:pt x="4679" y="891"/>
                    </a:lnTo>
                    <a:lnTo>
                      <a:pt x="4629" y="913"/>
                    </a:lnTo>
                    <a:lnTo>
                      <a:pt x="4548" y="924"/>
                    </a:lnTo>
                    <a:lnTo>
                      <a:pt x="4498" y="924"/>
                    </a:lnTo>
                    <a:lnTo>
                      <a:pt x="4457" y="935"/>
                    </a:lnTo>
                    <a:lnTo>
                      <a:pt x="4417" y="967"/>
                    </a:lnTo>
                    <a:lnTo>
                      <a:pt x="4377" y="978"/>
                    </a:lnTo>
                    <a:lnTo>
                      <a:pt x="4336" y="978"/>
                    </a:lnTo>
                    <a:lnTo>
                      <a:pt x="4296" y="978"/>
                    </a:lnTo>
                    <a:lnTo>
                      <a:pt x="4246" y="978"/>
                    </a:lnTo>
                    <a:lnTo>
                      <a:pt x="4205" y="1000"/>
                    </a:lnTo>
                    <a:lnTo>
                      <a:pt x="4205" y="1076"/>
                    </a:lnTo>
                    <a:lnTo>
                      <a:pt x="4215" y="1119"/>
                    </a:lnTo>
                    <a:lnTo>
                      <a:pt x="4276" y="1130"/>
                    </a:lnTo>
                    <a:lnTo>
                      <a:pt x="4316" y="1152"/>
                    </a:lnTo>
                    <a:lnTo>
                      <a:pt x="4276" y="1206"/>
                    </a:lnTo>
                    <a:lnTo>
                      <a:pt x="4236" y="1228"/>
                    </a:lnTo>
                    <a:lnTo>
                      <a:pt x="4195" y="1250"/>
                    </a:lnTo>
                    <a:lnTo>
                      <a:pt x="4165" y="1293"/>
                    </a:lnTo>
                    <a:lnTo>
                      <a:pt x="4125" y="1337"/>
                    </a:lnTo>
                    <a:lnTo>
                      <a:pt x="4074" y="1337"/>
                    </a:lnTo>
                    <a:lnTo>
                      <a:pt x="4024" y="1337"/>
                    </a:lnTo>
                    <a:lnTo>
                      <a:pt x="3973" y="1337"/>
                    </a:lnTo>
                    <a:lnTo>
                      <a:pt x="3933" y="1337"/>
                    </a:lnTo>
                    <a:lnTo>
                      <a:pt x="3842" y="1337"/>
                    </a:lnTo>
                    <a:lnTo>
                      <a:pt x="3731" y="1315"/>
                    </a:lnTo>
                    <a:lnTo>
                      <a:pt x="3691" y="1293"/>
                    </a:lnTo>
                    <a:lnTo>
                      <a:pt x="3651" y="1239"/>
                    </a:lnTo>
                    <a:lnTo>
                      <a:pt x="3620" y="1185"/>
                    </a:lnTo>
                    <a:lnTo>
                      <a:pt x="3600" y="1141"/>
                    </a:lnTo>
                    <a:lnTo>
                      <a:pt x="3550" y="1109"/>
                    </a:lnTo>
                    <a:lnTo>
                      <a:pt x="3489" y="1087"/>
                    </a:lnTo>
                    <a:lnTo>
                      <a:pt x="3449" y="1043"/>
                    </a:lnTo>
                    <a:lnTo>
                      <a:pt x="3409" y="1011"/>
                    </a:lnTo>
                    <a:lnTo>
                      <a:pt x="3368" y="989"/>
                    </a:lnTo>
                    <a:lnTo>
                      <a:pt x="3328" y="978"/>
                    </a:lnTo>
                    <a:lnTo>
                      <a:pt x="3257" y="967"/>
                    </a:lnTo>
                    <a:lnTo>
                      <a:pt x="3217" y="967"/>
                    </a:lnTo>
                    <a:lnTo>
                      <a:pt x="3177" y="978"/>
                    </a:lnTo>
                    <a:lnTo>
                      <a:pt x="3136" y="978"/>
                    </a:lnTo>
                    <a:lnTo>
                      <a:pt x="3106" y="935"/>
                    </a:lnTo>
                    <a:lnTo>
                      <a:pt x="3076" y="891"/>
                    </a:lnTo>
                    <a:lnTo>
                      <a:pt x="2995" y="869"/>
                    </a:lnTo>
                    <a:lnTo>
                      <a:pt x="2955" y="859"/>
                    </a:lnTo>
                    <a:lnTo>
                      <a:pt x="2904" y="837"/>
                    </a:lnTo>
                    <a:lnTo>
                      <a:pt x="2824" y="826"/>
                    </a:lnTo>
                    <a:lnTo>
                      <a:pt x="2783" y="815"/>
                    </a:lnTo>
                    <a:lnTo>
                      <a:pt x="2743" y="826"/>
                    </a:lnTo>
                    <a:lnTo>
                      <a:pt x="2703" y="848"/>
                    </a:lnTo>
                    <a:lnTo>
                      <a:pt x="2662" y="869"/>
                    </a:lnTo>
                    <a:lnTo>
                      <a:pt x="2612" y="880"/>
                    </a:lnTo>
                    <a:lnTo>
                      <a:pt x="2562" y="891"/>
                    </a:lnTo>
                    <a:lnTo>
                      <a:pt x="2511" y="902"/>
                    </a:lnTo>
                    <a:lnTo>
                      <a:pt x="2471" y="924"/>
                    </a:lnTo>
                    <a:lnTo>
                      <a:pt x="2430" y="924"/>
                    </a:lnTo>
                    <a:lnTo>
                      <a:pt x="2390" y="913"/>
                    </a:lnTo>
                    <a:lnTo>
                      <a:pt x="2350" y="902"/>
                    </a:lnTo>
                    <a:lnTo>
                      <a:pt x="2279" y="869"/>
                    </a:lnTo>
                    <a:lnTo>
                      <a:pt x="2239" y="859"/>
                    </a:lnTo>
                    <a:lnTo>
                      <a:pt x="2198" y="837"/>
                    </a:lnTo>
                    <a:lnTo>
                      <a:pt x="2158" y="815"/>
                    </a:lnTo>
                    <a:lnTo>
                      <a:pt x="2118" y="783"/>
                    </a:lnTo>
                    <a:lnTo>
                      <a:pt x="2067" y="772"/>
                    </a:lnTo>
                    <a:lnTo>
                      <a:pt x="2027" y="772"/>
                    </a:lnTo>
                    <a:lnTo>
                      <a:pt x="1987" y="793"/>
                    </a:lnTo>
                    <a:lnTo>
                      <a:pt x="1946" y="815"/>
                    </a:lnTo>
                    <a:lnTo>
                      <a:pt x="1926" y="859"/>
                    </a:lnTo>
                    <a:lnTo>
                      <a:pt x="1926" y="902"/>
                    </a:lnTo>
                    <a:lnTo>
                      <a:pt x="1926" y="946"/>
                    </a:lnTo>
                    <a:lnTo>
                      <a:pt x="1896" y="989"/>
                    </a:lnTo>
                    <a:lnTo>
                      <a:pt x="1876" y="1032"/>
                    </a:lnTo>
                    <a:lnTo>
                      <a:pt x="1876" y="1076"/>
                    </a:lnTo>
                    <a:lnTo>
                      <a:pt x="1896" y="1119"/>
                    </a:lnTo>
                    <a:lnTo>
                      <a:pt x="1916" y="1163"/>
                    </a:lnTo>
                    <a:lnTo>
                      <a:pt x="1916" y="1206"/>
                    </a:lnTo>
                    <a:lnTo>
                      <a:pt x="1916" y="1293"/>
                    </a:lnTo>
                    <a:lnTo>
                      <a:pt x="1906" y="1337"/>
                    </a:lnTo>
                    <a:lnTo>
                      <a:pt x="1866" y="1359"/>
                    </a:lnTo>
                    <a:lnTo>
                      <a:pt x="1805" y="1359"/>
                    </a:lnTo>
                    <a:lnTo>
                      <a:pt x="1755" y="1380"/>
                    </a:lnTo>
                    <a:lnTo>
                      <a:pt x="1714" y="1380"/>
                    </a:lnTo>
                    <a:lnTo>
                      <a:pt x="1674" y="1391"/>
                    </a:lnTo>
                    <a:lnTo>
                      <a:pt x="1634" y="1391"/>
                    </a:lnTo>
                    <a:lnTo>
                      <a:pt x="1593" y="1402"/>
                    </a:lnTo>
                    <a:lnTo>
                      <a:pt x="1553" y="1369"/>
                    </a:lnTo>
                    <a:lnTo>
                      <a:pt x="1513" y="1348"/>
                    </a:lnTo>
                    <a:lnTo>
                      <a:pt x="1472" y="1348"/>
                    </a:lnTo>
                    <a:lnTo>
                      <a:pt x="1432" y="1348"/>
                    </a:lnTo>
                    <a:lnTo>
                      <a:pt x="1382" y="1326"/>
                    </a:lnTo>
                    <a:lnTo>
                      <a:pt x="1341" y="1304"/>
                    </a:lnTo>
                    <a:lnTo>
                      <a:pt x="1301" y="1272"/>
                    </a:lnTo>
                    <a:lnTo>
                      <a:pt x="1261" y="1250"/>
                    </a:lnTo>
                    <a:lnTo>
                      <a:pt x="1220" y="1239"/>
                    </a:lnTo>
                    <a:lnTo>
                      <a:pt x="1180" y="1239"/>
                    </a:lnTo>
                    <a:lnTo>
                      <a:pt x="1140" y="1239"/>
                    </a:lnTo>
                    <a:lnTo>
                      <a:pt x="1099" y="1228"/>
                    </a:lnTo>
                    <a:lnTo>
                      <a:pt x="1059" y="1228"/>
                    </a:lnTo>
                    <a:lnTo>
                      <a:pt x="1019" y="1217"/>
                    </a:lnTo>
                    <a:lnTo>
                      <a:pt x="978" y="1217"/>
                    </a:lnTo>
                    <a:lnTo>
                      <a:pt x="938" y="1228"/>
                    </a:lnTo>
                    <a:lnTo>
                      <a:pt x="898" y="1250"/>
                    </a:lnTo>
                    <a:lnTo>
                      <a:pt x="857" y="1282"/>
                    </a:lnTo>
                    <a:lnTo>
                      <a:pt x="817" y="1315"/>
                    </a:lnTo>
                    <a:lnTo>
                      <a:pt x="777" y="1337"/>
                    </a:lnTo>
                    <a:lnTo>
                      <a:pt x="736" y="1369"/>
                    </a:lnTo>
                    <a:lnTo>
                      <a:pt x="696" y="1380"/>
                    </a:lnTo>
                    <a:lnTo>
                      <a:pt x="656" y="1337"/>
                    </a:lnTo>
                    <a:lnTo>
                      <a:pt x="645" y="1293"/>
                    </a:lnTo>
                    <a:lnTo>
                      <a:pt x="625" y="1250"/>
                    </a:lnTo>
                    <a:lnTo>
                      <a:pt x="625" y="1206"/>
                    </a:lnTo>
                    <a:lnTo>
                      <a:pt x="615" y="1163"/>
                    </a:lnTo>
                    <a:lnTo>
                      <a:pt x="595" y="1119"/>
                    </a:lnTo>
                    <a:lnTo>
                      <a:pt x="555" y="1098"/>
                    </a:lnTo>
                    <a:lnTo>
                      <a:pt x="504" y="1087"/>
                    </a:lnTo>
                    <a:lnTo>
                      <a:pt x="464" y="1076"/>
                    </a:lnTo>
                    <a:lnTo>
                      <a:pt x="424" y="1043"/>
                    </a:lnTo>
                    <a:lnTo>
                      <a:pt x="393" y="1000"/>
                    </a:lnTo>
                    <a:lnTo>
                      <a:pt x="383" y="956"/>
                    </a:lnTo>
                    <a:lnTo>
                      <a:pt x="373" y="902"/>
                    </a:lnTo>
                    <a:lnTo>
                      <a:pt x="353" y="859"/>
                    </a:lnTo>
                    <a:lnTo>
                      <a:pt x="313" y="837"/>
                    </a:lnTo>
                    <a:lnTo>
                      <a:pt x="272" y="804"/>
                    </a:lnTo>
                    <a:lnTo>
                      <a:pt x="232" y="783"/>
                    </a:lnTo>
                    <a:lnTo>
                      <a:pt x="182" y="783"/>
                    </a:lnTo>
                    <a:lnTo>
                      <a:pt x="141" y="783"/>
                    </a:lnTo>
                    <a:lnTo>
                      <a:pt x="131" y="739"/>
                    </a:lnTo>
                    <a:lnTo>
                      <a:pt x="121" y="696"/>
                    </a:lnTo>
                    <a:lnTo>
                      <a:pt x="121" y="641"/>
                    </a:lnTo>
                    <a:lnTo>
                      <a:pt x="121" y="598"/>
                    </a:lnTo>
                    <a:lnTo>
                      <a:pt x="121" y="554"/>
                    </a:lnTo>
                    <a:lnTo>
                      <a:pt x="121" y="511"/>
                    </a:lnTo>
                    <a:lnTo>
                      <a:pt x="121" y="467"/>
                    </a:lnTo>
                    <a:lnTo>
                      <a:pt x="81" y="456"/>
                    </a:lnTo>
                    <a:lnTo>
                      <a:pt x="61" y="413"/>
                    </a:lnTo>
                    <a:lnTo>
                      <a:pt x="61" y="370"/>
                    </a:lnTo>
                    <a:lnTo>
                      <a:pt x="61" y="326"/>
                    </a:lnTo>
                    <a:lnTo>
                      <a:pt x="61" y="283"/>
                    </a:lnTo>
                    <a:lnTo>
                      <a:pt x="50" y="239"/>
                    </a:lnTo>
                    <a:lnTo>
                      <a:pt x="61" y="196"/>
                    </a:lnTo>
                    <a:lnTo>
                      <a:pt x="91" y="152"/>
                    </a:lnTo>
                    <a:lnTo>
                      <a:pt x="91" y="109"/>
                    </a:lnTo>
                    <a:lnTo>
                      <a:pt x="61" y="65"/>
                    </a:lnTo>
                    <a:lnTo>
                      <a:pt x="20" y="43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63480" y="871560"/>
                <a:ext cx="7926480" cy="5164200"/>
              </a:xfrm>
              <a:custGeom>
                <a:avLst/>
                <a:gdLst/>
                <a:ahLst/>
                <a:rect l="l" t="t" r="r" b="b"/>
                <a:pathLst>
                  <a:path w="4993" h="3253">
                    <a:moveTo>
                      <a:pt x="1240" y="2415"/>
                    </a:moveTo>
                    <a:lnTo>
                      <a:pt x="1190" y="2436"/>
                    </a:lnTo>
                    <a:lnTo>
                      <a:pt x="1150" y="2458"/>
                    </a:lnTo>
                    <a:lnTo>
                      <a:pt x="1140" y="2502"/>
                    </a:lnTo>
                    <a:lnTo>
                      <a:pt x="1140" y="2545"/>
                    </a:lnTo>
                    <a:lnTo>
                      <a:pt x="1119" y="2589"/>
                    </a:lnTo>
                    <a:lnTo>
                      <a:pt x="1079" y="2610"/>
                    </a:lnTo>
                    <a:lnTo>
                      <a:pt x="1039" y="2621"/>
                    </a:lnTo>
                    <a:lnTo>
                      <a:pt x="998" y="2643"/>
                    </a:lnTo>
                    <a:lnTo>
                      <a:pt x="968" y="2686"/>
                    </a:lnTo>
                    <a:lnTo>
                      <a:pt x="968" y="2730"/>
                    </a:lnTo>
                    <a:lnTo>
                      <a:pt x="958" y="2784"/>
                    </a:lnTo>
                    <a:lnTo>
                      <a:pt x="958" y="2828"/>
                    </a:lnTo>
                    <a:lnTo>
                      <a:pt x="968" y="2871"/>
                    </a:lnTo>
                    <a:lnTo>
                      <a:pt x="968" y="2915"/>
                    </a:lnTo>
                    <a:lnTo>
                      <a:pt x="938" y="2958"/>
                    </a:lnTo>
                    <a:lnTo>
                      <a:pt x="887" y="2980"/>
                    </a:lnTo>
                    <a:lnTo>
                      <a:pt x="847" y="3013"/>
                    </a:lnTo>
                    <a:lnTo>
                      <a:pt x="807" y="3045"/>
                    </a:lnTo>
                    <a:lnTo>
                      <a:pt x="766" y="3045"/>
                    </a:lnTo>
                    <a:lnTo>
                      <a:pt x="716" y="3045"/>
                    </a:lnTo>
                    <a:lnTo>
                      <a:pt x="676" y="3056"/>
                    </a:lnTo>
                    <a:lnTo>
                      <a:pt x="666" y="3100"/>
                    </a:lnTo>
                    <a:lnTo>
                      <a:pt x="666" y="3154"/>
                    </a:lnTo>
                    <a:lnTo>
                      <a:pt x="645" y="3198"/>
                    </a:lnTo>
                    <a:lnTo>
                      <a:pt x="595" y="3241"/>
                    </a:lnTo>
                    <a:lnTo>
                      <a:pt x="555" y="3252"/>
                    </a:lnTo>
                    <a:lnTo>
                      <a:pt x="524" y="3208"/>
                    </a:lnTo>
                    <a:lnTo>
                      <a:pt x="504" y="3165"/>
                    </a:lnTo>
                    <a:lnTo>
                      <a:pt x="474" y="3121"/>
                    </a:lnTo>
                    <a:lnTo>
                      <a:pt x="484" y="3078"/>
                    </a:lnTo>
                    <a:lnTo>
                      <a:pt x="484" y="3034"/>
                    </a:lnTo>
                    <a:lnTo>
                      <a:pt x="444" y="3013"/>
                    </a:lnTo>
                    <a:lnTo>
                      <a:pt x="403" y="3013"/>
                    </a:lnTo>
                    <a:lnTo>
                      <a:pt x="363" y="3024"/>
                    </a:lnTo>
                    <a:lnTo>
                      <a:pt x="323" y="3045"/>
                    </a:lnTo>
                    <a:lnTo>
                      <a:pt x="282" y="3067"/>
                    </a:lnTo>
                    <a:lnTo>
                      <a:pt x="242" y="3078"/>
                    </a:lnTo>
                    <a:lnTo>
                      <a:pt x="202" y="3067"/>
                    </a:lnTo>
                    <a:lnTo>
                      <a:pt x="161" y="3067"/>
                    </a:lnTo>
                    <a:lnTo>
                      <a:pt x="121" y="3024"/>
                    </a:lnTo>
                    <a:lnTo>
                      <a:pt x="121" y="2980"/>
                    </a:lnTo>
                    <a:lnTo>
                      <a:pt x="91" y="2937"/>
                    </a:lnTo>
                    <a:lnTo>
                      <a:pt x="40" y="2915"/>
                    </a:lnTo>
                    <a:lnTo>
                      <a:pt x="0" y="2860"/>
                    </a:lnTo>
                    <a:lnTo>
                      <a:pt x="30" y="2817"/>
                    </a:lnTo>
                    <a:lnTo>
                      <a:pt x="71" y="2828"/>
                    </a:lnTo>
                    <a:lnTo>
                      <a:pt x="91" y="2871"/>
                    </a:lnTo>
                    <a:lnTo>
                      <a:pt x="141" y="2893"/>
                    </a:lnTo>
                    <a:lnTo>
                      <a:pt x="182" y="2893"/>
                    </a:lnTo>
                    <a:lnTo>
                      <a:pt x="202" y="2937"/>
                    </a:lnTo>
                    <a:lnTo>
                      <a:pt x="252" y="2969"/>
                    </a:lnTo>
                    <a:lnTo>
                      <a:pt x="292" y="2937"/>
                    </a:lnTo>
                    <a:lnTo>
                      <a:pt x="303" y="2893"/>
                    </a:lnTo>
                    <a:lnTo>
                      <a:pt x="303" y="2850"/>
                    </a:lnTo>
                    <a:lnTo>
                      <a:pt x="343" y="2839"/>
                    </a:lnTo>
                    <a:lnTo>
                      <a:pt x="383" y="2860"/>
                    </a:lnTo>
                    <a:lnTo>
                      <a:pt x="424" y="2828"/>
                    </a:lnTo>
                    <a:lnTo>
                      <a:pt x="464" y="2795"/>
                    </a:lnTo>
                    <a:lnTo>
                      <a:pt x="504" y="2828"/>
                    </a:lnTo>
                    <a:lnTo>
                      <a:pt x="555" y="2860"/>
                    </a:lnTo>
                    <a:lnTo>
                      <a:pt x="595" y="2871"/>
                    </a:lnTo>
                    <a:lnTo>
                      <a:pt x="645" y="2882"/>
                    </a:lnTo>
                    <a:lnTo>
                      <a:pt x="656" y="2839"/>
                    </a:lnTo>
                    <a:lnTo>
                      <a:pt x="645" y="2795"/>
                    </a:lnTo>
                    <a:lnTo>
                      <a:pt x="686" y="2773"/>
                    </a:lnTo>
                    <a:lnTo>
                      <a:pt x="686" y="2730"/>
                    </a:lnTo>
                    <a:lnTo>
                      <a:pt x="726" y="2708"/>
                    </a:lnTo>
                    <a:lnTo>
                      <a:pt x="766" y="2708"/>
                    </a:lnTo>
                    <a:lnTo>
                      <a:pt x="807" y="2708"/>
                    </a:lnTo>
                    <a:lnTo>
                      <a:pt x="847" y="2686"/>
                    </a:lnTo>
                    <a:lnTo>
                      <a:pt x="887" y="2665"/>
                    </a:lnTo>
                    <a:lnTo>
                      <a:pt x="918" y="2621"/>
                    </a:lnTo>
                    <a:lnTo>
                      <a:pt x="958" y="2599"/>
                    </a:lnTo>
                    <a:lnTo>
                      <a:pt x="998" y="2599"/>
                    </a:lnTo>
                    <a:lnTo>
                      <a:pt x="1019" y="2556"/>
                    </a:lnTo>
                    <a:lnTo>
                      <a:pt x="1049" y="2512"/>
                    </a:lnTo>
                    <a:lnTo>
                      <a:pt x="1039" y="2469"/>
                    </a:lnTo>
                    <a:lnTo>
                      <a:pt x="998" y="2447"/>
                    </a:lnTo>
                    <a:lnTo>
                      <a:pt x="958" y="2447"/>
                    </a:lnTo>
                    <a:lnTo>
                      <a:pt x="918" y="2425"/>
                    </a:lnTo>
                    <a:lnTo>
                      <a:pt x="877" y="2404"/>
                    </a:lnTo>
                    <a:lnTo>
                      <a:pt x="837" y="2415"/>
                    </a:lnTo>
                    <a:lnTo>
                      <a:pt x="797" y="2404"/>
                    </a:lnTo>
                    <a:lnTo>
                      <a:pt x="777" y="2360"/>
                    </a:lnTo>
                    <a:lnTo>
                      <a:pt x="797" y="2317"/>
                    </a:lnTo>
                    <a:lnTo>
                      <a:pt x="807" y="2273"/>
                    </a:lnTo>
                    <a:lnTo>
                      <a:pt x="716" y="2241"/>
                    </a:lnTo>
                    <a:lnTo>
                      <a:pt x="676" y="2230"/>
                    </a:lnTo>
                    <a:lnTo>
                      <a:pt x="645" y="2186"/>
                    </a:lnTo>
                    <a:lnTo>
                      <a:pt x="605" y="2164"/>
                    </a:lnTo>
                    <a:lnTo>
                      <a:pt x="565" y="2153"/>
                    </a:lnTo>
                    <a:lnTo>
                      <a:pt x="524" y="2132"/>
                    </a:lnTo>
                    <a:lnTo>
                      <a:pt x="484" y="2110"/>
                    </a:lnTo>
                    <a:lnTo>
                      <a:pt x="444" y="2110"/>
                    </a:lnTo>
                    <a:lnTo>
                      <a:pt x="403" y="2099"/>
                    </a:lnTo>
                    <a:lnTo>
                      <a:pt x="363" y="2099"/>
                    </a:lnTo>
                    <a:lnTo>
                      <a:pt x="343" y="2056"/>
                    </a:lnTo>
                    <a:lnTo>
                      <a:pt x="343" y="2012"/>
                    </a:lnTo>
                    <a:lnTo>
                      <a:pt x="303" y="2001"/>
                    </a:lnTo>
                    <a:lnTo>
                      <a:pt x="282" y="1958"/>
                    </a:lnTo>
                    <a:lnTo>
                      <a:pt x="242" y="1914"/>
                    </a:lnTo>
                    <a:lnTo>
                      <a:pt x="222" y="1871"/>
                    </a:lnTo>
                    <a:lnTo>
                      <a:pt x="242" y="1827"/>
                    </a:lnTo>
                    <a:lnTo>
                      <a:pt x="282" y="1827"/>
                    </a:lnTo>
                    <a:lnTo>
                      <a:pt x="313" y="1871"/>
                    </a:lnTo>
                    <a:lnTo>
                      <a:pt x="353" y="1903"/>
                    </a:lnTo>
                    <a:lnTo>
                      <a:pt x="393" y="1925"/>
                    </a:lnTo>
                    <a:lnTo>
                      <a:pt x="403" y="1969"/>
                    </a:lnTo>
                    <a:lnTo>
                      <a:pt x="444" y="2012"/>
                    </a:lnTo>
                    <a:lnTo>
                      <a:pt x="484" y="2023"/>
                    </a:lnTo>
                    <a:lnTo>
                      <a:pt x="524" y="2066"/>
                    </a:lnTo>
                    <a:lnTo>
                      <a:pt x="555" y="2110"/>
                    </a:lnTo>
                    <a:lnTo>
                      <a:pt x="595" y="2121"/>
                    </a:lnTo>
                    <a:lnTo>
                      <a:pt x="635" y="2121"/>
                    </a:lnTo>
                    <a:lnTo>
                      <a:pt x="676" y="2121"/>
                    </a:lnTo>
                    <a:lnTo>
                      <a:pt x="716" y="2099"/>
                    </a:lnTo>
                    <a:lnTo>
                      <a:pt x="756" y="2066"/>
                    </a:lnTo>
                    <a:lnTo>
                      <a:pt x="797" y="2056"/>
                    </a:lnTo>
                    <a:lnTo>
                      <a:pt x="837" y="2077"/>
                    </a:lnTo>
                    <a:lnTo>
                      <a:pt x="877" y="2110"/>
                    </a:lnTo>
                    <a:lnTo>
                      <a:pt x="918" y="2110"/>
                    </a:lnTo>
                    <a:lnTo>
                      <a:pt x="958" y="2110"/>
                    </a:lnTo>
                    <a:lnTo>
                      <a:pt x="998" y="2121"/>
                    </a:lnTo>
                    <a:lnTo>
                      <a:pt x="1029" y="2164"/>
                    </a:lnTo>
                    <a:lnTo>
                      <a:pt x="1069" y="2164"/>
                    </a:lnTo>
                    <a:lnTo>
                      <a:pt x="1109" y="2153"/>
                    </a:lnTo>
                    <a:lnTo>
                      <a:pt x="1150" y="2143"/>
                    </a:lnTo>
                    <a:lnTo>
                      <a:pt x="1190" y="2143"/>
                    </a:lnTo>
                    <a:lnTo>
                      <a:pt x="1190" y="2186"/>
                    </a:lnTo>
                    <a:lnTo>
                      <a:pt x="1180" y="2230"/>
                    </a:lnTo>
                    <a:lnTo>
                      <a:pt x="1170" y="2273"/>
                    </a:lnTo>
                    <a:lnTo>
                      <a:pt x="1180" y="2317"/>
                    </a:lnTo>
                    <a:lnTo>
                      <a:pt x="1220" y="2349"/>
                    </a:lnTo>
                    <a:lnTo>
                      <a:pt x="1261" y="2393"/>
                    </a:lnTo>
                    <a:lnTo>
                      <a:pt x="1301" y="2404"/>
                    </a:lnTo>
                    <a:lnTo>
                      <a:pt x="1321" y="2360"/>
                    </a:lnTo>
                    <a:lnTo>
                      <a:pt x="1321" y="2317"/>
                    </a:lnTo>
                    <a:lnTo>
                      <a:pt x="1301" y="2273"/>
                    </a:lnTo>
                    <a:lnTo>
                      <a:pt x="1291" y="2230"/>
                    </a:lnTo>
                    <a:lnTo>
                      <a:pt x="1321" y="2186"/>
                    </a:lnTo>
                    <a:lnTo>
                      <a:pt x="1361" y="2164"/>
                    </a:lnTo>
                    <a:lnTo>
                      <a:pt x="1402" y="2164"/>
                    </a:lnTo>
                    <a:lnTo>
                      <a:pt x="1402" y="2121"/>
                    </a:lnTo>
                    <a:lnTo>
                      <a:pt x="1392" y="2077"/>
                    </a:lnTo>
                    <a:lnTo>
                      <a:pt x="1442" y="2066"/>
                    </a:lnTo>
                    <a:lnTo>
                      <a:pt x="1482" y="2066"/>
                    </a:lnTo>
                    <a:lnTo>
                      <a:pt x="1523" y="2077"/>
                    </a:lnTo>
                    <a:lnTo>
                      <a:pt x="1553" y="2034"/>
                    </a:lnTo>
                    <a:lnTo>
                      <a:pt x="1553" y="1990"/>
                    </a:lnTo>
                    <a:lnTo>
                      <a:pt x="1553" y="1947"/>
                    </a:lnTo>
                    <a:lnTo>
                      <a:pt x="1593" y="1914"/>
                    </a:lnTo>
                    <a:lnTo>
                      <a:pt x="1644" y="1914"/>
                    </a:lnTo>
                    <a:lnTo>
                      <a:pt x="1694" y="1903"/>
                    </a:lnTo>
                    <a:lnTo>
                      <a:pt x="1745" y="1903"/>
                    </a:lnTo>
                    <a:lnTo>
                      <a:pt x="1785" y="1903"/>
                    </a:lnTo>
                    <a:lnTo>
                      <a:pt x="1825" y="1882"/>
                    </a:lnTo>
                    <a:lnTo>
                      <a:pt x="1866" y="1882"/>
                    </a:lnTo>
                    <a:lnTo>
                      <a:pt x="1896" y="1838"/>
                    </a:lnTo>
                    <a:lnTo>
                      <a:pt x="1896" y="1795"/>
                    </a:lnTo>
                    <a:lnTo>
                      <a:pt x="1886" y="1751"/>
                    </a:lnTo>
                    <a:lnTo>
                      <a:pt x="1886" y="1708"/>
                    </a:lnTo>
                    <a:lnTo>
                      <a:pt x="1896" y="1664"/>
                    </a:lnTo>
                    <a:lnTo>
                      <a:pt x="1886" y="1621"/>
                    </a:lnTo>
                    <a:lnTo>
                      <a:pt x="1886" y="1577"/>
                    </a:lnTo>
                    <a:lnTo>
                      <a:pt x="1926" y="1555"/>
                    </a:lnTo>
                    <a:lnTo>
                      <a:pt x="1977" y="1555"/>
                    </a:lnTo>
                    <a:lnTo>
                      <a:pt x="2017" y="1555"/>
                    </a:lnTo>
                    <a:lnTo>
                      <a:pt x="2017" y="1512"/>
                    </a:lnTo>
                    <a:lnTo>
                      <a:pt x="2047" y="1468"/>
                    </a:lnTo>
                    <a:lnTo>
                      <a:pt x="2098" y="1436"/>
                    </a:lnTo>
                    <a:lnTo>
                      <a:pt x="2108" y="1392"/>
                    </a:lnTo>
                    <a:lnTo>
                      <a:pt x="2108" y="1349"/>
                    </a:lnTo>
                    <a:lnTo>
                      <a:pt x="2148" y="1316"/>
                    </a:lnTo>
                    <a:lnTo>
                      <a:pt x="2188" y="1305"/>
                    </a:lnTo>
                    <a:lnTo>
                      <a:pt x="2178" y="1349"/>
                    </a:lnTo>
                    <a:lnTo>
                      <a:pt x="2168" y="1392"/>
                    </a:lnTo>
                    <a:lnTo>
                      <a:pt x="2148" y="1436"/>
                    </a:lnTo>
                    <a:lnTo>
                      <a:pt x="2148" y="1479"/>
                    </a:lnTo>
                    <a:lnTo>
                      <a:pt x="2148" y="1523"/>
                    </a:lnTo>
                    <a:lnTo>
                      <a:pt x="2138" y="1566"/>
                    </a:lnTo>
                    <a:lnTo>
                      <a:pt x="2178" y="1555"/>
                    </a:lnTo>
                    <a:lnTo>
                      <a:pt x="2209" y="1512"/>
                    </a:lnTo>
                    <a:lnTo>
                      <a:pt x="2249" y="1544"/>
                    </a:lnTo>
                    <a:lnTo>
                      <a:pt x="2289" y="1566"/>
                    </a:lnTo>
                    <a:lnTo>
                      <a:pt x="2299" y="1523"/>
                    </a:lnTo>
                    <a:lnTo>
                      <a:pt x="2340" y="1501"/>
                    </a:lnTo>
                    <a:lnTo>
                      <a:pt x="2360" y="1457"/>
                    </a:lnTo>
                    <a:lnTo>
                      <a:pt x="2350" y="1414"/>
                    </a:lnTo>
                    <a:lnTo>
                      <a:pt x="2350" y="1370"/>
                    </a:lnTo>
                    <a:lnTo>
                      <a:pt x="2309" y="1360"/>
                    </a:lnTo>
                    <a:lnTo>
                      <a:pt x="2279" y="1316"/>
                    </a:lnTo>
                    <a:lnTo>
                      <a:pt x="2279" y="1262"/>
                    </a:lnTo>
                    <a:lnTo>
                      <a:pt x="2279" y="1218"/>
                    </a:lnTo>
                    <a:lnTo>
                      <a:pt x="2289" y="1175"/>
                    </a:lnTo>
                    <a:lnTo>
                      <a:pt x="2289" y="1131"/>
                    </a:lnTo>
                    <a:lnTo>
                      <a:pt x="2279" y="1088"/>
                    </a:lnTo>
                    <a:lnTo>
                      <a:pt x="2239" y="1077"/>
                    </a:lnTo>
                    <a:lnTo>
                      <a:pt x="2198" y="1099"/>
                    </a:lnTo>
                    <a:lnTo>
                      <a:pt x="2158" y="1088"/>
                    </a:lnTo>
                    <a:lnTo>
                      <a:pt x="2118" y="1044"/>
                    </a:lnTo>
                    <a:lnTo>
                      <a:pt x="2098" y="1001"/>
                    </a:lnTo>
                    <a:lnTo>
                      <a:pt x="2108" y="957"/>
                    </a:lnTo>
                    <a:lnTo>
                      <a:pt x="2098" y="914"/>
                    </a:lnTo>
                    <a:lnTo>
                      <a:pt x="2077" y="870"/>
                    </a:lnTo>
                    <a:lnTo>
                      <a:pt x="2067" y="827"/>
                    </a:lnTo>
                    <a:lnTo>
                      <a:pt x="2077" y="783"/>
                    </a:lnTo>
                    <a:lnTo>
                      <a:pt x="2077" y="740"/>
                    </a:lnTo>
                    <a:lnTo>
                      <a:pt x="2077" y="696"/>
                    </a:lnTo>
                    <a:lnTo>
                      <a:pt x="2077" y="653"/>
                    </a:lnTo>
                    <a:lnTo>
                      <a:pt x="2108" y="609"/>
                    </a:lnTo>
                    <a:lnTo>
                      <a:pt x="2128" y="566"/>
                    </a:lnTo>
                    <a:lnTo>
                      <a:pt x="2128" y="522"/>
                    </a:lnTo>
                    <a:lnTo>
                      <a:pt x="2108" y="479"/>
                    </a:lnTo>
                    <a:lnTo>
                      <a:pt x="2067" y="457"/>
                    </a:lnTo>
                    <a:lnTo>
                      <a:pt x="2027" y="424"/>
                    </a:lnTo>
                    <a:lnTo>
                      <a:pt x="1987" y="402"/>
                    </a:lnTo>
                    <a:lnTo>
                      <a:pt x="1946" y="402"/>
                    </a:lnTo>
                    <a:lnTo>
                      <a:pt x="1906" y="402"/>
                    </a:lnTo>
                    <a:lnTo>
                      <a:pt x="1876" y="359"/>
                    </a:lnTo>
                    <a:lnTo>
                      <a:pt x="1906" y="315"/>
                    </a:lnTo>
                    <a:lnTo>
                      <a:pt x="1896" y="272"/>
                    </a:lnTo>
                    <a:lnTo>
                      <a:pt x="1906" y="228"/>
                    </a:lnTo>
                    <a:lnTo>
                      <a:pt x="1926" y="185"/>
                    </a:lnTo>
                    <a:lnTo>
                      <a:pt x="1876" y="174"/>
                    </a:lnTo>
                    <a:lnTo>
                      <a:pt x="1835" y="174"/>
                    </a:lnTo>
                    <a:lnTo>
                      <a:pt x="1785" y="163"/>
                    </a:lnTo>
                    <a:lnTo>
                      <a:pt x="1755" y="120"/>
                    </a:lnTo>
                    <a:lnTo>
                      <a:pt x="1714" y="76"/>
                    </a:lnTo>
                    <a:lnTo>
                      <a:pt x="1674" y="65"/>
                    </a:lnTo>
                    <a:lnTo>
                      <a:pt x="1634" y="54"/>
                    </a:lnTo>
                    <a:lnTo>
                      <a:pt x="1644" y="11"/>
                    </a:lnTo>
                    <a:lnTo>
                      <a:pt x="1684" y="0"/>
                    </a:lnTo>
                    <a:lnTo>
                      <a:pt x="1735" y="0"/>
                    </a:lnTo>
                    <a:lnTo>
                      <a:pt x="1755" y="44"/>
                    </a:lnTo>
                    <a:lnTo>
                      <a:pt x="1805" y="65"/>
                    </a:lnTo>
                    <a:lnTo>
                      <a:pt x="1846" y="65"/>
                    </a:lnTo>
                    <a:lnTo>
                      <a:pt x="1886" y="76"/>
                    </a:lnTo>
                    <a:lnTo>
                      <a:pt x="1936" y="87"/>
                    </a:lnTo>
                    <a:lnTo>
                      <a:pt x="1967" y="131"/>
                    </a:lnTo>
                    <a:lnTo>
                      <a:pt x="1967" y="174"/>
                    </a:lnTo>
                    <a:lnTo>
                      <a:pt x="2007" y="185"/>
                    </a:lnTo>
                    <a:lnTo>
                      <a:pt x="2037" y="228"/>
                    </a:lnTo>
                    <a:lnTo>
                      <a:pt x="2077" y="228"/>
                    </a:lnTo>
                    <a:lnTo>
                      <a:pt x="2128" y="207"/>
                    </a:lnTo>
                    <a:lnTo>
                      <a:pt x="2178" y="196"/>
                    </a:lnTo>
                    <a:lnTo>
                      <a:pt x="2219" y="218"/>
                    </a:lnTo>
                    <a:lnTo>
                      <a:pt x="2219" y="261"/>
                    </a:lnTo>
                    <a:lnTo>
                      <a:pt x="2198" y="305"/>
                    </a:lnTo>
                    <a:lnTo>
                      <a:pt x="2198" y="348"/>
                    </a:lnTo>
                    <a:lnTo>
                      <a:pt x="2229" y="392"/>
                    </a:lnTo>
                    <a:lnTo>
                      <a:pt x="2269" y="392"/>
                    </a:lnTo>
                    <a:lnTo>
                      <a:pt x="2309" y="402"/>
                    </a:lnTo>
                    <a:lnTo>
                      <a:pt x="2350" y="446"/>
                    </a:lnTo>
                    <a:lnTo>
                      <a:pt x="2299" y="489"/>
                    </a:lnTo>
                    <a:lnTo>
                      <a:pt x="2259" y="500"/>
                    </a:lnTo>
                    <a:lnTo>
                      <a:pt x="2239" y="544"/>
                    </a:lnTo>
                    <a:lnTo>
                      <a:pt x="2239" y="587"/>
                    </a:lnTo>
                    <a:lnTo>
                      <a:pt x="2219" y="631"/>
                    </a:lnTo>
                    <a:lnTo>
                      <a:pt x="2188" y="674"/>
                    </a:lnTo>
                    <a:lnTo>
                      <a:pt x="2148" y="696"/>
                    </a:lnTo>
                    <a:lnTo>
                      <a:pt x="2108" y="718"/>
                    </a:lnTo>
                    <a:lnTo>
                      <a:pt x="2098" y="761"/>
                    </a:lnTo>
                    <a:lnTo>
                      <a:pt x="2098" y="805"/>
                    </a:lnTo>
                    <a:lnTo>
                      <a:pt x="2108" y="848"/>
                    </a:lnTo>
                    <a:lnTo>
                      <a:pt x="2148" y="859"/>
                    </a:lnTo>
                    <a:lnTo>
                      <a:pt x="2188" y="859"/>
                    </a:lnTo>
                    <a:lnTo>
                      <a:pt x="2229" y="848"/>
                    </a:lnTo>
                    <a:lnTo>
                      <a:pt x="2269" y="881"/>
                    </a:lnTo>
                    <a:lnTo>
                      <a:pt x="2309" y="914"/>
                    </a:lnTo>
                    <a:lnTo>
                      <a:pt x="2350" y="892"/>
                    </a:lnTo>
                    <a:lnTo>
                      <a:pt x="2360" y="848"/>
                    </a:lnTo>
                    <a:lnTo>
                      <a:pt x="2360" y="805"/>
                    </a:lnTo>
                    <a:lnTo>
                      <a:pt x="2360" y="761"/>
                    </a:lnTo>
                    <a:lnTo>
                      <a:pt x="2360" y="718"/>
                    </a:lnTo>
                    <a:lnTo>
                      <a:pt x="2400" y="707"/>
                    </a:lnTo>
                    <a:lnTo>
                      <a:pt x="2441" y="718"/>
                    </a:lnTo>
                    <a:lnTo>
                      <a:pt x="2481" y="740"/>
                    </a:lnTo>
                    <a:lnTo>
                      <a:pt x="2521" y="750"/>
                    </a:lnTo>
                    <a:lnTo>
                      <a:pt x="2562" y="707"/>
                    </a:lnTo>
                    <a:lnTo>
                      <a:pt x="2572" y="663"/>
                    </a:lnTo>
                    <a:lnTo>
                      <a:pt x="2572" y="620"/>
                    </a:lnTo>
                    <a:lnTo>
                      <a:pt x="2531" y="587"/>
                    </a:lnTo>
                    <a:lnTo>
                      <a:pt x="2491" y="587"/>
                    </a:lnTo>
                    <a:lnTo>
                      <a:pt x="2451" y="566"/>
                    </a:lnTo>
                    <a:lnTo>
                      <a:pt x="2430" y="522"/>
                    </a:lnTo>
                    <a:lnTo>
                      <a:pt x="2430" y="479"/>
                    </a:lnTo>
                    <a:lnTo>
                      <a:pt x="2430" y="424"/>
                    </a:lnTo>
                    <a:lnTo>
                      <a:pt x="2410" y="370"/>
                    </a:lnTo>
                    <a:lnTo>
                      <a:pt x="2400" y="326"/>
                    </a:lnTo>
                    <a:lnTo>
                      <a:pt x="2441" y="305"/>
                    </a:lnTo>
                    <a:lnTo>
                      <a:pt x="2481" y="305"/>
                    </a:lnTo>
                    <a:lnTo>
                      <a:pt x="2521" y="305"/>
                    </a:lnTo>
                    <a:lnTo>
                      <a:pt x="2562" y="305"/>
                    </a:lnTo>
                    <a:lnTo>
                      <a:pt x="2602" y="315"/>
                    </a:lnTo>
                    <a:lnTo>
                      <a:pt x="2642" y="272"/>
                    </a:lnTo>
                    <a:lnTo>
                      <a:pt x="2672" y="228"/>
                    </a:lnTo>
                    <a:lnTo>
                      <a:pt x="2713" y="207"/>
                    </a:lnTo>
                    <a:lnTo>
                      <a:pt x="2753" y="196"/>
                    </a:lnTo>
                    <a:lnTo>
                      <a:pt x="2794" y="163"/>
                    </a:lnTo>
                    <a:lnTo>
                      <a:pt x="2834" y="141"/>
                    </a:lnTo>
                    <a:lnTo>
                      <a:pt x="2874" y="163"/>
                    </a:lnTo>
                    <a:lnTo>
                      <a:pt x="2915" y="196"/>
                    </a:lnTo>
                    <a:lnTo>
                      <a:pt x="2955" y="185"/>
                    </a:lnTo>
                    <a:lnTo>
                      <a:pt x="2995" y="174"/>
                    </a:lnTo>
                    <a:lnTo>
                      <a:pt x="3036" y="163"/>
                    </a:lnTo>
                    <a:lnTo>
                      <a:pt x="3076" y="196"/>
                    </a:lnTo>
                    <a:lnTo>
                      <a:pt x="3116" y="218"/>
                    </a:lnTo>
                    <a:lnTo>
                      <a:pt x="3167" y="207"/>
                    </a:lnTo>
                    <a:lnTo>
                      <a:pt x="3207" y="196"/>
                    </a:lnTo>
                    <a:lnTo>
                      <a:pt x="3247" y="218"/>
                    </a:lnTo>
                    <a:lnTo>
                      <a:pt x="3267" y="261"/>
                    </a:lnTo>
                    <a:lnTo>
                      <a:pt x="3267" y="305"/>
                    </a:lnTo>
                    <a:lnTo>
                      <a:pt x="3257" y="348"/>
                    </a:lnTo>
                    <a:lnTo>
                      <a:pt x="3227" y="392"/>
                    </a:lnTo>
                    <a:lnTo>
                      <a:pt x="3207" y="435"/>
                    </a:lnTo>
                    <a:lnTo>
                      <a:pt x="3197" y="479"/>
                    </a:lnTo>
                    <a:lnTo>
                      <a:pt x="3157" y="511"/>
                    </a:lnTo>
                    <a:lnTo>
                      <a:pt x="3207" y="544"/>
                    </a:lnTo>
                    <a:lnTo>
                      <a:pt x="3247" y="555"/>
                    </a:lnTo>
                    <a:lnTo>
                      <a:pt x="3288" y="566"/>
                    </a:lnTo>
                    <a:lnTo>
                      <a:pt x="3318" y="609"/>
                    </a:lnTo>
                    <a:lnTo>
                      <a:pt x="3348" y="653"/>
                    </a:lnTo>
                    <a:lnTo>
                      <a:pt x="3308" y="674"/>
                    </a:lnTo>
                    <a:lnTo>
                      <a:pt x="3267" y="674"/>
                    </a:lnTo>
                    <a:lnTo>
                      <a:pt x="3227" y="674"/>
                    </a:lnTo>
                    <a:lnTo>
                      <a:pt x="3187" y="707"/>
                    </a:lnTo>
                    <a:lnTo>
                      <a:pt x="3177" y="750"/>
                    </a:lnTo>
                    <a:lnTo>
                      <a:pt x="3136" y="783"/>
                    </a:lnTo>
                    <a:lnTo>
                      <a:pt x="3086" y="783"/>
                    </a:lnTo>
                    <a:lnTo>
                      <a:pt x="3046" y="783"/>
                    </a:lnTo>
                    <a:lnTo>
                      <a:pt x="2995" y="783"/>
                    </a:lnTo>
                    <a:lnTo>
                      <a:pt x="2955" y="783"/>
                    </a:lnTo>
                    <a:lnTo>
                      <a:pt x="2915" y="783"/>
                    </a:lnTo>
                    <a:lnTo>
                      <a:pt x="2864" y="783"/>
                    </a:lnTo>
                    <a:lnTo>
                      <a:pt x="2824" y="783"/>
                    </a:lnTo>
                    <a:lnTo>
                      <a:pt x="2783" y="783"/>
                    </a:lnTo>
                    <a:lnTo>
                      <a:pt x="2743" y="805"/>
                    </a:lnTo>
                    <a:lnTo>
                      <a:pt x="2733" y="848"/>
                    </a:lnTo>
                    <a:lnTo>
                      <a:pt x="2783" y="881"/>
                    </a:lnTo>
                    <a:lnTo>
                      <a:pt x="2824" y="881"/>
                    </a:lnTo>
                    <a:lnTo>
                      <a:pt x="2864" y="870"/>
                    </a:lnTo>
                    <a:lnTo>
                      <a:pt x="2884" y="914"/>
                    </a:lnTo>
                    <a:lnTo>
                      <a:pt x="2894" y="957"/>
                    </a:lnTo>
                    <a:lnTo>
                      <a:pt x="2894" y="1011"/>
                    </a:lnTo>
                    <a:lnTo>
                      <a:pt x="2904" y="1055"/>
                    </a:lnTo>
                    <a:lnTo>
                      <a:pt x="2975" y="1055"/>
                    </a:lnTo>
                    <a:lnTo>
                      <a:pt x="3015" y="1044"/>
                    </a:lnTo>
                    <a:lnTo>
                      <a:pt x="3056" y="1033"/>
                    </a:lnTo>
                    <a:lnTo>
                      <a:pt x="3096" y="1055"/>
                    </a:lnTo>
                    <a:lnTo>
                      <a:pt x="3136" y="1055"/>
                    </a:lnTo>
                    <a:lnTo>
                      <a:pt x="3167" y="1011"/>
                    </a:lnTo>
                    <a:lnTo>
                      <a:pt x="3207" y="990"/>
                    </a:lnTo>
                    <a:lnTo>
                      <a:pt x="3247" y="968"/>
                    </a:lnTo>
                    <a:lnTo>
                      <a:pt x="3288" y="946"/>
                    </a:lnTo>
                    <a:lnTo>
                      <a:pt x="3338" y="957"/>
                    </a:lnTo>
                    <a:lnTo>
                      <a:pt x="3378" y="1001"/>
                    </a:lnTo>
                    <a:lnTo>
                      <a:pt x="3419" y="1033"/>
                    </a:lnTo>
                    <a:lnTo>
                      <a:pt x="3459" y="1033"/>
                    </a:lnTo>
                    <a:lnTo>
                      <a:pt x="3499" y="1033"/>
                    </a:lnTo>
                    <a:lnTo>
                      <a:pt x="3540" y="1011"/>
                    </a:lnTo>
                    <a:lnTo>
                      <a:pt x="3580" y="1001"/>
                    </a:lnTo>
                    <a:lnTo>
                      <a:pt x="3620" y="1001"/>
                    </a:lnTo>
                    <a:lnTo>
                      <a:pt x="3661" y="1011"/>
                    </a:lnTo>
                    <a:lnTo>
                      <a:pt x="3681" y="1066"/>
                    </a:lnTo>
                    <a:lnTo>
                      <a:pt x="3691" y="1109"/>
                    </a:lnTo>
                    <a:lnTo>
                      <a:pt x="3691" y="1153"/>
                    </a:lnTo>
                    <a:lnTo>
                      <a:pt x="3681" y="1196"/>
                    </a:lnTo>
                    <a:lnTo>
                      <a:pt x="3711" y="1240"/>
                    </a:lnTo>
                    <a:lnTo>
                      <a:pt x="3741" y="1283"/>
                    </a:lnTo>
                    <a:lnTo>
                      <a:pt x="3741" y="1327"/>
                    </a:lnTo>
                    <a:lnTo>
                      <a:pt x="3741" y="1381"/>
                    </a:lnTo>
                    <a:lnTo>
                      <a:pt x="3752" y="1425"/>
                    </a:lnTo>
                    <a:lnTo>
                      <a:pt x="3752" y="1468"/>
                    </a:lnTo>
                    <a:lnTo>
                      <a:pt x="3701" y="1490"/>
                    </a:lnTo>
                    <a:lnTo>
                      <a:pt x="3641" y="1501"/>
                    </a:lnTo>
                    <a:lnTo>
                      <a:pt x="3610" y="1544"/>
                    </a:lnTo>
                    <a:lnTo>
                      <a:pt x="3610" y="1588"/>
                    </a:lnTo>
                    <a:lnTo>
                      <a:pt x="3620" y="1631"/>
                    </a:lnTo>
                    <a:lnTo>
                      <a:pt x="3661" y="1664"/>
                    </a:lnTo>
                    <a:lnTo>
                      <a:pt x="3701" y="1686"/>
                    </a:lnTo>
                    <a:lnTo>
                      <a:pt x="3741" y="1675"/>
                    </a:lnTo>
                    <a:lnTo>
                      <a:pt x="3782" y="1653"/>
                    </a:lnTo>
                    <a:lnTo>
                      <a:pt x="3822" y="1664"/>
                    </a:lnTo>
                    <a:lnTo>
                      <a:pt x="3842" y="1708"/>
                    </a:lnTo>
                    <a:lnTo>
                      <a:pt x="3852" y="1751"/>
                    </a:lnTo>
                    <a:lnTo>
                      <a:pt x="3822" y="1795"/>
                    </a:lnTo>
                    <a:lnTo>
                      <a:pt x="3822" y="1838"/>
                    </a:lnTo>
                    <a:lnTo>
                      <a:pt x="3832" y="1892"/>
                    </a:lnTo>
                    <a:lnTo>
                      <a:pt x="3873" y="1903"/>
                    </a:lnTo>
                    <a:lnTo>
                      <a:pt x="3893" y="1947"/>
                    </a:lnTo>
                    <a:lnTo>
                      <a:pt x="3943" y="1969"/>
                    </a:lnTo>
                    <a:lnTo>
                      <a:pt x="3994" y="1969"/>
                    </a:lnTo>
                    <a:lnTo>
                      <a:pt x="4044" y="1958"/>
                    </a:lnTo>
                    <a:lnTo>
                      <a:pt x="4084" y="1958"/>
                    </a:lnTo>
                    <a:lnTo>
                      <a:pt x="4125" y="1958"/>
                    </a:lnTo>
                    <a:lnTo>
                      <a:pt x="4135" y="1914"/>
                    </a:lnTo>
                    <a:lnTo>
                      <a:pt x="4135" y="1871"/>
                    </a:lnTo>
                    <a:lnTo>
                      <a:pt x="4175" y="1827"/>
                    </a:lnTo>
                    <a:lnTo>
                      <a:pt x="4175" y="1784"/>
                    </a:lnTo>
                    <a:lnTo>
                      <a:pt x="4215" y="1751"/>
                    </a:lnTo>
                    <a:lnTo>
                      <a:pt x="4256" y="1718"/>
                    </a:lnTo>
                    <a:lnTo>
                      <a:pt x="4256" y="1675"/>
                    </a:lnTo>
                    <a:lnTo>
                      <a:pt x="4256" y="1631"/>
                    </a:lnTo>
                    <a:lnTo>
                      <a:pt x="4276" y="1588"/>
                    </a:lnTo>
                    <a:lnTo>
                      <a:pt x="4316" y="1566"/>
                    </a:lnTo>
                    <a:lnTo>
                      <a:pt x="4347" y="1621"/>
                    </a:lnTo>
                    <a:lnTo>
                      <a:pt x="4387" y="1653"/>
                    </a:lnTo>
                    <a:lnTo>
                      <a:pt x="4427" y="1642"/>
                    </a:lnTo>
                    <a:lnTo>
                      <a:pt x="4468" y="1631"/>
                    </a:lnTo>
                    <a:lnTo>
                      <a:pt x="4508" y="1642"/>
                    </a:lnTo>
                    <a:lnTo>
                      <a:pt x="4548" y="1664"/>
                    </a:lnTo>
                    <a:lnTo>
                      <a:pt x="4589" y="1631"/>
                    </a:lnTo>
                    <a:lnTo>
                      <a:pt x="4589" y="1588"/>
                    </a:lnTo>
                    <a:lnTo>
                      <a:pt x="4599" y="1544"/>
                    </a:lnTo>
                    <a:lnTo>
                      <a:pt x="4639" y="1523"/>
                    </a:lnTo>
                    <a:lnTo>
                      <a:pt x="4679" y="1523"/>
                    </a:lnTo>
                    <a:lnTo>
                      <a:pt x="4700" y="1479"/>
                    </a:lnTo>
                    <a:lnTo>
                      <a:pt x="4700" y="1436"/>
                    </a:lnTo>
                    <a:lnTo>
                      <a:pt x="4720" y="1392"/>
                    </a:lnTo>
                    <a:lnTo>
                      <a:pt x="4760" y="1360"/>
                    </a:lnTo>
                    <a:lnTo>
                      <a:pt x="4800" y="1349"/>
                    </a:lnTo>
                    <a:lnTo>
                      <a:pt x="4841" y="1349"/>
                    </a:lnTo>
                    <a:lnTo>
                      <a:pt x="4881" y="1316"/>
                    </a:lnTo>
                    <a:lnTo>
                      <a:pt x="4921" y="1305"/>
                    </a:lnTo>
                    <a:lnTo>
                      <a:pt x="4962" y="1305"/>
                    </a:lnTo>
                    <a:lnTo>
                      <a:pt x="4992" y="1360"/>
                    </a:lnTo>
                    <a:lnTo>
                      <a:pt x="4992" y="1403"/>
                    </a:lnTo>
                    <a:lnTo>
                      <a:pt x="4992" y="1447"/>
                    </a:lnTo>
                    <a:lnTo>
                      <a:pt x="4992" y="1490"/>
                    </a:lnTo>
                    <a:lnTo>
                      <a:pt x="4992" y="1534"/>
                    </a:lnTo>
                    <a:lnTo>
                      <a:pt x="4962" y="1577"/>
                    </a:lnTo>
                    <a:lnTo>
                      <a:pt x="4921" y="1566"/>
                    </a:lnTo>
                    <a:lnTo>
                      <a:pt x="4881" y="1544"/>
                    </a:lnTo>
                    <a:lnTo>
                      <a:pt x="4841" y="1555"/>
                    </a:lnTo>
                    <a:lnTo>
                      <a:pt x="4810" y="1599"/>
                    </a:lnTo>
                    <a:lnTo>
                      <a:pt x="4770" y="1631"/>
                    </a:lnTo>
                    <a:lnTo>
                      <a:pt x="4750" y="1675"/>
                    </a:lnTo>
                    <a:lnTo>
                      <a:pt x="4750" y="1718"/>
                    </a:lnTo>
                    <a:lnTo>
                      <a:pt x="4730" y="1762"/>
                    </a:lnTo>
                    <a:lnTo>
                      <a:pt x="4700" y="1805"/>
                    </a:lnTo>
                    <a:lnTo>
                      <a:pt x="4659" y="1849"/>
                    </a:lnTo>
                    <a:lnTo>
                      <a:pt x="4639" y="1892"/>
                    </a:lnTo>
                    <a:lnTo>
                      <a:pt x="4639" y="1936"/>
                    </a:lnTo>
                    <a:lnTo>
                      <a:pt x="4599" y="1936"/>
                    </a:lnTo>
                    <a:lnTo>
                      <a:pt x="4579" y="1990"/>
                    </a:lnTo>
                    <a:lnTo>
                      <a:pt x="4579" y="2034"/>
                    </a:lnTo>
                    <a:lnTo>
                      <a:pt x="4579" y="2077"/>
                    </a:lnTo>
                    <a:lnTo>
                      <a:pt x="4558" y="2121"/>
                    </a:lnTo>
                    <a:lnTo>
                      <a:pt x="4518" y="2132"/>
                    </a:lnTo>
                    <a:lnTo>
                      <a:pt x="4478" y="2132"/>
                    </a:lnTo>
                    <a:lnTo>
                      <a:pt x="4437" y="2143"/>
                    </a:lnTo>
                    <a:lnTo>
                      <a:pt x="4417" y="2186"/>
                    </a:lnTo>
                    <a:lnTo>
                      <a:pt x="4377" y="2219"/>
                    </a:lnTo>
                    <a:lnTo>
                      <a:pt x="4377" y="2262"/>
                    </a:lnTo>
                    <a:lnTo>
                      <a:pt x="4377" y="2317"/>
                    </a:lnTo>
                    <a:lnTo>
                      <a:pt x="4347" y="2360"/>
                    </a:lnTo>
                    <a:lnTo>
                      <a:pt x="4306" y="2415"/>
                    </a:lnTo>
                    <a:lnTo>
                      <a:pt x="4306" y="2469"/>
                    </a:lnTo>
                    <a:lnTo>
                      <a:pt x="4266" y="2491"/>
                    </a:lnTo>
                    <a:lnTo>
                      <a:pt x="4185" y="2491"/>
                    </a:lnTo>
                    <a:lnTo>
                      <a:pt x="4145" y="2491"/>
                    </a:lnTo>
                    <a:lnTo>
                      <a:pt x="4105" y="2502"/>
                    </a:lnTo>
                    <a:lnTo>
                      <a:pt x="4064" y="2512"/>
                    </a:lnTo>
                    <a:lnTo>
                      <a:pt x="4024" y="2491"/>
                    </a:lnTo>
                    <a:lnTo>
                      <a:pt x="3984" y="2458"/>
                    </a:lnTo>
                    <a:lnTo>
                      <a:pt x="3943" y="2458"/>
                    </a:lnTo>
                    <a:lnTo>
                      <a:pt x="3903" y="2458"/>
                    </a:lnTo>
                    <a:lnTo>
                      <a:pt x="3852" y="2480"/>
                    </a:lnTo>
                    <a:lnTo>
                      <a:pt x="3812" y="2469"/>
                    </a:lnTo>
                    <a:lnTo>
                      <a:pt x="3772" y="2458"/>
                    </a:lnTo>
                    <a:lnTo>
                      <a:pt x="3741" y="2545"/>
                    </a:lnTo>
                    <a:lnTo>
                      <a:pt x="3701" y="2578"/>
                    </a:lnTo>
                    <a:lnTo>
                      <a:pt x="3661" y="2578"/>
                    </a:lnTo>
                    <a:lnTo>
                      <a:pt x="3651" y="2534"/>
                    </a:lnTo>
                    <a:lnTo>
                      <a:pt x="3661" y="2491"/>
                    </a:lnTo>
                    <a:lnTo>
                      <a:pt x="3661" y="2447"/>
                    </a:lnTo>
                    <a:lnTo>
                      <a:pt x="3661" y="2404"/>
                    </a:lnTo>
                    <a:lnTo>
                      <a:pt x="3570" y="2360"/>
                    </a:lnTo>
                    <a:lnTo>
                      <a:pt x="3560" y="2317"/>
                    </a:lnTo>
                    <a:lnTo>
                      <a:pt x="3570" y="2273"/>
                    </a:lnTo>
                    <a:lnTo>
                      <a:pt x="3590" y="2230"/>
                    </a:lnTo>
                    <a:lnTo>
                      <a:pt x="3600" y="2175"/>
                    </a:lnTo>
                    <a:lnTo>
                      <a:pt x="3600" y="2121"/>
                    </a:lnTo>
                    <a:lnTo>
                      <a:pt x="3590" y="2077"/>
                    </a:lnTo>
                    <a:lnTo>
                      <a:pt x="3580" y="2023"/>
                    </a:lnTo>
                    <a:lnTo>
                      <a:pt x="3580" y="1979"/>
                    </a:lnTo>
                    <a:lnTo>
                      <a:pt x="3550" y="1936"/>
                    </a:lnTo>
                    <a:lnTo>
                      <a:pt x="3530" y="1892"/>
                    </a:lnTo>
                    <a:lnTo>
                      <a:pt x="3550" y="1849"/>
                    </a:lnTo>
                    <a:lnTo>
                      <a:pt x="3570" y="1805"/>
                    </a:lnTo>
                    <a:lnTo>
                      <a:pt x="3580" y="1762"/>
                    </a:lnTo>
                    <a:lnTo>
                      <a:pt x="3570" y="1675"/>
                    </a:lnTo>
                    <a:lnTo>
                      <a:pt x="3570" y="1631"/>
                    </a:lnTo>
                    <a:lnTo>
                      <a:pt x="3560" y="1577"/>
                    </a:lnTo>
                    <a:lnTo>
                      <a:pt x="3520" y="1544"/>
                    </a:lnTo>
                    <a:lnTo>
                      <a:pt x="3469" y="1566"/>
                    </a:lnTo>
                    <a:lnTo>
                      <a:pt x="3429" y="1588"/>
                    </a:lnTo>
                    <a:lnTo>
                      <a:pt x="3389" y="1588"/>
                    </a:lnTo>
                    <a:lnTo>
                      <a:pt x="3348" y="1566"/>
                    </a:lnTo>
                    <a:lnTo>
                      <a:pt x="3308" y="1544"/>
                    </a:lnTo>
                    <a:lnTo>
                      <a:pt x="3267" y="1577"/>
                    </a:lnTo>
                    <a:lnTo>
                      <a:pt x="3237" y="1621"/>
                    </a:lnTo>
                    <a:lnTo>
                      <a:pt x="3197" y="1631"/>
                    </a:lnTo>
                    <a:lnTo>
                      <a:pt x="3146" y="1610"/>
                    </a:lnTo>
                    <a:lnTo>
                      <a:pt x="3106" y="1599"/>
                    </a:lnTo>
                    <a:lnTo>
                      <a:pt x="3066" y="1642"/>
                    </a:lnTo>
                    <a:lnTo>
                      <a:pt x="3046" y="1686"/>
                    </a:lnTo>
                    <a:lnTo>
                      <a:pt x="3025" y="1729"/>
                    </a:lnTo>
                    <a:lnTo>
                      <a:pt x="3005" y="1773"/>
                    </a:lnTo>
                    <a:lnTo>
                      <a:pt x="2995" y="1816"/>
                    </a:lnTo>
                    <a:lnTo>
                      <a:pt x="2945" y="1816"/>
                    </a:lnTo>
                    <a:lnTo>
                      <a:pt x="2904" y="1816"/>
                    </a:lnTo>
                    <a:lnTo>
                      <a:pt x="2894" y="1773"/>
                    </a:lnTo>
                    <a:lnTo>
                      <a:pt x="2904" y="1729"/>
                    </a:lnTo>
                    <a:lnTo>
                      <a:pt x="2904" y="1686"/>
                    </a:lnTo>
                    <a:lnTo>
                      <a:pt x="2864" y="1675"/>
                    </a:lnTo>
                    <a:lnTo>
                      <a:pt x="2824" y="1664"/>
                    </a:lnTo>
                    <a:lnTo>
                      <a:pt x="2814" y="1610"/>
                    </a:lnTo>
                    <a:lnTo>
                      <a:pt x="2824" y="1566"/>
                    </a:lnTo>
                    <a:lnTo>
                      <a:pt x="2824" y="1512"/>
                    </a:lnTo>
                    <a:lnTo>
                      <a:pt x="2824" y="1468"/>
                    </a:lnTo>
                    <a:lnTo>
                      <a:pt x="2834" y="1425"/>
                    </a:lnTo>
                    <a:lnTo>
                      <a:pt x="2834" y="1381"/>
                    </a:lnTo>
                    <a:lnTo>
                      <a:pt x="2794" y="1360"/>
                    </a:lnTo>
                    <a:lnTo>
                      <a:pt x="2753" y="1338"/>
                    </a:lnTo>
                    <a:lnTo>
                      <a:pt x="2703" y="1338"/>
                    </a:lnTo>
                    <a:lnTo>
                      <a:pt x="2662" y="1338"/>
                    </a:lnTo>
                    <a:lnTo>
                      <a:pt x="2622" y="1305"/>
                    </a:lnTo>
                    <a:lnTo>
                      <a:pt x="2582" y="1294"/>
                    </a:lnTo>
                    <a:lnTo>
                      <a:pt x="2521" y="1294"/>
                    </a:lnTo>
                    <a:lnTo>
                      <a:pt x="2491" y="1338"/>
                    </a:lnTo>
                    <a:lnTo>
                      <a:pt x="2451" y="1381"/>
                    </a:lnTo>
                    <a:lnTo>
                      <a:pt x="2451" y="1425"/>
                    </a:lnTo>
                    <a:lnTo>
                      <a:pt x="2451" y="1468"/>
                    </a:lnTo>
                    <a:lnTo>
                      <a:pt x="2410" y="1512"/>
                    </a:lnTo>
                    <a:lnTo>
                      <a:pt x="2400" y="1555"/>
                    </a:lnTo>
                    <a:lnTo>
                      <a:pt x="2360" y="1566"/>
                    </a:lnTo>
                    <a:lnTo>
                      <a:pt x="2320" y="1555"/>
                    </a:lnTo>
                    <a:lnTo>
                      <a:pt x="2279" y="1577"/>
                    </a:lnTo>
                    <a:lnTo>
                      <a:pt x="2239" y="1599"/>
                    </a:lnTo>
                    <a:lnTo>
                      <a:pt x="2229" y="1653"/>
                    </a:lnTo>
                    <a:lnTo>
                      <a:pt x="2239" y="1697"/>
                    </a:lnTo>
                    <a:lnTo>
                      <a:pt x="2239" y="1740"/>
                    </a:lnTo>
                    <a:lnTo>
                      <a:pt x="2219" y="1784"/>
                    </a:lnTo>
                    <a:lnTo>
                      <a:pt x="2188" y="1827"/>
                    </a:lnTo>
                    <a:lnTo>
                      <a:pt x="2178" y="1871"/>
                    </a:lnTo>
                    <a:lnTo>
                      <a:pt x="2168" y="1914"/>
                    </a:lnTo>
                    <a:lnTo>
                      <a:pt x="2168" y="1958"/>
                    </a:lnTo>
                    <a:lnTo>
                      <a:pt x="2158" y="2001"/>
                    </a:lnTo>
                    <a:lnTo>
                      <a:pt x="2128" y="2045"/>
                    </a:lnTo>
                    <a:lnTo>
                      <a:pt x="2088" y="2088"/>
                    </a:lnTo>
                    <a:lnTo>
                      <a:pt x="2047" y="2088"/>
                    </a:lnTo>
                    <a:lnTo>
                      <a:pt x="2007" y="2077"/>
                    </a:lnTo>
                    <a:lnTo>
                      <a:pt x="1967" y="2099"/>
                    </a:lnTo>
                    <a:lnTo>
                      <a:pt x="1926" y="2143"/>
                    </a:lnTo>
                    <a:lnTo>
                      <a:pt x="1896" y="2197"/>
                    </a:lnTo>
                    <a:lnTo>
                      <a:pt x="1896" y="2241"/>
                    </a:lnTo>
                    <a:lnTo>
                      <a:pt x="1896" y="2284"/>
                    </a:lnTo>
                    <a:lnTo>
                      <a:pt x="1896" y="2328"/>
                    </a:lnTo>
                    <a:lnTo>
                      <a:pt x="1886" y="2371"/>
                    </a:lnTo>
                    <a:lnTo>
                      <a:pt x="1916" y="2415"/>
                    </a:lnTo>
                    <a:lnTo>
                      <a:pt x="1956" y="2447"/>
                    </a:lnTo>
                    <a:lnTo>
                      <a:pt x="1967" y="2491"/>
                    </a:lnTo>
                    <a:lnTo>
                      <a:pt x="1946" y="2534"/>
                    </a:lnTo>
                    <a:lnTo>
                      <a:pt x="1926" y="2589"/>
                    </a:lnTo>
                    <a:lnTo>
                      <a:pt x="1876" y="2610"/>
                    </a:lnTo>
                    <a:lnTo>
                      <a:pt x="1835" y="2610"/>
                    </a:lnTo>
                    <a:lnTo>
                      <a:pt x="1795" y="2643"/>
                    </a:lnTo>
                    <a:lnTo>
                      <a:pt x="1755" y="2643"/>
                    </a:lnTo>
                    <a:lnTo>
                      <a:pt x="1714" y="2643"/>
                    </a:lnTo>
                    <a:lnTo>
                      <a:pt x="1674" y="2621"/>
                    </a:lnTo>
                    <a:lnTo>
                      <a:pt x="1634" y="2621"/>
                    </a:lnTo>
                    <a:lnTo>
                      <a:pt x="1593" y="2643"/>
                    </a:lnTo>
                    <a:lnTo>
                      <a:pt x="1553" y="2589"/>
                    </a:lnTo>
                    <a:lnTo>
                      <a:pt x="1543" y="2545"/>
                    </a:lnTo>
                    <a:lnTo>
                      <a:pt x="1493" y="2545"/>
                    </a:lnTo>
                    <a:lnTo>
                      <a:pt x="1472" y="2502"/>
                    </a:lnTo>
                    <a:lnTo>
                      <a:pt x="1432" y="2469"/>
                    </a:lnTo>
                    <a:lnTo>
                      <a:pt x="1392" y="2436"/>
                    </a:lnTo>
                    <a:lnTo>
                      <a:pt x="1351" y="2436"/>
                    </a:lnTo>
                    <a:lnTo>
                      <a:pt x="1311" y="2425"/>
                    </a:lnTo>
                    <a:lnTo>
                      <a:pt x="1271" y="2415"/>
                    </a:lnTo>
                    <a:lnTo>
                      <a:pt x="1220" y="2458"/>
                    </a:lnTo>
                    <a:lnTo>
                      <a:pt x="1240" y="2415"/>
                    </a:ln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9880" y="817560"/>
                <a:ext cx="1066680" cy="960480"/>
              </a:xfrm>
              <a:custGeom>
                <a:avLst/>
                <a:gdLst/>
                <a:ahLst/>
                <a:rect l="l" t="t" r="r" b="b"/>
                <a:pathLst>
                  <a:path w="672" h="605">
                    <a:moveTo>
                      <a:pt x="134" y="0"/>
                    </a:moveTo>
                    <a:lnTo>
                      <a:pt x="154" y="44"/>
                    </a:lnTo>
                    <a:lnTo>
                      <a:pt x="168" y="73"/>
                    </a:lnTo>
                    <a:lnTo>
                      <a:pt x="168" y="102"/>
                    </a:lnTo>
                    <a:lnTo>
                      <a:pt x="168" y="131"/>
                    </a:lnTo>
                    <a:lnTo>
                      <a:pt x="174" y="160"/>
                    </a:lnTo>
                    <a:lnTo>
                      <a:pt x="181" y="189"/>
                    </a:lnTo>
                    <a:lnTo>
                      <a:pt x="201" y="226"/>
                    </a:lnTo>
                    <a:lnTo>
                      <a:pt x="201" y="262"/>
                    </a:lnTo>
                    <a:lnTo>
                      <a:pt x="208" y="291"/>
                    </a:lnTo>
                    <a:lnTo>
                      <a:pt x="215" y="320"/>
                    </a:lnTo>
                    <a:lnTo>
                      <a:pt x="221" y="349"/>
                    </a:lnTo>
                    <a:lnTo>
                      <a:pt x="221" y="386"/>
                    </a:lnTo>
                    <a:lnTo>
                      <a:pt x="228" y="415"/>
                    </a:lnTo>
                    <a:lnTo>
                      <a:pt x="228" y="444"/>
                    </a:lnTo>
                    <a:lnTo>
                      <a:pt x="221" y="473"/>
                    </a:lnTo>
                    <a:lnTo>
                      <a:pt x="228" y="502"/>
                    </a:lnTo>
                    <a:lnTo>
                      <a:pt x="201" y="524"/>
                    </a:lnTo>
                    <a:lnTo>
                      <a:pt x="174" y="495"/>
                    </a:lnTo>
                    <a:lnTo>
                      <a:pt x="161" y="466"/>
                    </a:lnTo>
                    <a:lnTo>
                      <a:pt x="134" y="437"/>
                    </a:lnTo>
                    <a:lnTo>
                      <a:pt x="107" y="437"/>
                    </a:lnTo>
                    <a:lnTo>
                      <a:pt x="81" y="437"/>
                    </a:lnTo>
                    <a:lnTo>
                      <a:pt x="54" y="422"/>
                    </a:lnTo>
                    <a:lnTo>
                      <a:pt x="27" y="408"/>
                    </a:lnTo>
                    <a:lnTo>
                      <a:pt x="0" y="408"/>
                    </a:lnTo>
                    <a:lnTo>
                      <a:pt x="27" y="422"/>
                    </a:lnTo>
                    <a:lnTo>
                      <a:pt x="54" y="451"/>
                    </a:lnTo>
                    <a:lnTo>
                      <a:pt x="81" y="451"/>
                    </a:lnTo>
                    <a:lnTo>
                      <a:pt x="107" y="458"/>
                    </a:lnTo>
                    <a:lnTo>
                      <a:pt x="134" y="458"/>
                    </a:lnTo>
                    <a:lnTo>
                      <a:pt x="148" y="488"/>
                    </a:lnTo>
                    <a:lnTo>
                      <a:pt x="168" y="517"/>
                    </a:lnTo>
                    <a:lnTo>
                      <a:pt x="181" y="546"/>
                    </a:lnTo>
                    <a:lnTo>
                      <a:pt x="208" y="546"/>
                    </a:lnTo>
                    <a:lnTo>
                      <a:pt x="235" y="531"/>
                    </a:lnTo>
                    <a:lnTo>
                      <a:pt x="262" y="524"/>
                    </a:lnTo>
                    <a:lnTo>
                      <a:pt x="289" y="546"/>
                    </a:lnTo>
                    <a:lnTo>
                      <a:pt x="315" y="560"/>
                    </a:lnTo>
                    <a:lnTo>
                      <a:pt x="342" y="582"/>
                    </a:lnTo>
                    <a:lnTo>
                      <a:pt x="369" y="597"/>
                    </a:lnTo>
                    <a:lnTo>
                      <a:pt x="396" y="597"/>
                    </a:lnTo>
                    <a:lnTo>
                      <a:pt x="429" y="597"/>
                    </a:lnTo>
                    <a:lnTo>
                      <a:pt x="483" y="604"/>
                    </a:lnTo>
                    <a:lnTo>
                      <a:pt x="510" y="604"/>
                    </a:lnTo>
                    <a:lnTo>
                      <a:pt x="544" y="589"/>
                    </a:lnTo>
                    <a:lnTo>
                      <a:pt x="570" y="589"/>
                    </a:lnTo>
                    <a:lnTo>
                      <a:pt x="604" y="582"/>
                    </a:lnTo>
                    <a:lnTo>
                      <a:pt x="637" y="575"/>
                    </a:lnTo>
                    <a:lnTo>
                      <a:pt x="671" y="568"/>
                    </a:lnTo>
                    <a:lnTo>
                      <a:pt x="631" y="568"/>
                    </a:lnTo>
                    <a:lnTo>
                      <a:pt x="604" y="568"/>
                    </a:lnTo>
                    <a:lnTo>
                      <a:pt x="564" y="575"/>
                    </a:lnTo>
                    <a:lnTo>
                      <a:pt x="537" y="575"/>
                    </a:lnTo>
                    <a:lnTo>
                      <a:pt x="510" y="575"/>
                    </a:lnTo>
                    <a:lnTo>
                      <a:pt x="483" y="575"/>
                    </a:lnTo>
                    <a:lnTo>
                      <a:pt x="456" y="575"/>
                    </a:lnTo>
                    <a:lnTo>
                      <a:pt x="429" y="575"/>
                    </a:lnTo>
                    <a:lnTo>
                      <a:pt x="403" y="575"/>
                    </a:lnTo>
                    <a:lnTo>
                      <a:pt x="376" y="568"/>
                    </a:lnTo>
                    <a:lnTo>
                      <a:pt x="349" y="546"/>
                    </a:lnTo>
                    <a:lnTo>
                      <a:pt x="322" y="524"/>
                    </a:lnTo>
                    <a:lnTo>
                      <a:pt x="295" y="524"/>
                    </a:lnTo>
                    <a:lnTo>
                      <a:pt x="268" y="509"/>
                    </a:lnTo>
                    <a:lnTo>
                      <a:pt x="248" y="480"/>
                    </a:lnTo>
                    <a:lnTo>
                      <a:pt x="255" y="451"/>
                    </a:lnTo>
                    <a:lnTo>
                      <a:pt x="255" y="422"/>
                    </a:lnTo>
                    <a:lnTo>
                      <a:pt x="255" y="393"/>
                    </a:lnTo>
                    <a:lnTo>
                      <a:pt x="255" y="364"/>
                    </a:lnTo>
                    <a:lnTo>
                      <a:pt x="248" y="327"/>
                    </a:lnTo>
                    <a:lnTo>
                      <a:pt x="248" y="298"/>
                    </a:lnTo>
                    <a:lnTo>
                      <a:pt x="242" y="269"/>
                    </a:lnTo>
                    <a:lnTo>
                      <a:pt x="228" y="240"/>
                    </a:lnTo>
                    <a:lnTo>
                      <a:pt x="228" y="211"/>
                    </a:lnTo>
                    <a:lnTo>
                      <a:pt x="221" y="175"/>
                    </a:lnTo>
                    <a:lnTo>
                      <a:pt x="201" y="146"/>
                    </a:lnTo>
                    <a:lnTo>
                      <a:pt x="161" y="138"/>
                    </a:lnTo>
                    <a:lnTo>
                      <a:pt x="141" y="109"/>
                    </a:lnTo>
                    <a:lnTo>
                      <a:pt x="161" y="80"/>
                    </a:lnTo>
                    <a:lnTo>
                      <a:pt x="161" y="51"/>
                    </a:lnTo>
                    <a:lnTo>
                      <a:pt x="141" y="22"/>
                    </a:lnTo>
                    <a:lnTo>
                      <a:pt x="134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97040" y="600120"/>
                <a:ext cx="1803240" cy="4032360"/>
              </a:xfrm>
              <a:custGeom>
                <a:avLst/>
                <a:gdLst/>
                <a:ahLst/>
                <a:rect l="l" t="t" r="r" b="b"/>
                <a:pathLst>
                  <a:path w="1136" h="2540">
                    <a:moveTo>
                      <a:pt x="1088" y="0"/>
                    </a:moveTo>
                    <a:lnTo>
                      <a:pt x="1115" y="29"/>
                    </a:lnTo>
                    <a:lnTo>
                      <a:pt x="1128" y="58"/>
                    </a:lnTo>
                    <a:lnTo>
                      <a:pt x="1122" y="87"/>
                    </a:lnTo>
                    <a:lnTo>
                      <a:pt x="1108" y="116"/>
                    </a:lnTo>
                    <a:lnTo>
                      <a:pt x="1095" y="145"/>
                    </a:lnTo>
                    <a:lnTo>
                      <a:pt x="1088" y="181"/>
                    </a:lnTo>
                    <a:lnTo>
                      <a:pt x="1095" y="210"/>
                    </a:lnTo>
                    <a:lnTo>
                      <a:pt x="1081" y="239"/>
                    </a:lnTo>
                    <a:lnTo>
                      <a:pt x="1054" y="261"/>
                    </a:lnTo>
                    <a:lnTo>
                      <a:pt x="1054" y="290"/>
                    </a:lnTo>
                    <a:lnTo>
                      <a:pt x="1054" y="319"/>
                    </a:lnTo>
                    <a:lnTo>
                      <a:pt x="1014" y="319"/>
                    </a:lnTo>
                    <a:lnTo>
                      <a:pt x="1021" y="348"/>
                    </a:lnTo>
                    <a:lnTo>
                      <a:pt x="1021" y="377"/>
                    </a:lnTo>
                    <a:lnTo>
                      <a:pt x="1034" y="406"/>
                    </a:lnTo>
                    <a:lnTo>
                      <a:pt x="1048" y="435"/>
                    </a:lnTo>
                    <a:lnTo>
                      <a:pt x="1068" y="464"/>
                    </a:lnTo>
                    <a:lnTo>
                      <a:pt x="1075" y="493"/>
                    </a:lnTo>
                    <a:lnTo>
                      <a:pt x="1075" y="522"/>
                    </a:lnTo>
                    <a:lnTo>
                      <a:pt x="1075" y="551"/>
                    </a:lnTo>
                    <a:lnTo>
                      <a:pt x="1054" y="580"/>
                    </a:lnTo>
                    <a:lnTo>
                      <a:pt x="1054" y="609"/>
                    </a:lnTo>
                    <a:lnTo>
                      <a:pt x="1054" y="638"/>
                    </a:lnTo>
                    <a:lnTo>
                      <a:pt x="1048" y="667"/>
                    </a:lnTo>
                    <a:lnTo>
                      <a:pt x="1048" y="696"/>
                    </a:lnTo>
                    <a:lnTo>
                      <a:pt x="1041" y="725"/>
                    </a:lnTo>
                    <a:lnTo>
                      <a:pt x="1028" y="754"/>
                    </a:lnTo>
                    <a:lnTo>
                      <a:pt x="1021" y="783"/>
                    </a:lnTo>
                    <a:lnTo>
                      <a:pt x="981" y="805"/>
                    </a:lnTo>
                    <a:lnTo>
                      <a:pt x="954" y="834"/>
                    </a:lnTo>
                    <a:lnTo>
                      <a:pt x="947" y="863"/>
                    </a:lnTo>
                    <a:lnTo>
                      <a:pt x="940" y="892"/>
                    </a:lnTo>
                    <a:lnTo>
                      <a:pt x="927" y="921"/>
                    </a:lnTo>
                    <a:lnTo>
                      <a:pt x="920" y="950"/>
                    </a:lnTo>
                    <a:lnTo>
                      <a:pt x="913" y="979"/>
                    </a:lnTo>
                    <a:lnTo>
                      <a:pt x="907" y="1008"/>
                    </a:lnTo>
                    <a:lnTo>
                      <a:pt x="880" y="1037"/>
                    </a:lnTo>
                    <a:lnTo>
                      <a:pt x="873" y="1066"/>
                    </a:lnTo>
                    <a:lnTo>
                      <a:pt x="860" y="1103"/>
                    </a:lnTo>
                    <a:lnTo>
                      <a:pt x="853" y="1132"/>
                    </a:lnTo>
                    <a:lnTo>
                      <a:pt x="839" y="1161"/>
                    </a:lnTo>
                    <a:lnTo>
                      <a:pt x="826" y="1190"/>
                    </a:lnTo>
                    <a:lnTo>
                      <a:pt x="813" y="1219"/>
                    </a:lnTo>
                    <a:lnTo>
                      <a:pt x="792" y="1248"/>
                    </a:lnTo>
                    <a:lnTo>
                      <a:pt x="772" y="1277"/>
                    </a:lnTo>
                    <a:lnTo>
                      <a:pt x="745" y="1299"/>
                    </a:lnTo>
                    <a:lnTo>
                      <a:pt x="719" y="1313"/>
                    </a:lnTo>
                    <a:lnTo>
                      <a:pt x="692" y="1320"/>
                    </a:lnTo>
                    <a:lnTo>
                      <a:pt x="665" y="1328"/>
                    </a:lnTo>
                    <a:lnTo>
                      <a:pt x="638" y="1328"/>
                    </a:lnTo>
                    <a:lnTo>
                      <a:pt x="611" y="1320"/>
                    </a:lnTo>
                    <a:lnTo>
                      <a:pt x="584" y="1320"/>
                    </a:lnTo>
                    <a:lnTo>
                      <a:pt x="557" y="1320"/>
                    </a:lnTo>
                    <a:lnTo>
                      <a:pt x="531" y="1320"/>
                    </a:lnTo>
                    <a:lnTo>
                      <a:pt x="504" y="1320"/>
                    </a:lnTo>
                    <a:lnTo>
                      <a:pt x="477" y="1320"/>
                    </a:lnTo>
                    <a:lnTo>
                      <a:pt x="450" y="1320"/>
                    </a:lnTo>
                    <a:lnTo>
                      <a:pt x="423" y="1349"/>
                    </a:lnTo>
                    <a:lnTo>
                      <a:pt x="396" y="1364"/>
                    </a:lnTo>
                    <a:lnTo>
                      <a:pt x="376" y="1335"/>
                    </a:lnTo>
                    <a:lnTo>
                      <a:pt x="356" y="1306"/>
                    </a:lnTo>
                    <a:lnTo>
                      <a:pt x="336" y="1277"/>
                    </a:lnTo>
                    <a:lnTo>
                      <a:pt x="316" y="1248"/>
                    </a:lnTo>
                    <a:lnTo>
                      <a:pt x="289" y="1233"/>
                    </a:lnTo>
                    <a:lnTo>
                      <a:pt x="262" y="1219"/>
                    </a:lnTo>
                    <a:lnTo>
                      <a:pt x="235" y="1190"/>
                    </a:lnTo>
                    <a:lnTo>
                      <a:pt x="208" y="1175"/>
                    </a:lnTo>
                    <a:lnTo>
                      <a:pt x="181" y="1168"/>
                    </a:lnTo>
                    <a:lnTo>
                      <a:pt x="154" y="1168"/>
                    </a:lnTo>
                    <a:lnTo>
                      <a:pt x="128" y="1175"/>
                    </a:lnTo>
                    <a:lnTo>
                      <a:pt x="101" y="1175"/>
                    </a:lnTo>
                    <a:lnTo>
                      <a:pt x="74" y="1175"/>
                    </a:lnTo>
                    <a:lnTo>
                      <a:pt x="40" y="1168"/>
                    </a:lnTo>
                    <a:lnTo>
                      <a:pt x="13" y="1161"/>
                    </a:lnTo>
                    <a:lnTo>
                      <a:pt x="40" y="1182"/>
                    </a:lnTo>
                    <a:lnTo>
                      <a:pt x="74" y="1197"/>
                    </a:lnTo>
                    <a:lnTo>
                      <a:pt x="101" y="1197"/>
                    </a:lnTo>
                    <a:lnTo>
                      <a:pt x="107" y="1226"/>
                    </a:lnTo>
                    <a:lnTo>
                      <a:pt x="141" y="1240"/>
                    </a:lnTo>
                    <a:lnTo>
                      <a:pt x="168" y="1255"/>
                    </a:lnTo>
                    <a:lnTo>
                      <a:pt x="195" y="1270"/>
                    </a:lnTo>
                    <a:lnTo>
                      <a:pt x="222" y="1299"/>
                    </a:lnTo>
                    <a:lnTo>
                      <a:pt x="235" y="1328"/>
                    </a:lnTo>
                    <a:lnTo>
                      <a:pt x="269" y="1349"/>
                    </a:lnTo>
                    <a:lnTo>
                      <a:pt x="296" y="1349"/>
                    </a:lnTo>
                    <a:lnTo>
                      <a:pt x="322" y="1364"/>
                    </a:lnTo>
                    <a:lnTo>
                      <a:pt x="349" y="1386"/>
                    </a:lnTo>
                    <a:lnTo>
                      <a:pt x="369" y="1415"/>
                    </a:lnTo>
                    <a:lnTo>
                      <a:pt x="376" y="1444"/>
                    </a:lnTo>
                    <a:lnTo>
                      <a:pt x="369" y="1473"/>
                    </a:lnTo>
                    <a:lnTo>
                      <a:pt x="356" y="1531"/>
                    </a:lnTo>
                    <a:lnTo>
                      <a:pt x="356" y="1560"/>
                    </a:lnTo>
                    <a:lnTo>
                      <a:pt x="356" y="1632"/>
                    </a:lnTo>
                    <a:lnTo>
                      <a:pt x="356" y="1661"/>
                    </a:lnTo>
                    <a:lnTo>
                      <a:pt x="349" y="1690"/>
                    </a:lnTo>
                    <a:lnTo>
                      <a:pt x="322" y="1719"/>
                    </a:lnTo>
                    <a:lnTo>
                      <a:pt x="309" y="1748"/>
                    </a:lnTo>
                    <a:lnTo>
                      <a:pt x="309" y="1785"/>
                    </a:lnTo>
                    <a:lnTo>
                      <a:pt x="296" y="1821"/>
                    </a:lnTo>
                    <a:lnTo>
                      <a:pt x="275" y="1857"/>
                    </a:lnTo>
                    <a:lnTo>
                      <a:pt x="262" y="1886"/>
                    </a:lnTo>
                    <a:lnTo>
                      <a:pt x="255" y="1915"/>
                    </a:lnTo>
                    <a:lnTo>
                      <a:pt x="235" y="1951"/>
                    </a:lnTo>
                    <a:lnTo>
                      <a:pt x="215" y="1988"/>
                    </a:lnTo>
                    <a:lnTo>
                      <a:pt x="195" y="2024"/>
                    </a:lnTo>
                    <a:lnTo>
                      <a:pt x="175" y="2053"/>
                    </a:lnTo>
                    <a:lnTo>
                      <a:pt x="168" y="2082"/>
                    </a:lnTo>
                    <a:lnTo>
                      <a:pt x="161" y="2111"/>
                    </a:lnTo>
                    <a:lnTo>
                      <a:pt x="154" y="2147"/>
                    </a:lnTo>
                    <a:lnTo>
                      <a:pt x="148" y="2184"/>
                    </a:lnTo>
                    <a:lnTo>
                      <a:pt x="134" y="2213"/>
                    </a:lnTo>
                    <a:lnTo>
                      <a:pt x="121" y="2242"/>
                    </a:lnTo>
                    <a:lnTo>
                      <a:pt x="107" y="2271"/>
                    </a:lnTo>
                    <a:lnTo>
                      <a:pt x="87" y="2300"/>
                    </a:lnTo>
                    <a:lnTo>
                      <a:pt x="67" y="2329"/>
                    </a:lnTo>
                    <a:lnTo>
                      <a:pt x="60" y="2358"/>
                    </a:lnTo>
                    <a:lnTo>
                      <a:pt x="47" y="2387"/>
                    </a:lnTo>
                    <a:lnTo>
                      <a:pt x="40" y="2416"/>
                    </a:lnTo>
                    <a:lnTo>
                      <a:pt x="27" y="2452"/>
                    </a:lnTo>
                    <a:lnTo>
                      <a:pt x="20" y="2481"/>
                    </a:lnTo>
                    <a:lnTo>
                      <a:pt x="13" y="2510"/>
                    </a:lnTo>
                    <a:lnTo>
                      <a:pt x="0" y="2539"/>
                    </a:lnTo>
                    <a:lnTo>
                      <a:pt x="20" y="2510"/>
                    </a:lnTo>
                    <a:lnTo>
                      <a:pt x="34" y="2481"/>
                    </a:lnTo>
                    <a:lnTo>
                      <a:pt x="54" y="2445"/>
                    </a:lnTo>
                    <a:lnTo>
                      <a:pt x="67" y="2416"/>
                    </a:lnTo>
                    <a:lnTo>
                      <a:pt x="81" y="2387"/>
                    </a:lnTo>
                    <a:lnTo>
                      <a:pt x="94" y="2358"/>
                    </a:lnTo>
                    <a:lnTo>
                      <a:pt x="107" y="2329"/>
                    </a:lnTo>
                    <a:lnTo>
                      <a:pt x="128" y="2300"/>
                    </a:lnTo>
                    <a:lnTo>
                      <a:pt x="148" y="2271"/>
                    </a:lnTo>
                    <a:lnTo>
                      <a:pt x="168" y="2242"/>
                    </a:lnTo>
                    <a:lnTo>
                      <a:pt x="175" y="2213"/>
                    </a:lnTo>
                    <a:lnTo>
                      <a:pt x="188" y="2176"/>
                    </a:lnTo>
                    <a:lnTo>
                      <a:pt x="201" y="2147"/>
                    </a:lnTo>
                    <a:lnTo>
                      <a:pt x="215" y="2118"/>
                    </a:lnTo>
                    <a:lnTo>
                      <a:pt x="222" y="2060"/>
                    </a:lnTo>
                    <a:lnTo>
                      <a:pt x="235" y="2031"/>
                    </a:lnTo>
                    <a:lnTo>
                      <a:pt x="242" y="2002"/>
                    </a:lnTo>
                    <a:lnTo>
                      <a:pt x="269" y="1973"/>
                    </a:lnTo>
                    <a:lnTo>
                      <a:pt x="296" y="1951"/>
                    </a:lnTo>
                    <a:lnTo>
                      <a:pt x="309" y="1922"/>
                    </a:lnTo>
                    <a:lnTo>
                      <a:pt x="316" y="1886"/>
                    </a:lnTo>
                    <a:lnTo>
                      <a:pt x="329" y="1857"/>
                    </a:lnTo>
                    <a:lnTo>
                      <a:pt x="356" y="1828"/>
                    </a:lnTo>
                    <a:lnTo>
                      <a:pt x="383" y="1792"/>
                    </a:lnTo>
                    <a:lnTo>
                      <a:pt x="403" y="1763"/>
                    </a:lnTo>
                    <a:lnTo>
                      <a:pt x="416" y="1734"/>
                    </a:lnTo>
                    <a:lnTo>
                      <a:pt x="423" y="1705"/>
                    </a:lnTo>
                    <a:lnTo>
                      <a:pt x="430" y="1668"/>
                    </a:lnTo>
                    <a:lnTo>
                      <a:pt x="430" y="1639"/>
                    </a:lnTo>
                    <a:lnTo>
                      <a:pt x="430" y="1610"/>
                    </a:lnTo>
                    <a:lnTo>
                      <a:pt x="423" y="1581"/>
                    </a:lnTo>
                    <a:lnTo>
                      <a:pt x="423" y="1552"/>
                    </a:lnTo>
                    <a:lnTo>
                      <a:pt x="423" y="1523"/>
                    </a:lnTo>
                    <a:lnTo>
                      <a:pt x="423" y="1494"/>
                    </a:lnTo>
                    <a:lnTo>
                      <a:pt x="443" y="1465"/>
                    </a:lnTo>
                    <a:lnTo>
                      <a:pt x="470" y="1458"/>
                    </a:lnTo>
                    <a:lnTo>
                      <a:pt x="497" y="1444"/>
                    </a:lnTo>
                    <a:lnTo>
                      <a:pt x="524" y="1436"/>
                    </a:lnTo>
                    <a:lnTo>
                      <a:pt x="584" y="1429"/>
                    </a:lnTo>
                    <a:lnTo>
                      <a:pt x="618" y="1415"/>
                    </a:lnTo>
                    <a:lnTo>
                      <a:pt x="651" y="1407"/>
                    </a:lnTo>
                    <a:lnTo>
                      <a:pt x="678" y="1393"/>
                    </a:lnTo>
                    <a:lnTo>
                      <a:pt x="719" y="1393"/>
                    </a:lnTo>
                    <a:lnTo>
                      <a:pt x="766" y="1378"/>
                    </a:lnTo>
                    <a:lnTo>
                      <a:pt x="792" y="1364"/>
                    </a:lnTo>
                    <a:lnTo>
                      <a:pt x="819" y="1349"/>
                    </a:lnTo>
                    <a:lnTo>
                      <a:pt x="846" y="1320"/>
                    </a:lnTo>
                    <a:lnTo>
                      <a:pt x="853" y="1284"/>
                    </a:lnTo>
                    <a:lnTo>
                      <a:pt x="866" y="1255"/>
                    </a:lnTo>
                    <a:lnTo>
                      <a:pt x="866" y="1211"/>
                    </a:lnTo>
                    <a:lnTo>
                      <a:pt x="880" y="1161"/>
                    </a:lnTo>
                    <a:lnTo>
                      <a:pt x="893" y="1103"/>
                    </a:lnTo>
                    <a:lnTo>
                      <a:pt x="907" y="1074"/>
                    </a:lnTo>
                    <a:lnTo>
                      <a:pt x="947" y="1059"/>
                    </a:lnTo>
                    <a:lnTo>
                      <a:pt x="974" y="1037"/>
                    </a:lnTo>
                    <a:lnTo>
                      <a:pt x="1001" y="1008"/>
                    </a:lnTo>
                    <a:lnTo>
                      <a:pt x="1014" y="979"/>
                    </a:lnTo>
                    <a:lnTo>
                      <a:pt x="1021" y="950"/>
                    </a:lnTo>
                    <a:lnTo>
                      <a:pt x="1034" y="914"/>
                    </a:lnTo>
                    <a:lnTo>
                      <a:pt x="1041" y="885"/>
                    </a:lnTo>
                    <a:lnTo>
                      <a:pt x="1048" y="856"/>
                    </a:lnTo>
                    <a:lnTo>
                      <a:pt x="1054" y="820"/>
                    </a:lnTo>
                    <a:lnTo>
                      <a:pt x="1061" y="791"/>
                    </a:lnTo>
                    <a:lnTo>
                      <a:pt x="1075" y="762"/>
                    </a:lnTo>
                    <a:lnTo>
                      <a:pt x="1088" y="733"/>
                    </a:lnTo>
                    <a:lnTo>
                      <a:pt x="1095" y="704"/>
                    </a:lnTo>
                    <a:lnTo>
                      <a:pt x="1108" y="675"/>
                    </a:lnTo>
                    <a:lnTo>
                      <a:pt x="1108" y="646"/>
                    </a:lnTo>
                    <a:lnTo>
                      <a:pt x="1115" y="617"/>
                    </a:lnTo>
                    <a:lnTo>
                      <a:pt x="1115" y="588"/>
                    </a:lnTo>
                    <a:lnTo>
                      <a:pt x="1115" y="551"/>
                    </a:lnTo>
                    <a:lnTo>
                      <a:pt x="1108" y="522"/>
                    </a:lnTo>
                    <a:lnTo>
                      <a:pt x="1108" y="493"/>
                    </a:lnTo>
                    <a:lnTo>
                      <a:pt x="1101" y="464"/>
                    </a:lnTo>
                    <a:lnTo>
                      <a:pt x="1088" y="435"/>
                    </a:lnTo>
                    <a:lnTo>
                      <a:pt x="1081" y="406"/>
                    </a:lnTo>
                    <a:lnTo>
                      <a:pt x="1081" y="377"/>
                    </a:lnTo>
                    <a:lnTo>
                      <a:pt x="1081" y="348"/>
                    </a:lnTo>
                    <a:lnTo>
                      <a:pt x="1081" y="319"/>
                    </a:lnTo>
                    <a:lnTo>
                      <a:pt x="1081" y="290"/>
                    </a:lnTo>
                    <a:lnTo>
                      <a:pt x="1088" y="261"/>
                    </a:lnTo>
                    <a:lnTo>
                      <a:pt x="1095" y="232"/>
                    </a:lnTo>
                    <a:lnTo>
                      <a:pt x="1108" y="203"/>
                    </a:lnTo>
                    <a:lnTo>
                      <a:pt x="1128" y="167"/>
                    </a:lnTo>
                    <a:lnTo>
                      <a:pt x="1135" y="138"/>
                    </a:lnTo>
                    <a:lnTo>
                      <a:pt x="1135" y="109"/>
                    </a:lnTo>
                    <a:lnTo>
                      <a:pt x="1128" y="80"/>
                    </a:lnTo>
                    <a:lnTo>
                      <a:pt x="1122" y="51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108160" y="1601640"/>
                <a:ext cx="3140280" cy="669960"/>
              </a:xfrm>
              <a:custGeom>
                <a:avLst/>
                <a:gdLst/>
                <a:ahLst/>
                <a:rect l="l" t="t" r="r" b="b"/>
                <a:pathLst>
                  <a:path w="1978" h="422">
                    <a:moveTo>
                      <a:pt x="40" y="73"/>
                    </a:moveTo>
                    <a:lnTo>
                      <a:pt x="87" y="65"/>
                    </a:lnTo>
                    <a:lnTo>
                      <a:pt x="128" y="58"/>
                    </a:lnTo>
                    <a:lnTo>
                      <a:pt x="168" y="51"/>
                    </a:lnTo>
                    <a:lnTo>
                      <a:pt x="195" y="51"/>
                    </a:lnTo>
                    <a:lnTo>
                      <a:pt x="222" y="44"/>
                    </a:lnTo>
                    <a:lnTo>
                      <a:pt x="249" y="29"/>
                    </a:lnTo>
                    <a:lnTo>
                      <a:pt x="276" y="29"/>
                    </a:lnTo>
                    <a:lnTo>
                      <a:pt x="309" y="22"/>
                    </a:lnTo>
                    <a:lnTo>
                      <a:pt x="370" y="7"/>
                    </a:lnTo>
                    <a:lnTo>
                      <a:pt x="403" y="7"/>
                    </a:lnTo>
                    <a:lnTo>
                      <a:pt x="451" y="0"/>
                    </a:lnTo>
                    <a:lnTo>
                      <a:pt x="477" y="0"/>
                    </a:lnTo>
                    <a:lnTo>
                      <a:pt x="504" y="0"/>
                    </a:lnTo>
                    <a:lnTo>
                      <a:pt x="531" y="22"/>
                    </a:lnTo>
                    <a:lnTo>
                      <a:pt x="558" y="22"/>
                    </a:lnTo>
                    <a:lnTo>
                      <a:pt x="585" y="36"/>
                    </a:lnTo>
                    <a:lnTo>
                      <a:pt x="632" y="51"/>
                    </a:lnTo>
                    <a:lnTo>
                      <a:pt x="666" y="65"/>
                    </a:lnTo>
                    <a:lnTo>
                      <a:pt x="693" y="80"/>
                    </a:lnTo>
                    <a:lnTo>
                      <a:pt x="720" y="80"/>
                    </a:lnTo>
                    <a:lnTo>
                      <a:pt x="746" y="87"/>
                    </a:lnTo>
                    <a:lnTo>
                      <a:pt x="773" y="87"/>
                    </a:lnTo>
                    <a:lnTo>
                      <a:pt x="800" y="94"/>
                    </a:lnTo>
                    <a:lnTo>
                      <a:pt x="834" y="109"/>
                    </a:lnTo>
                    <a:lnTo>
                      <a:pt x="867" y="131"/>
                    </a:lnTo>
                    <a:lnTo>
                      <a:pt x="894" y="138"/>
                    </a:lnTo>
                    <a:lnTo>
                      <a:pt x="921" y="138"/>
                    </a:lnTo>
                    <a:lnTo>
                      <a:pt x="955" y="138"/>
                    </a:lnTo>
                    <a:lnTo>
                      <a:pt x="982" y="145"/>
                    </a:lnTo>
                    <a:lnTo>
                      <a:pt x="1009" y="145"/>
                    </a:lnTo>
                    <a:lnTo>
                      <a:pt x="1036" y="167"/>
                    </a:lnTo>
                    <a:lnTo>
                      <a:pt x="1089" y="189"/>
                    </a:lnTo>
                    <a:lnTo>
                      <a:pt x="1150" y="189"/>
                    </a:lnTo>
                    <a:lnTo>
                      <a:pt x="1177" y="189"/>
                    </a:lnTo>
                    <a:lnTo>
                      <a:pt x="1231" y="196"/>
                    </a:lnTo>
                    <a:lnTo>
                      <a:pt x="1257" y="211"/>
                    </a:lnTo>
                    <a:lnTo>
                      <a:pt x="1291" y="225"/>
                    </a:lnTo>
                    <a:lnTo>
                      <a:pt x="1318" y="240"/>
                    </a:lnTo>
                    <a:lnTo>
                      <a:pt x="1352" y="254"/>
                    </a:lnTo>
                    <a:lnTo>
                      <a:pt x="1385" y="254"/>
                    </a:lnTo>
                    <a:lnTo>
                      <a:pt x="1432" y="261"/>
                    </a:lnTo>
                    <a:lnTo>
                      <a:pt x="1459" y="269"/>
                    </a:lnTo>
                    <a:lnTo>
                      <a:pt x="1493" y="276"/>
                    </a:lnTo>
                    <a:lnTo>
                      <a:pt x="1533" y="283"/>
                    </a:lnTo>
                    <a:lnTo>
                      <a:pt x="1580" y="290"/>
                    </a:lnTo>
                    <a:lnTo>
                      <a:pt x="1607" y="290"/>
                    </a:lnTo>
                    <a:lnTo>
                      <a:pt x="1634" y="305"/>
                    </a:lnTo>
                    <a:lnTo>
                      <a:pt x="1668" y="312"/>
                    </a:lnTo>
                    <a:lnTo>
                      <a:pt x="1695" y="327"/>
                    </a:lnTo>
                    <a:lnTo>
                      <a:pt x="1721" y="341"/>
                    </a:lnTo>
                    <a:lnTo>
                      <a:pt x="1748" y="356"/>
                    </a:lnTo>
                    <a:lnTo>
                      <a:pt x="1782" y="385"/>
                    </a:lnTo>
                    <a:lnTo>
                      <a:pt x="1809" y="392"/>
                    </a:lnTo>
                    <a:lnTo>
                      <a:pt x="1843" y="392"/>
                    </a:lnTo>
                    <a:lnTo>
                      <a:pt x="1869" y="392"/>
                    </a:lnTo>
                    <a:lnTo>
                      <a:pt x="1923" y="392"/>
                    </a:lnTo>
                    <a:lnTo>
                      <a:pt x="1950" y="399"/>
                    </a:lnTo>
                    <a:lnTo>
                      <a:pt x="1977" y="406"/>
                    </a:lnTo>
                    <a:lnTo>
                      <a:pt x="1950" y="414"/>
                    </a:lnTo>
                    <a:lnTo>
                      <a:pt x="1923" y="421"/>
                    </a:lnTo>
                    <a:lnTo>
                      <a:pt x="1883" y="421"/>
                    </a:lnTo>
                    <a:lnTo>
                      <a:pt x="1856" y="421"/>
                    </a:lnTo>
                    <a:lnTo>
                      <a:pt x="1829" y="414"/>
                    </a:lnTo>
                    <a:lnTo>
                      <a:pt x="1802" y="414"/>
                    </a:lnTo>
                    <a:lnTo>
                      <a:pt x="1775" y="414"/>
                    </a:lnTo>
                    <a:lnTo>
                      <a:pt x="1742" y="392"/>
                    </a:lnTo>
                    <a:lnTo>
                      <a:pt x="1721" y="363"/>
                    </a:lnTo>
                    <a:lnTo>
                      <a:pt x="1695" y="356"/>
                    </a:lnTo>
                    <a:lnTo>
                      <a:pt x="1661" y="341"/>
                    </a:lnTo>
                    <a:lnTo>
                      <a:pt x="1627" y="327"/>
                    </a:lnTo>
                    <a:lnTo>
                      <a:pt x="1594" y="319"/>
                    </a:lnTo>
                    <a:lnTo>
                      <a:pt x="1560" y="312"/>
                    </a:lnTo>
                    <a:lnTo>
                      <a:pt x="1533" y="305"/>
                    </a:lnTo>
                    <a:lnTo>
                      <a:pt x="1506" y="298"/>
                    </a:lnTo>
                    <a:lnTo>
                      <a:pt x="1479" y="290"/>
                    </a:lnTo>
                    <a:lnTo>
                      <a:pt x="1432" y="283"/>
                    </a:lnTo>
                    <a:lnTo>
                      <a:pt x="1405" y="276"/>
                    </a:lnTo>
                    <a:lnTo>
                      <a:pt x="1379" y="269"/>
                    </a:lnTo>
                    <a:lnTo>
                      <a:pt x="1352" y="269"/>
                    </a:lnTo>
                    <a:lnTo>
                      <a:pt x="1325" y="269"/>
                    </a:lnTo>
                    <a:lnTo>
                      <a:pt x="1298" y="261"/>
                    </a:lnTo>
                    <a:lnTo>
                      <a:pt x="1264" y="240"/>
                    </a:lnTo>
                    <a:lnTo>
                      <a:pt x="1231" y="218"/>
                    </a:lnTo>
                    <a:lnTo>
                      <a:pt x="1197" y="203"/>
                    </a:lnTo>
                    <a:lnTo>
                      <a:pt x="1170" y="196"/>
                    </a:lnTo>
                    <a:lnTo>
                      <a:pt x="1136" y="196"/>
                    </a:lnTo>
                    <a:lnTo>
                      <a:pt x="1110" y="203"/>
                    </a:lnTo>
                    <a:lnTo>
                      <a:pt x="1083" y="203"/>
                    </a:lnTo>
                    <a:lnTo>
                      <a:pt x="1056" y="203"/>
                    </a:lnTo>
                    <a:lnTo>
                      <a:pt x="1029" y="196"/>
                    </a:lnTo>
                    <a:lnTo>
                      <a:pt x="1002" y="181"/>
                    </a:lnTo>
                    <a:lnTo>
                      <a:pt x="975" y="167"/>
                    </a:lnTo>
                    <a:lnTo>
                      <a:pt x="948" y="152"/>
                    </a:lnTo>
                    <a:lnTo>
                      <a:pt x="894" y="152"/>
                    </a:lnTo>
                    <a:lnTo>
                      <a:pt x="867" y="152"/>
                    </a:lnTo>
                    <a:lnTo>
                      <a:pt x="841" y="138"/>
                    </a:lnTo>
                    <a:lnTo>
                      <a:pt x="814" y="116"/>
                    </a:lnTo>
                    <a:lnTo>
                      <a:pt x="787" y="102"/>
                    </a:lnTo>
                    <a:lnTo>
                      <a:pt x="760" y="102"/>
                    </a:lnTo>
                    <a:lnTo>
                      <a:pt x="726" y="94"/>
                    </a:lnTo>
                    <a:lnTo>
                      <a:pt x="699" y="80"/>
                    </a:lnTo>
                    <a:lnTo>
                      <a:pt x="672" y="65"/>
                    </a:lnTo>
                    <a:lnTo>
                      <a:pt x="646" y="58"/>
                    </a:lnTo>
                    <a:lnTo>
                      <a:pt x="612" y="51"/>
                    </a:lnTo>
                    <a:lnTo>
                      <a:pt x="585" y="44"/>
                    </a:lnTo>
                    <a:lnTo>
                      <a:pt x="558" y="36"/>
                    </a:lnTo>
                    <a:lnTo>
                      <a:pt x="531" y="29"/>
                    </a:lnTo>
                    <a:lnTo>
                      <a:pt x="498" y="22"/>
                    </a:lnTo>
                    <a:lnTo>
                      <a:pt x="464" y="15"/>
                    </a:lnTo>
                    <a:lnTo>
                      <a:pt x="430" y="15"/>
                    </a:lnTo>
                    <a:lnTo>
                      <a:pt x="377" y="15"/>
                    </a:lnTo>
                    <a:lnTo>
                      <a:pt x="343" y="15"/>
                    </a:lnTo>
                    <a:lnTo>
                      <a:pt x="316" y="15"/>
                    </a:lnTo>
                    <a:lnTo>
                      <a:pt x="289" y="29"/>
                    </a:lnTo>
                    <a:lnTo>
                      <a:pt x="262" y="36"/>
                    </a:lnTo>
                    <a:lnTo>
                      <a:pt x="235" y="44"/>
                    </a:lnTo>
                    <a:lnTo>
                      <a:pt x="202" y="58"/>
                    </a:lnTo>
                    <a:lnTo>
                      <a:pt x="168" y="73"/>
                    </a:lnTo>
                    <a:lnTo>
                      <a:pt x="134" y="87"/>
                    </a:lnTo>
                    <a:lnTo>
                      <a:pt x="108" y="94"/>
                    </a:lnTo>
                    <a:lnTo>
                      <a:pt x="81" y="94"/>
                    </a:lnTo>
                    <a:lnTo>
                      <a:pt x="54" y="94"/>
                    </a:lnTo>
                    <a:lnTo>
                      <a:pt x="27" y="80"/>
                    </a:lnTo>
                    <a:lnTo>
                      <a:pt x="0" y="65"/>
                    </a:lnTo>
                    <a:lnTo>
                      <a:pt x="27" y="73"/>
                    </a:lnTo>
                    <a:lnTo>
                      <a:pt x="40" y="73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02240" y="887400"/>
                <a:ext cx="2900520" cy="1397160"/>
              </a:xfrm>
              <a:custGeom>
                <a:avLst/>
                <a:gdLst/>
                <a:ahLst/>
                <a:rect l="l" t="t" r="r" b="b"/>
                <a:pathLst>
                  <a:path w="1827" h="880">
                    <a:moveTo>
                      <a:pt x="0" y="864"/>
                    </a:moveTo>
                    <a:lnTo>
                      <a:pt x="27" y="864"/>
                    </a:lnTo>
                    <a:lnTo>
                      <a:pt x="67" y="857"/>
                    </a:lnTo>
                    <a:lnTo>
                      <a:pt x="101" y="850"/>
                    </a:lnTo>
                    <a:lnTo>
                      <a:pt x="128" y="843"/>
                    </a:lnTo>
                    <a:lnTo>
                      <a:pt x="154" y="814"/>
                    </a:lnTo>
                    <a:lnTo>
                      <a:pt x="215" y="799"/>
                    </a:lnTo>
                    <a:lnTo>
                      <a:pt x="262" y="785"/>
                    </a:lnTo>
                    <a:lnTo>
                      <a:pt x="289" y="763"/>
                    </a:lnTo>
                    <a:lnTo>
                      <a:pt x="322" y="726"/>
                    </a:lnTo>
                    <a:lnTo>
                      <a:pt x="349" y="705"/>
                    </a:lnTo>
                    <a:lnTo>
                      <a:pt x="376" y="697"/>
                    </a:lnTo>
                    <a:lnTo>
                      <a:pt x="403" y="683"/>
                    </a:lnTo>
                    <a:lnTo>
                      <a:pt x="430" y="661"/>
                    </a:lnTo>
                    <a:lnTo>
                      <a:pt x="463" y="632"/>
                    </a:lnTo>
                    <a:lnTo>
                      <a:pt x="497" y="625"/>
                    </a:lnTo>
                    <a:lnTo>
                      <a:pt x="537" y="617"/>
                    </a:lnTo>
                    <a:lnTo>
                      <a:pt x="577" y="610"/>
                    </a:lnTo>
                    <a:lnTo>
                      <a:pt x="618" y="603"/>
                    </a:lnTo>
                    <a:lnTo>
                      <a:pt x="651" y="588"/>
                    </a:lnTo>
                    <a:lnTo>
                      <a:pt x="678" y="581"/>
                    </a:lnTo>
                    <a:lnTo>
                      <a:pt x="705" y="559"/>
                    </a:lnTo>
                    <a:lnTo>
                      <a:pt x="732" y="530"/>
                    </a:lnTo>
                    <a:lnTo>
                      <a:pt x="765" y="501"/>
                    </a:lnTo>
                    <a:lnTo>
                      <a:pt x="792" y="479"/>
                    </a:lnTo>
                    <a:lnTo>
                      <a:pt x="839" y="465"/>
                    </a:lnTo>
                    <a:lnTo>
                      <a:pt x="859" y="436"/>
                    </a:lnTo>
                    <a:lnTo>
                      <a:pt x="886" y="407"/>
                    </a:lnTo>
                    <a:lnTo>
                      <a:pt x="900" y="370"/>
                    </a:lnTo>
                    <a:lnTo>
                      <a:pt x="913" y="341"/>
                    </a:lnTo>
                    <a:lnTo>
                      <a:pt x="933" y="312"/>
                    </a:lnTo>
                    <a:lnTo>
                      <a:pt x="967" y="283"/>
                    </a:lnTo>
                    <a:lnTo>
                      <a:pt x="1000" y="262"/>
                    </a:lnTo>
                    <a:lnTo>
                      <a:pt x="1027" y="240"/>
                    </a:lnTo>
                    <a:lnTo>
                      <a:pt x="1061" y="218"/>
                    </a:lnTo>
                    <a:lnTo>
                      <a:pt x="1094" y="203"/>
                    </a:lnTo>
                    <a:lnTo>
                      <a:pt x="1121" y="189"/>
                    </a:lnTo>
                    <a:lnTo>
                      <a:pt x="1175" y="174"/>
                    </a:lnTo>
                    <a:lnTo>
                      <a:pt x="1202" y="182"/>
                    </a:lnTo>
                    <a:lnTo>
                      <a:pt x="1242" y="174"/>
                    </a:lnTo>
                    <a:lnTo>
                      <a:pt x="1302" y="167"/>
                    </a:lnTo>
                    <a:lnTo>
                      <a:pt x="1336" y="145"/>
                    </a:lnTo>
                    <a:lnTo>
                      <a:pt x="1363" y="131"/>
                    </a:lnTo>
                    <a:lnTo>
                      <a:pt x="1390" y="123"/>
                    </a:lnTo>
                    <a:lnTo>
                      <a:pt x="1416" y="116"/>
                    </a:lnTo>
                    <a:lnTo>
                      <a:pt x="1443" y="109"/>
                    </a:lnTo>
                    <a:lnTo>
                      <a:pt x="1470" y="102"/>
                    </a:lnTo>
                    <a:lnTo>
                      <a:pt x="1497" y="94"/>
                    </a:lnTo>
                    <a:lnTo>
                      <a:pt x="1524" y="94"/>
                    </a:lnTo>
                    <a:lnTo>
                      <a:pt x="1584" y="94"/>
                    </a:lnTo>
                    <a:lnTo>
                      <a:pt x="1611" y="87"/>
                    </a:lnTo>
                    <a:lnTo>
                      <a:pt x="1638" y="73"/>
                    </a:lnTo>
                    <a:lnTo>
                      <a:pt x="1672" y="58"/>
                    </a:lnTo>
                    <a:lnTo>
                      <a:pt x="1698" y="44"/>
                    </a:lnTo>
                    <a:lnTo>
                      <a:pt x="1732" y="36"/>
                    </a:lnTo>
                    <a:lnTo>
                      <a:pt x="1766" y="22"/>
                    </a:lnTo>
                    <a:lnTo>
                      <a:pt x="1799" y="15"/>
                    </a:lnTo>
                    <a:lnTo>
                      <a:pt x="1826" y="0"/>
                    </a:lnTo>
                    <a:lnTo>
                      <a:pt x="1792" y="0"/>
                    </a:lnTo>
                    <a:lnTo>
                      <a:pt x="1766" y="22"/>
                    </a:lnTo>
                    <a:lnTo>
                      <a:pt x="1732" y="51"/>
                    </a:lnTo>
                    <a:lnTo>
                      <a:pt x="1705" y="80"/>
                    </a:lnTo>
                    <a:lnTo>
                      <a:pt x="1678" y="102"/>
                    </a:lnTo>
                    <a:lnTo>
                      <a:pt x="1625" y="102"/>
                    </a:lnTo>
                    <a:lnTo>
                      <a:pt x="1598" y="109"/>
                    </a:lnTo>
                    <a:lnTo>
                      <a:pt x="1564" y="116"/>
                    </a:lnTo>
                    <a:lnTo>
                      <a:pt x="1531" y="131"/>
                    </a:lnTo>
                    <a:lnTo>
                      <a:pt x="1484" y="138"/>
                    </a:lnTo>
                    <a:lnTo>
                      <a:pt x="1457" y="145"/>
                    </a:lnTo>
                    <a:lnTo>
                      <a:pt x="1430" y="145"/>
                    </a:lnTo>
                    <a:lnTo>
                      <a:pt x="1396" y="160"/>
                    </a:lnTo>
                    <a:lnTo>
                      <a:pt x="1370" y="160"/>
                    </a:lnTo>
                    <a:lnTo>
                      <a:pt x="1329" y="167"/>
                    </a:lnTo>
                    <a:lnTo>
                      <a:pt x="1302" y="174"/>
                    </a:lnTo>
                    <a:lnTo>
                      <a:pt x="1276" y="189"/>
                    </a:lnTo>
                    <a:lnTo>
                      <a:pt x="1242" y="203"/>
                    </a:lnTo>
                    <a:lnTo>
                      <a:pt x="1208" y="218"/>
                    </a:lnTo>
                    <a:lnTo>
                      <a:pt x="1175" y="218"/>
                    </a:lnTo>
                    <a:lnTo>
                      <a:pt x="1148" y="225"/>
                    </a:lnTo>
                    <a:lnTo>
                      <a:pt x="1121" y="240"/>
                    </a:lnTo>
                    <a:lnTo>
                      <a:pt x="1094" y="247"/>
                    </a:lnTo>
                    <a:lnTo>
                      <a:pt x="1067" y="262"/>
                    </a:lnTo>
                    <a:lnTo>
                      <a:pt x="1041" y="276"/>
                    </a:lnTo>
                    <a:lnTo>
                      <a:pt x="1014" y="298"/>
                    </a:lnTo>
                    <a:lnTo>
                      <a:pt x="987" y="312"/>
                    </a:lnTo>
                    <a:lnTo>
                      <a:pt x="960" y="327"/>
                    </a:lnTo>
                    <a:lnTo>
                      <a:pt x="933" y="341"/>
                    </a:lnTo>
                    <a:lnTo>
                      <a:pt x="913" y="370"/>
                    </a:lnTo>
                    <a:lnTo>
                      <a:pt x="893" y="400"/>
                    </a:lnTo>
                    <a:lnTo>
                      <a:pt x="886" y="443"/>
                    </a:lnTo>
                    <a:lnTo>
                      <a:pt x="866" y="472"/>
                    </a:lnTo>
                    <a:lnTo>
                      <a:pt x="846" y="509"/>
                    </a:lnTo>
                    <a:lnTo>
                      <a:pt x="819" y="530"/>
                    </a:lnTo>
                    <a:lnTo>
                      <a:pt x="792" y="545"/>
                    </a:lnTo>
                    <a:lnTo>
                      <a:pt x="759" y="559"/>
                    </a:lnTo>
                    <a:lnTo>
                      <a:pt x="732" y="567"/>
                    </a:lnTo>
                    <a:lnTo>
                      <a:pt x="705" y="581"/>
                    </a:lnTo>
                    <a:lnTo>
                      <a:pt x="665" y="588"/>
                    </a:lnTo>
                    <a:lnTo>
                      <a:pt x="638" y="596"/>
                    </a:lnTo>
                    <a:lnTo>
                      <a:pt x="591" y="610"/>
                    </a:lnTo>
                    <a:lnTo>
                      <a:pt x="564" y="632"/>
                    </a:lnTo>
                    <a:lnTo>
                      <a:pt x="537" y="647"/>
                    </a:lnTo>
                    <a:lnTo>
                      <a:pt x="503" y="654"/>
                    </a:lnTo>
                    <a:lnTo>
                      <a:pt x="477" y="654"/>
                    </a:lnTo>
                    <a:lnTo>
                      <a:pt x="436" y="661"/>
                    </a:lnTo>
                    <a:lnTo>
                      <a:pt x="403" y="676"/>
                    </a:lnTo>
                    <a:lnTo>
                      <a:pt x="376" y="697"/>
                    </a:lnTo>
                    <a:lnTo>
                      <a:pt x="356" y="734"/>
                    </a:lnTo>
                    <a:lnTo>
                      <a:pt x="329" y="756"/>
                    </a:lnTo>
                    <a:lnTo>
                      <a:pt x="302" y="777"/>
                    </a:lnTo>
                    <a:lnTo>
                      <a:pt x="262" y="785"/>
                    </a:lnTo>
                    <a:lnTo>
                      <a:pt x="208" y="799"/>
                    </a:lnTo>
                    <a:lnTo>
                      <a:pt x="181" y="821"/>
                    </a:lnTo>
                    <a:lnTo>
                      <a:pt x="154" y="835"/>
                    </a:lnTo>
                    <a:lnTo>
                      <a:pt x="128" y="857"/>
                    </a:lnTo>
                    <a:lnTo>
                      <a:pt x="101" y="872"/>
                    </a:lnTo>
                    <a:lnTo>
                      <a:pt x="74" y="879"/>
                    </a:lnTo>
                    <a:lnTo>
                      <a:pt x="47" y="879"/>
                    </a:lnTo>
                    <a:lnTo>
                      <a:pt x="13" y="872"/>
                    </a:lnTo>
                    <a:lnTo>
                      <a:pt x="0" y="864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3120" y="565200"/>
                <a:ext cx="7638840" cy="5495760"/>
              </a:xfrm>
              <a:custGeom>
                <a:avLst/>
                <a:gdLst/>
                <a:ahLst/>
                <a:rect l="l" t="t" r="r" b="b"/>
                <a:pathLst>
                  <a:path w="4812" h="3462">
                    <a:moveTo>
                      <a:pt x="101" y="0"/>
                    </a:moveTo>
                    <a:lnTo>
                      <a:pt x="141" y="44"/>
                    </a:lnTo>
                    <a:lnTo>
                      <a:pt x="182" y="76"/>
                    </a:lnTo>
                    <a:lnTo>
                      <a:pt x="222" y="109"/>
                    </a:lnTo>
                    <a:lnTo>
                      <a:pt x="262" y="141"/>
                    </a:lnTo>
                    <a:lnTo>
                      <a:pt x="282" y="185"/>
                    </a:lnTo>
                    <a:lnTo>
                      <a:pt x="323" y="218"/>
                    </a:lnTo>
                    <a:lnTo>
                      <a:pt x="363" y="261"/>
                    </a:lnTo>
                    <a:lnTo>
                      <a:pt x="403" y="305"/>
                    </a:lnTo>
                    <a:lnTo>
                      <a:pt x="444" y="348"/>
                    </a:lnTo>
                    <a:lnTo>
                      <a:pt x="484" y="370"/>
                    </a:lnTo>
                    <a:lnTo>
                      <a:pt x="524" y="414"/>
                    </a:lnTo>
                    <a:lnTo>
                      <a:pt x="565" y="435"/>
                    </a:lnTo>
                    <a:lnTo>
                      <a:pt x="605" y="446"/>
                    </a:lnTo>
                    <a:lnTo>
                      <a:pt x="646" y="479"/>
                    </a:lnTo>
                    <a:lnTo>
                      <a:pt x="686" y="501"/>
                    </a:lnTo>
                    <a:lnTo>
                      <a:pt x="716" y="544"/>
                    </a:lnTo>
                    <a:lnTo>
                      <a:pt x="756" y="566"/>
                    </a:lnTo>
                    <a:lnTo>
                      <a:pt x="797" y="588"/>
                    </a:lnTo>
                    <a:lnTo>
                      <a:pt x="817" y="664"/>
                    </a:lnTo>
                    <a:lnTo>
                      <a:pt x="847" y="707"/>
                    </a:lnTo>
                    <a:lnTo>
                      <a:pt x="888" y="729"/>
                    </a:lnTo>
                    <a:lnTo>
                      <a:pt x="928" y="762"/>
                    </a:lnTo>
                    <a:lnTo>
                      <a:pt x="958" y="805"/>
                    </a:lnTo>
                    <a:lnTo>
                      <a:pt x="999" y="805"/>
                    </a:lnTo>
                    <a:lnTo>
                      <a:pt x="1029" y="849"/>
                    </a:lnTo>
                    <a:lnTo>
                      <a:pt x="1069" y="871"/>
                    </a:lnTo>
                    <a:lnTo>
                      <a:pt x="1109" y="892"/>
                    </a:lnTo>
                    <a:lnTo>
                      <a:pt x="1150" y="925"/>
                    </a:lnTo>
                    <a:lnTo>
                      <a:pt x="1190" y="925"/>
                    </a:lnTo>
                    <a:lnTo>
                      <a:pt x="1230" y="947"/>
                    </a:lnTo>
                    <a:lnTo>
                      <a:pt x="1281" y="969"/>
                    </a:lnTo>
                    <a:lnTo>
                      <a:pt x="1321" y="1012"/>
                    </a:lnTo>
                    <a:lnTo>
                      <a:pt x="1362" y="1023"/>
                    </a:lnTo>
                    <a:lnTo>
                      <a:pt x="1402" y="1067"/>
                    </a:lnTo>
                    <a:lnTo>
                      <a:pt x="1422" y="1121"/>
                    </a:lnTo>
                    <a:lnTo>
                      <a:pt x="1473" y="1165"/>
                    </a:lnTo>
                    <a:lnTo>
                      <a:pt x="1523" y="1197"/>
                    </a:lnTo>
                    <a:lnTo>
                      <a:pt x="1573" y="1241"/>
                    </a:lnTo>
                    <a:lnTo>
                      <a:pt x="1614" y="1252"/>
                    </a:lnTo>
                    <a:lnTo>
                      <a:pt x="1664" y="1284"/>
                    </a:lnTo>
                    <a:lnTo>
                      <a:pt x="1705" y="1328"/>
                    </a:lnTo>
                    <a:lnTo>
                      <a:pt x="1795" y="1350"/>
                    </a:lnTo>
                    <a:lnTo>
                      <a:pt x="1836" y="1382"/>
                    </a:lnTo>
                    <a:lnTo>
                      <a:pt x="1856" y="1437"/>
                    </a:lnTo>
                    <a:lnTo>
                      <a:pt x="1866" y="1513"/>
                    </a:lnTo>
                    <a:lnTo>
                      <a:pt x="1916" y="1556"/>
                    </a:lnTo>
                    <a:lnTo>
                      <a:pt x="1967" y="1567"/>
                    </a:lnTo>
                    <a:lnTo>
                      <a:pt x="2017" y="1578"/>
                    </a:lnTo>
                    <a:lnTo>
                      <a:pt x="2058" y="1611"/>
                    </a:lnTo>
                    <a:lnTo>
                      <a:pt x="2098" y="1643"/>
                    </a:lnTo>
                    <a:lnTo>
                      <a:pt x="2138" y="1665"/>
                    </a:lnTo>
                    <a:lnTo>
                      <a:pt x="2199" y="1665"/>
                    </a:lnTo>
                    <a:lnTo>
                      <a:pt x="2239" y="1676"/>
                    </a:lnTo>
                    <a:lnTo>
                      <a:pt x="2279" y="1687"/>
                    </a:lnTo>
                    <a:lnTo>
                      <a:pt x="2300" y="1774"/>
                    </a:lnTo>
                    <a:lnTo>
                      <a:pt x="2320" y="1818"/>
                    </a:lnTo>
                    <a:lnTo>
                      <a:pt x="2370" y="1861"/>
                    </a:lnTo>
                    <a:lnTo>
                      <a:pt x="2411" y="1883"/>
                    </a:lnTo>
                    <a:lnTo>
                      <a:pt x="2421" y="1926"/>
                    </a:lnTo>
                    <a:lnTo>
                      <a:pt x="2431" y="1970"/>
                    </a:lnTo>
                    <a:lnTo>
                      <a:pt x="2451" y="2013"/>
                    </a:lnTo>
                    <a:lnTo>
                      <a:pt x="2481" y="2068"/>
                    </a:lnTo>
                    <a:lnTo>
                      <a:pt x="2511" y="2122"/>
                    </a:lnTo>
                    <a:lnTo>
                      <a:pt x="2521" y="2166"/>
                    </a:lnTo>
                    <a:lnTo>
                      <a:pt x="2532" y="2209"/>
                    </a:lnTo>
                    <a:lnTo>
                      <a:pt x="2552" y="2253"/>
                    </a:lnTo>
                    <a:lnTo>
                      <a:pt x="2602" y="2296"/>
                    </a:lnTo>
                    <a:lnTo>
                      <a:pt x="2643" y="2318"/>
                    </a:lnTo>
                    <a:lnTo>
                      <a:pt x="2673" y="2362"/>
                    </a:lnTo>
                    <a:lnTo>
                      <a:pt x="2632" y="2362"/>
                    </a:lnTo>
                    <a:lnTo>
                      <a:pt x="2592" y="2362"/>
                    </a:lnTo>
                    <a:lnTo>
                      <a:pt x="2542" y="2351"/>
                    </a:lnTo>
                    <a:lnTo>
                      <a:pt x="2501" y="2340"/>
                    </a:lnTo>
                    <a:lnTo>
                      <a:pt x="2461" y="2340"/>
                    </a:lnTo>
                    <a:lnTo>
                      <a:pt x="2421" y="2340"/>
                    </a:lnTo>
                    <a:lnTo>
                      <a:pt x="2380" y="2307"/>
                    </a:lnTo>
                    <a:lnTo>
                      <a:pt x="2330" y="2296"/>
                    </a:lnTo>
                    <a:lnTo>
                      <a:pt x="2290" y="2296"/>
                    </a:lnTo>
                    <a:lnTo>
                      <a:pt x="2249" y="2318"/>
                    </a:lnTo>
                    <a:lnTo>
                      <a:pt x="2209" y="2329"/>
                    </a:lnTo>
                    <a:lnTo>
                      <a:pt x="2168" y="2329"/>
                    </a:lnTo>
                    <a:lnTo>
                      <a:pt x="2128" y="2329"/>
                    </a:lnTo>
                    <a:lnTo>
                      <a:pt x="2088" y="2329"/>
                    </a:lnTo>
                    <a:lnTo>
                      <a:pt x="2047" y="2329"/>
                    </a:lnTo>
                    <a:lnTo>
                      <a:pt x="2007" y="2329"/>
                    </a:lnTo>
                    <a:lnTo>
                      <a:pt x="1957" y="2340"/>
                    </a:lnTo>
                    <a:lnTo>
                      <a:pt x="1906" y="2340"/>
                    </a:lnTo>
                    <a:lnTo>
                      <a:pt x="1866" y="2318"/>
                    </a:lnTo>
                    <a:lnTo>
                      <a:pt x="1815" y="2307"/>
                    </a:lnTo>
                    <a:lnTo>
                      <a:pt x="1745" y="2318"/>
                    </a:lnTo>
                    <a:lnTo>
                      <a:pt x="1705" y="2340"/>
                    </a:lnTo>
                    <a:lnTo>
                      <a:pt x="1664" y="2362"/>
                    </a:lnTo>
                    <a:lnTo>
                      <a:pt x="1624" y="2373"/>
                    </a:lnTo>
                    <a:lnTo>
                      <a:pt x="1583" y="2373"/>
                    </a:lnTo>
                    <a:lnTo>
                      <a:pt x="1543" y="2373"/>
                    </a:lnTo>
                    <a:lnTo>
                      <a:pt x="1473" y="2373"/>
                    </a:lnTo>
                    <a:lnTo>
                      <a:pt x="1432" y="2373"/>
                    </a:lnTo>
                    <a:lnTo>
                      <a:pt x="1352" y="2373"/>
                    </a:lnTo>
                    <a:lnTo>
                      <a:pt x="1311" y="2373"/>
                    </a:lnTo>
                    <a:lnTo>
                      <a:pt x="1271" y="2384"/>
                    </a:lnTo>
                    <a:lnTo>
                      <a:pt x="1230" y="2405"/>
                    </a:lnTo>
                    <a:lnTo>
                      <a:pt x="1190" y="2405"/>
                    </a:lnTo>
                    <a:lnTo>
                      <a:pt x="1150" y="2405"/>
                    </a:lnTo>
                    <a:lnTo>
                      <a:pt x="1109" y="2405"/>
                    </a:lnTo>
                    <a:lnTo>
                      <a:pt x="1069" y="2405"/>
                    </a:lnTo>
                    <a:lnTo>
                      <a:pt x="1029" y="2405"/>
                    </a:lnTo>
                    <a:lnTo>
                      <a:pt x="988" y="2394"/>
                    </a:lnTo>
                    <a:lnTo>
                      <a:pt x="948" y="2362"/>
                    </a:lnTo>
                    <a:lnTo>
                      <a:pt x="918" y="2318"/>
                    </a:lnTo>
                    <a:lnTo>
                      <a:pt x="877" y="2286"/>
                    </a:lnTo>
                    <a:lnTo>
                      <a:pt x="837" y="2275"/>
                    </a:lnTo>
                    <a:lnTo>
                      <a:pt x="797" y="2253"/>
                    </a:lnTo>
                    <a:lnTo>
                      <a:pt x="736" y="2242"/>
                    </a:lnTo>
                    <a:lnTo>
                      <a:pt x="696" y="2220"/>
                    </a:lnTo>
                    <a:lnTo>
                      <a:pt x="656" y="2220"/>
                    </a:lnTo>
                    <a:lnTo>
                      <a:pt x="615" y="2198"/>
                    </a:lnTo>
                    <a:lnTo>
                      <a:pt x="565" y="2144"/>
                    </a:lnTo>
                    <a:lnTo>
                      <a:pt x="524" y="2122"/>
                    </a:lnTo>
                    <a:lnTo>
                      <a:pt x="474" y="2122"/>
                    </a:lnTo>
                    <a:lnTo>
                      <a:pt x="434" y="2101"/>
                    </a:lnTo>
                    <a:lnTo>
                      <a:pt x="383" y="2057"/>
                    </a:lnTo>
                    <a:lnTo>
                      <a:pt x="313" y="2013"/>
                    </a:lnTo>
                    <a:lnTo>
                      <a:pt x="272" y="1981"/>
                    </a:lnTo>
                    <a:lnTo>
                      <a:pt x="232" y="1970"/>
                    </a:lnTo>
                    <a:lnTo>
                      <a:pt x="192" y="1937"/>
                    </a:lnTo>
                    <a:lnTo>
                      <a:pt x="161" y="1894"/>
                    </a:lnTo>
                    <a:lnTo>
                      <a:pt x="121" y="1839"/>
                    </a:lnTo>
                    <a:lnTo>
                      <a:pt x="71" y="1785"/>
                    </a:lnTo>
                    <a:lnTo>
                      <a:pt x="30" y="1752"/>
                    </a:lnTo>
                    <a:lnTo>
                      <a:pt x="50" y="1796"/>
                    </a:lnTo>
                    <a:lnTo>
                      <a:pt x="91" y="1828"/>
                    </a:lnTo>
                    <a:lnTo>
                      <a:pt x="121" y="1872"/>
                    </a:lnTo>
                    <a:lnTo>
                      <a:pt x="151" y="1916"/>
                    </a:lnTo>
                    <a:lnTo>
                      <a:pt x="192" y="1959"/>
                    </a:lnTo>
                    <a:lnTo>
                      <a:pt x="232" y="1981"/>
                    </a:lnTo>
                    <a:lnTo>
                      <a:pt x="282" y="2013"/>
                    </a:lnTo>
                    <a:lnTo>
                      <a:pt x="323" y="2035"/>
                    </a:lnTo>
                    <a:lnTo>
                      <a:pt x="363" y="2068"/>
                    </a:lnTo>
                    <a:lnTo>
                      <a:pt x="403" y="2090"/>
                    </a:lnTo>
                    <a:lnTo>
                      <a:pt x="444" y="2111"/>
                    </a:lnTo>
                    <a:lnTo>
                      <a:pt x="484" y="2122"/>
                    </a:lnTo>
                    <a:lnTo>
                      <a:pt x="524" y="2155"/>
                    </a:lnTo>
                    <a:lnTo>
                      <a:pt x="565" y="2188"/>
                    </a:lnTo>
                    <a:lnTo>
                      <a:pt x="615" y="2231"/>
                    </a:lnTo>
                    <a:lnTo>
                      <a:pt x="656" y="2231"/>
                    </a:lnTo>
                    <a:lnTo>
                      <a:pt x="696" y="2231"/>
                    </a:lnTo>
                    <a:lnTo>
                      <a:pt x="736" y="2275"/>
                    </a:lnTo>
                    <a:lnTo>
                      <a:pt x="787" y="2286"/>
                    </a:lnTo>
                    <a:lnTo>
                      <a:pt x="827" y="2296"/>
                    </a:lnTo>
                    <a:lnTo>
                      <a:pt x="908" y="2329"/>
                    </a:lnTo>
                    <a:lnTo>
                      <a:pt x="948" y="2373"/>
                    </a:lnTo>
                    <a:lnTo>
                      <a:pt x="999" y="2427"/>
                    </a:lnTo>
                    <a:lnTo>
                      <a:pt x="938" y="2438"/>
                    </a:lnTo>
                    <a:lnTo>
                      <a:pt x="888" y="2405"/>
                    </a:lnTo>
                    <a:lnTo>
                      <a:pt x="847" y="2394"/>
                    </a:lnTo>
                    <a:lnTo>
                      <a:pt x="807" y="2405"/>
                    </a:lnTo>
                    <a:lnTo>
                      <a:pt x="767" y="2427"/>
                    </a:lnTo>
                    <a:lnTo>
                      <a:pt x="716" y="2427"/>
                    </a:lnTo>
                    <a:lnTo>
                      <a:pt x="635" y="2416"/>
                    </a:lnTo>
                    <a:lnTo>
                      <a:pt x="595" y="2394"/>
                    </a:lnTo>
                    <a:lnTo>
                      <a:pt x="555" y="2405"/>
                    </a:lnTo>
                    <a:lnTo>
                      <a:pt x="514" y="2427"/>
                    </a:lnTo>
                    <a:lnTo>
                      <a:pt x="474" y="2438"/>
                    </a:lnTo>
                    <a:lnTo>
                      <a:pt x="403" y="2471"/>
                    </a:lnTo>
                    <a:lnTo>
                      <a:pt x="373" y="2547"/>
                    </a:lnTo>
                    <a:lnTo>
                      <a:pt x="333" y="2569"/>
                    </a:lnTo>
                    <a:lnTo>
                      <a:pt x="292" y="2579"/>
                    </a:lnTo>
                    <a:lnTo>
                      <a:pt x="252" y="2569"/>
                    </a:lnTo>
                    <a:lnTo>
                      <a:pt x="212" y="2569"/>
                    </a:lnTo>
                    <a:lnTo>
                      <a:pt x="171" y="2569"/>
                    </a:lnTo>
                    <a:lnTo>
                      <a:pt x="121" y="2569"/>
                    </a:lnTo>
                    <a:lnTo>
                      <a:pt x="81" y="2569"/>
                    </a:lnTo>
                    <a:lnTo>
                      <a:pt x="40" y="2569"/>
                    </a:lnTo>
                    <a:lnTo>
                      <a:pt x="0" y="2569"/>
                    </a:lnTo>
                    <a:lnTo>
                      <a:pt x="71" y="2569"/>
                    </a:lnTo>
                    <a:lnTo>
                      <a:pt x="131" y="2569"/>
                    </a:lnTo>
                    <a:lnTo>
                      <a:pt x="171" y="2590"/>
                    </a:lnTo>
                    <a:lnTo>
                      <a:pt x="212" y="2612"/>
                    </a:lnTo>
                    <a:lnTo>
                      <a:pt x="252" y="2612"/>
                    </a:lnTo>
                    <a:lnTo>
                      <a:pt x="292" y="2612"/>
                    </a:lnTo>
                    <a:lnTo>
                      <a:pt x="333" y="2590"/>
                    </a:lnTo>
                    <a:lnTo>
                      <a:pt x="373" y="2547"/>
                    </a:lnTo>
                    <a:lnTo>
                      <a:pt x="424" y="2503"/>
                    </a:lnTo>
                    <a:lnTo>
                      <a:pt x="464" y="2481"/>
                    </a:lnTo>
                    <a:lnTo>
                      <a:pt x="504" y="2449"/>
                    </a:lnTo>
                    <a:lnTo>
                      <a:pt x="555" y="2438"/>
                    </a:lnTo>
                    <a:lnTo>
                      <a:pt x="595" y="2438"/>
                    </a:lnTo>
                    <a:lnTo>
                      <a:pt x="635" y="2438"/>
                    </a:lnTo>
                    <a:lnTo>
                      <a:pt x="676" y="2438"/>
                    </a:lnTo>
                    <a:lnTo>
                      <a:pt x="716" y="2438"/>
                    </a:lnTo>
                    <a:lnTo>
                      <a:pt x="756" y="2438"/>
                    </a:lnTo>
                    <a:lnTo>
                      <a:pt x="797" y="2427"/>
                    </a:lnTo>
                    <a:lnTo>
                      <a:pt x="847" y="2416"/>
                    </a:lnTo>
                    <a:lnTo>
                      <a:pt x="888" y="2438"/>
                    </a:lnTo>
                    <a:lnTo>
                      <a:pt x="928" y="2449"/>
                    </a:lnTo>
                    <a:lnTo>
                      <a:pt x="978" y="2460"/>
                    </a:lnTo>
                    <a:lnTo>
                      <a:pt x="1019" y="2460"/>
                    </a:lnTo>
                    <a:lnTo>
                      <a:pt x="1049" y="2416"/>
                    </a:lnTo>
                    <a:lnTo>
                      <a:pt x="1089" y="2405"/>
                    </a:lnTo>
                    <a:lnTo>
                      <a:pt x="1130" y="2427"/>
                    </a:lnTo>
                    <a:lnTo>
                      <a:pt x="1170" y="2460"/>
                    </a:lnTo>
                    <a:lnTo>
                      <a:pt x="1210" y="2481"/>
                    </a:lnTo>
                    <a:lnTo>
                      <a:pt x="1251" y="2481"/>
                    </a:lnTo>
                    <a:lnTo>
                      <a:pt x="1291" y="2503"/>
                    </a:lnTo>
                    <a:lnTo>
                      <a:pt x="1341" y="2525"/>
                    </a:lnTo>
                    <a:lnTo>
                      <a:pt x="1382" y="2536"/>
                    </a:lnTo>
                    <a:lnTo>
                      <a:pt x="1422" y="2547"/>
                    </a:lnTo>
                    <a:lnTo>
                      <a:pt x="1493" y="2558"/>
                    </a:lnTo>
                    <a:lnTo>
                      <a:pt x="1553" y="2569"/>
                    </a:lnTo>
                    <a:lnTo>
                      <a:pt x="1594" y="2612"/>
                    </a:lnTo>
                    <a:lnTo>
                      <a:pt x="1604" y="2656"/>
                    </a:lnTo>
                    <a:lnTo>
                      <a:pt x="1684" y="2710"/>
                    </a:lnTo>
                    <a:lnTo>
                      <a:pt x="1725" y="2743"/>
                    </a:lnTo>
                    <a:lnTo>
                      <a:pt x="1755" y="2819"/>
                    </a:lnTo>
                    <a:lnTo>
                      <a:pt x="1785" y="2862"/>
                    </a:lnTo>
                    <a:lnTo>
                      <a:pt x="1705" y="2873"/>
                    </a:lnTo>
                    <a:lnTo>
                      <a:pt x="1664" y="2906"/>
                    </a:lnTo>
                    <a:lnTo>
                      <a:pt x="1634" y="2949"/>
                    </a:lnTo>
                    <a:lnTo>
                      <a:pt x="1624" y="3004"/>
                    </a:lnTo>
                    <a:lnTo>
                      <a:pt x="1533" y="3037"/>
                    </a:lnTo>
                    <a:lnTo>
                      <a:pt x="1452" y="3047"/>
                    </a:lnTo>
                    <a:lnTo>
                      <a:pt x="1402" y="3080"/>
                    </a:lnTo>
                    <a:lnTo>
                      <a:pt x="1352" y="3134"/>
                    </a:lnTo>
                    <a:lnTo>
                      <a:pt x="1311" y="3156"/>
                    </a:lnTo>
                    <a:lnTo>
                      <a:pt x="1271" y="3167"/>
                    </a:lnTo>
                    <a:lnTo>
                      <a:pt x="1230" y="3167"/>
                    </a:lnTo>
                    <a:lnTo>
                      <a:pt x="1190" y="3167"/>
                    </a:lnTo>
                    <a:lnTo>
                      <a:pt x="1150" y="3178"/>
                    </a:lnTo>
                    <a:lnTo>
                      <a:pt x="1069" y="3189"/>
                    </a:lnTo>
                    <a:lnTo>
                      <a:pt x="1029" y="3200"/>
                    </a:lnTo>
                    <a:lnTo>
                      <a:pt x="968" y="3211"/>
                    </a:lnTo>
                    <a:lnTo>
                      <a:pt x="908" y="3211"/>
                    </a:lnTo>
                    <a:lnTo>
                      <a:pt x="867" y="3211"/>
                    </a:lnTo>
                    <a:lnTo>
                      <a:pt x="827" y="3222"/>
                    </a:lnTo>
                    <a:lnTo>
                      <a:pt x="777" y="3243"/>
                    </a:lnTo>
                    <a:lnTo>
                      <a:pt x="736" y="3265"/>
                    </a:lnTo>
                    <a:lnTo>
                      <a:pt x="696" y="3287"/>
                    </a:lnTo>
                    <a:lnTo>
                      <a:pt x="656" y="3298"/>
                    </a:lnTo>
                    <a:lnTo>
                      <a:pt x="595" y="3298"/>
                    </a:lnTo>
                    <a:lnTo>
                      <a:pt x="555" y="3309"/>
                    </a:lnTo>
                    <a:lnTo>
                      <a:pt x="514" y="3309"/>
                    </a:lnTo>
                    <a:lnTo>
                      <a:pt x="474" y="3320"/>
                    </a:lnTo>
                    <a:lnTo>
                      <a:pt x="403" y="3320"/>
                    </a:lnTo>
                    <a:lnTo>
                      <a:pt x="363" y="3320"/>
                    </a:lnTo>
                    <a:lnTo>
                      <a:pt x="323" y="3320"/>
                    </a:lnTo>
                    <a:lnTo>
                      <a:pt x="282" y="3320"/>
                    </a:lnTo>
                    <a:lnTo>
                      <a:pt x="242" y="3320"/>
                    </a:lnTo>
                    <a:lnTo>
                      <a:pt x="202" y="3330"/>
                    </a:lnTo>
                    <a:lnTo>
                      <a:pt x="161" y="3341"/>
                    </a:lnTo>
                    <a:lnTo>
                      <a:pt x="91" y="3341"/>
                    </a:lnTo>
                    <a:lnTo>
                      <a:pt x="50" y="3352"/>
                    </a:lnTo>
                    <a:lnTo>
                      <a:pt x="10" y="3396"/>
                    </a:lnTo>
                    <a:lnTo>
                      <a:pt x="50" y="3396"/>
                    </a:lnTo>
                    <a:lnTo>
                      <a:pt x="91" y="3374"/>
                    </a:lnTo>
                    <a:lnTo>
                      <a:pt x="131" y="3352"/>
                    </a:lnTo>
                    <a:lnTo>
                      <a:pt x="171" y="3341"/>
                    </a:lnTo>
                    <a:lnTo>
                      <a:pt x="212" y="3341"/>
                    </a:lnTo>
                    <a:lnTo>
                      <a:pt x="252" y="3330"/>
                    </a:lnTo>
                    <a:lnTo>
                      <a:pt x="292" y="3320"/>
                    </a:lnTo>
                    <a:lnTo>
                      <a:pt x="333" y="3309"/>
                    </a:lnTo>
                    <a:lnTo>
                      <a:pt x="373" y="3309"/>
                    </a:lnTo>
                    <a:lnTo>
                      <a:pt x="414" y="3309"/>
                    </a:lnTo>
                    <a:lnTo>
                      <a:pt x="474" y="3320"/>
                    </a:lnTo>
                    <a:lnTo>
                      <a:pt x="555" y="3320"/>
                    </a:lnTo>
                    <a:lnTo>
                      <a:pt x="595" y="3320"/>
                    </a:lnTo>
                    <a:lnTo>
                      <a:pt x="635" y="3320"/>
                    </a:lnTo>
                    <a:lnTo>
                      <a:pt x="676" y="3309"/>
                    </a:lnTo>
                    <a:lnTo>
                      <a:pt x="716" y="3309"/>
                    </a:lnTo>
                    <a:lnTo>
                      <a:pt x="767" y="3298"/>
                    </a:lnTo>
                    <a:lnTo>
                      <a:pt x="807" y="3265"/>
                    </a:lnTo>
                    <a:lnTo>
                      <a:pt x="847" y="3243"/>
                    </a:lnTo>
                    <a:lnTo>
                      <a:pt x="888" y="3243"/>
                    </a:lnTo>
                    <a:lnTo>
                      <a:pt x="938" y="3243"/>
                    </a:lnTo>
                    <a:lnTo>
                      <a:pt x="978" y="3222"/>
                    </a:lnTo>
                    <a:lnTo>
                      <a:pt x="1029" y="3211"/>
                    </a:lnTo>
                    <a:lnTo>
                      <a:pt x="1109" y="3211"/>
                    </a:lnTo>
                    <a:lnTo>
                      <a:pt x="1150" y="3211"/>
                    </a:lnTo>
                    <a:lnTo>
                      <a:pt x="1200" y="3200"/>
                    </a:lnTo>
                    <a:lnTo>
                      <a:pt x="1241" y="3189"/>
                    </a:lnTo>
                    <a:lnTo>
                      <a:pt x="1291" y="3200"/>
                    </a:lnTo>
                    <a:lnTo>
                      <a:pt x="1341" y="3200"/>
                    </a:lnTo>
                    <a:lnTo>
                      <a:pt x="1382" y="3178"/>
                    </a:lnTo>
                    <a:lnTo>
                      <a:pt x="1412" y="3134"/>
                    </a:lnTo>
                    <a:lnTo>
                      <a:pt x="1432" y="3091"/>
                    </a:lnTo>
                    <a:lnTo>
                      <a:pt x="1473" y="3080"/>
                    </a:lnTo>
                    <a:lnTo>
                      <a:pt x="1533" y="3069"/>
                    </a:lnTo>
                    <a:lnTo>
                      <a:pt x="1573" y="3047"/>
                    </a:lnTo>
                    <a:lnTo>
                      <a:pt x="1614" y="3015"/>
                    </a:lnTo>
                    <a:lnTo>
                      <a:pt x="1654" y="2982"/>
                    </a:lnTo>
                    <a:lnTo>
                      <a:pt x="1694" y="2939"/>
                    </a:lnTo>
                    <a:lnTo>
                      <a:pt x="1735" y="2928"/>
                    </a:lnTo>
                    <a:lnTo>
                      <a:pt x="1775" y="2895"/>
                    </a:lnTo>
                    <a:lnTo>
                      <a:pt x="1815" y="2873"/>
                    </a:lnTo>
                    <a:lnTo>
                      <a:pt x="1856" y="2862"/>
                    </a:lnTo>
                    <a:lnTo>
                      <a:pt x="1896" y="2884"/>
                    </a:lnTo>
                    <a:lnTo>
                      <a:pt x="1937" y="2895"/>
                    </a:lnTo>
                    <a:lnTo>
                      <a:pt x="1977" y="2895"/>
                    </a:lnTo>
                    <a:lnTo>
                      <a:pt x="2017" y="2906"/>
                    </a:lnTo>
                    <a:lnTo>
                      <a:pt x="2088" y="2917"/>
                    </a:lnTo>
                    <a:lnTo>
                      <a:pt x="2128" y="2917"/>
                    </a:lnTo>
                    <a:lnTo>
                      <a:pt x="2189" y="2928"/>
                    </a:lnTo>
                    <a:lnTo>
                      <a:pt x="2239" y="2939"/>
                    </a:lnTo>
                    <a:lnTo>
                      <a:pt x="2279" y="2960"/>
                    </a:lnTo>
                    <a:lnTo>
                      <a:pt x="2320" y="2982"/>
                    </a:lnTo>
                    <a:lnTo>
                      <a:pt x="2360" y="3004"/>
                    </a:lnTo>
                    <a:lnTo>
                      <a:pt x="2400" y="3015"/>
                    </a:lnTo>
                    <a:lnTo>
                      <a:pt x="2441" y="3015"/>
                    </a:lnTo>
                    <a:lnTo>
                      <a:pt x="2481" y="3037"/>
                    </a:lnTo>
                    <a:lnTo>
                      <a:pt x="2521" y="3058"/>
                    </a:lnTo>
                    <a:lnTo>
                      <a:pt x="2562" y="3091"/>
                    </a:lnTo>
                    <a:lnTo>
                      <a:pt x="2622" y="3102"/>
                    </a:lnTo>
                    <a:lnTo>
                      <a:pt x="2663" y="3102"/>
                    </a:lnTo>
                    <a:lnTo>
                      <a:pt x="2703" y="3134"/>
                    </a:lnTo>
                    <a:lnTo>
                      <a:pt x="2743" y="3156"/>
                    </a:lnTo>
                    <a:lnTo>
                      <a:pt x="2784" y="3167"/>
                    </a:lnTo>
                    <a:lnTo>
                      <a:pt x="2834" y="3189"/>
                    </a:lnTo>
                    <a:lnTo>
                      <a:pt x="2874" y="3200"/>
                    </a:lnTo>
                    <a:lnTo>
                      <a:pt x="2925" y="3200"/>
                    </a:lnTo>
                    <a:lnTo>
                      <a:pt x="2975" y="3200"/>
                    </a:lnTo>
                    <a:lnTo>
                      <a:pt x="3016" y="3200"/>
                    </a:lnTo>
                    <a:lnTo>
                      <a:pt x="3066" y="3211"/>
                    </a:lnTo>
                    <a:lnTo>
                      <a:pt x="3117" y="3243"/>
                    </a:lnTo>
                    <a:lnTo>
                      <a:pt x="3167" y="3254"/>
                    </a:lnTo>
                    <a:lnTo>
                      <a:pt x="3217" y="3254"/>
                    </a:lnTo>
                    <a:lnTo>
                      <a:pt x="3308" y="3254"/>
                    </a:lnTo>
                    <a:lnTo>
                      <a:pt x="3359" y="3254"/>
                    </a:lnTo>
                    <a:lnTo>
                      <a:pt x="3399" y="3265"/>
                    </a:lnTo>
                    <a:lnTo>
                      <a:pt x="3449" y="3298"/>
                    </a:lnTo>
                    <a:lnTo>
                      <a:pt x="3490" y="3309"/>
                    </a:lnTo>
                    <a:lnTo>
                      <a:pt x="3530" y="3320"/>
                    </a:lnTo>
                    <a:lnTo>
                      <a:pt x="3581" y="3330"/>
                    </a:lnTo>
                    <a:lnTo>
                      <a:pt x="3631" y="3330"/>
                    </a:lnTo>
                    <a:lnTo>
                      <a:pt x="3671" y="3330"/>
                    </a:lnTo>
                    <a:lnTo>
                      <a:pt x="3712" y="3341"/>
                    </a:lnTo>
                    <a:lnTo>
                      <a:pt x="3752" y="3374"/>
                    </a:lnTo>
                    <a:lnTo>
                      <a:pt x="3802" y="3374"/>
                    </a:lnTo>
                    <a:lnTo>
                      <a:pt x="3843" y="3374"/>
                    </a:lnTo>
                    <a:lnTo>
                      <a:pt x="3893" y="3374"/>
                    </a:lnTo>
                    <a:lnTo>
                      <a:pt x="3944" y="3385"/>
                    </a:lnTo>
                    <a:lnTo>
                      <a:pt x="3984" y="3385"/>
                    </a:lnTo>
                    <a:lnTo>
                      <a:pt x="4024" y="3385"/>
                    </a:lnTo>
                    <a:lnTo>
                      <a:pt x="4075" y="3385"/>
                    </a:lnTo>
                    <a:lnTo>
                      <a:pt x="4125" y="3385"/>
                    </a:lnTo>
                    <a:lnTo>
                      <a:pt x="4165" y="3385"/>
                    </a:lnTo>
                    <a:lnTo>
                      <a:pt x="4216" y="3417"/>
                    </a:lnTo>
                    <a:lnTo>
                      <a:pt x="4266" y="3450"/>
                    </a:lnTo>
                    <a:lnTo>
                      <a:pt x="4307" y="3450"/>
                    </a:lnTo>
                    <a:lnTo>
                      <a:pt x="4357" y="3450"/>
                    </a:lnTo>
                    <a:lnTo>
                      <a:pt x="4408" y="3450"/>
                    </a:lnTo>
                    <a:lnTo>
                      <a:pt x="4458" y="3450"/>
                    </a:lnTo>
                    <a:lnTo>
                      <a:pt x="4498" y="3450"/>
                    </a:lnTo>
                    <a:lnTo>
                      <a:pt x="4539" y="3450"/>
                    </a:lnTo>
                    <a:lnTo>
                      <a:pt x="4589" y="3461"/>
                    </a:lnTo>
                    <a:lnTo>
                      <a:pt x="4640" y="3461"/>
                    </a:lnTo>
                    <a:lnTo>
                      <a:pt x="4549" y="3461"/>
                    </a:lnTo>
                    <a:lnTo>
                      <a:pt x="4508" y="3461"/>
                    </a:lnTo>
                    <a:lnTo>
                      <a:pt x="4428" y="3439"/>
                    </a:lnTo>
                    <a:lnTo>
                      <a:pt x="4377" y="3428"/>
                    </a:lnTo>
                    <a:lnTo>
                      <a:pt x="4297" y="3439"/>
                    </a:lnTo>
                    <a:lnTo>
                      <a:pt x="4256" y="3450"/>
                    </a:lnTo>
                    <a:lnTo>
                      <a:pt x="4216" y="3439"/>
                    </a:lnTo>
                    <a:lnTo>
                      <a:pt x="4196" y="3396"/>
                    </a:lnTo>
                    <a:lnTo>
                      <a:pt x="4105" y="3374"/>
                    </a:lnTo>
                    <a:lnTo>
                      <a:pt x="4065" y="3374"/>
                    </a:lnTo>
                    <a:lnTo>
                      <a:pt x="4014" y="3363"/>
                    </a:lnTo>
                    <a:lnTo>
                      <a:pt x="3954" y="3352"/>
                    </a:lnTo>
                    <a:lnTo>
                      <a:pt x="3873" y="3341"/>
                    </a:lnTo>
                    <a:lnTo>
                      <a:pt x="3823" y="3330"/>
                    </a:lnTo>
                    <a:lnTo>
                      <a:pt x="3782" y="3330"/>
                    </a:lnTo>
                    <a:lnTo>
                      <a:pt x="3722" y="3341"/>
                    </a:lnTo>
                    <a:lnTo>
                      <a:pt x="3611" y="3341"/>
                    </a:lnTo>
                    <a:lnTo>
                      <a:pt x="3560" y="3298"/>
                    </a:lnTo>
                    <a:lnTo>
                      <a:pt x="3520" y="3298"/>
                    </a:lnTo>
                    <a:lnTo>
                      <a:pt x="3449" y="3287"/>
                    </a:lnTo>
                    <a:lnTo>
                      <a:pt x="3369" y="3287"/>
                    </a:lnTo>
                    <a:lnTo>
                      <a:pt x="3328" y="3265"/>
                    </a:lnTo>
                    <a:lnTo>
                      <a:pt x="3278" y="3232"/>
                    </a:lnTo>
                    <a:lnTo>
                      <a:pt x="3238" y="3211"/>
                    </a:lnTo>
                    <a:lnTo>
                      <a:pt x="3197" y="3200"/>
                    </a:lnTo>
                    <a:lnTo>
                      <a:pt x="3157" y="3200"/>
                    </a:lnTo>
                    <a:lnTo>
                      <a:pt x="3117" y="3200"/>
                    </a:lnTo>
                    <a:lnTo>
                      <a:pt x="3076" y="3189"/>
                    </a:lnTo>
                    <a:lnTo>
                      <a:pt x="3016" y="3178"/>
                    </a:lnTo>
                    <a:lnTo>
                      <a:pt x="2955" y="3167"/>
                    </a:lnTo>
                    <a:lnTo>
                      <a:pt x="2915" y="3145"/>
                    </a:lnTo>
                    <a:lnTo>
                      <a:pt x="2864" y="3124"/>
                    </a:lnTo>
                    <a:lnTo>
                      <a:pt x="2824" y="3124"/>
                    </a:lnTo>
                    <a:lnTo>
                      <a:pt x="2784" y="3124"/>
                    </a:lnTo>
                    <a:lnTo>
                      <a:pt x="2733" y="3124"/>
                    </a:lnTo>
                    <a:lnTo>
                      <a:pt x="2673" y="3124"/>
                    </a:lnTo>
                    <a:lnTo>
                      <a:pt x="2592" y="3113"/>
                    </a:lnTo>
                    <a:lnTo>
                      <a:pt x="2552" y="3058"/>
                    </a:lnTo>
                    <a:lnTo>
                      <a:pt x="2511" y="3015"/>
                    </a:lnTo>
                    <a:lnTo>
                      <a:pt x="2471" y="3015"/>
                    </a:lnTo>
                    <a:lnTo>
                      <a:pt x="2380" y="3015"/>
                    </a:lnTo>
                    <a:lnTo>
                      <a:pt x="2340" y="2982"/>
                    </a:lnTo>
                    <a:lnTo>
                      <a:pt x="2300" y="2949"/>
                    </a:lnTo>
                    <a:lnTo>
                      <a:pt x="2249" y="2906"/>
                    </a:lnTo>
                    <a:lnTo>
                      <a:pt x="2199" y="2884"/>
                    </a:lnTo>
                    <a:lnTo>
                      <a:pt x="2158" y="2884"/>
                    </a:lnTo>
                    <a:lnTo>
                      <a:pt x="2108" y="2884"/>
                    </a:lnTo>
                    <a:lnTo>
                      <a:pt x="2017" y="2884"/>
                    </a:lnTo>
                    <a:lnTo>
                      <a:pt x="1977" y="2884"/>
                    </a:lnTo>
                    <a:lnTo>
                      <a:pt x="1937" y="2862"/>
                    </a:lnTo>
                    <a:lnTo>
                      <a:pt x="1826" y="2841"/>
                    </a:lnTo>
                    <a:lnTo>
                      <a:pt x="1725" y="2808"/>
                    </a:lnTo>
                    <a:lnTo>
                      <a:pt x="1705" y="2764"/>
                    </a:lnTo>
                    <a:lnTo>
                      <a:pt x="1715" y="2721"/>
                    </a:lnTo>
                    <a:lnTo>
                      <a:pt x="1684" y="2677"/>
                    </a:lnTo>
                    <a:lnTo>
                      <a:pt x="1654" y="2634"/>
                    </a:lnTo>
                    <a:lnTo>
                      <a:pt x="1624" y="2590"/>
                    </a:lnTo>
                    <a:lnTo>
                      <a:pt x="1583" y="2558"/>
                    </a:lnTo>
                    <a:lnTo>
                      <a:pt x="1543" y="2536"/>
                    </a:lnTo>
                    <a:lnTo>
                      <a:pt x="1503" y="2525"/>
                    </a:lnTo>
                    <a:lnTo>
                      <a:pt x="1422" y="2492"/>
                    </a:lnTo>
                    <a:lnTo>
                      <a:pt x="1382" y="2492"/>
                    </a:lnTo>
                    <a:lnTo>
                      <a:pt x="1341" y="2481"/>
                    </a:lnTo>
                    <a:lnTo>
                      <a:pt x="1291" y="2471"/>
                    </a:lnTo>
                    <a:lnTo>
                      <a:pt x="1220" y="2471"/>
                    </a:lnTo>
                    <a:lnTo>
                      <a:pt x="1180" y="2449"/>
                    </a:lnTo>
                    <a:lnTo>
                      <a:pt x="1140" y="2438"/>
                    </a:lnTo>
                    <a:lnTo>
                      <a:pt x="1200" y="2427"/>
                    </a:lnTo>
                    <a:lnTo>
                      <a:pt x="1241" y="2405"/>
                    </a:lnTo>
                    <a:lnTo>
                      <a:pt x="1281" y="2394"/>
                    </a:lnTo>
                    <a:lnTo>
                      <a:pt x="1331" y="2394"/>
                    </a:lnTo>
                    <a:lnTo>
                      <a:pt x="1372" y="2394"/>
                    </a:lnTo>
                    <a:lnTo>
                      <a:pt x="1412" y="2394"/>
                    </a:lnTo>
                    <a:lnTo>
                      <a:pt x="1452" y="2394"/>
                    </a:lnTo>
                    <a:lnTo>
                      <a:pt x="1493" y="2394"/>
                    </a:lnTo>
                    <a:lnTo>
                      <a:pt x="1543" y="2394"/>
                    </a:lnTo>
                    <a:lnTo>
                      <a:pt x="1583" y="2384"/>
                    </a:lnTo>
                    <a:lnTo>
                      <a:pt x="1664" y="2384"/>
                    </a:lnTo>
                    <a:lnTo>
                      <a:pt x="1755" y="2373"/>
                    </a:lnTo>
                    <a:lnTo>
                      <a:pt x="1795" y="2351"/>
                    </a:lnTo>
                    <a:lnTo>
                      <a:pt x="1836" y="2340"/>
                    </a:lnTo>
                    <a:lnTo>
                      <a:pt x="1896" y="2340"/>
                    </a:lnTo>
                    <a:lnTo>
                      <a:pt x="1977" y="2340"/>
                    </a:lnTo>
                    <a:lnTo>
                      <a:pt x="2037" y="2329"/>
                    </a:lnTo>
                    <a:lnTo>
                      <a:pt x="2078" y="2318"/>
                    </a:lnTo>
                    <a:lnTo>
                      <a:pt x="2118" y="2318"/>
                    </a:lnTo>
                    <a:lnTo>
                      <a:pt x="2158" y="2318"/>
                    </a:lnTo>
                    <a:lnTo>
                      <a:pt x="2199" y="2340"/>
                    </a:lnTo>
                    <a:lnTo>
                      <a:pt x="2249" y="2351"/>
                    </a:lnTo>
                    <a:lnTo>
                      <a:pt x="2310" y="2351"/>
                    </a:lnTo>
                    <a:lnTo>
                      <a:pt x="2370" y="2351"/>
                    </a:lnTo>
                    <a:lnTo>
                      <a:pt x="2421" y="2351"/>
                    </a:lnTo>
                    <a:lnTo>
                      <a:pt x="2461" y="2362"/>
                    </a:lnTo>
                    <a:lnTo>
                      <a:pt x="2521" y="2362"/>
                    </a:lnTo>
                    <a:lnTo>
                      <a:pt x="2582" y="2362"/>
                    </a:lnTo>
                    <a:lnTo>
                      <a:pt x="2622" y="2394"/>
                    </a:lnTo>
                    <a:lnTo>
                      <a:pt x="2703" y="2416"/>
                    </a:lnTo>
                    <a:lnTo>
                      <a:pt x="2743" y="2427"/>
                    </a:lnTo>
                    <a:lnTo>
                      <a:pt x="2794" y="2438"/>
                    </a:lnTo>
                    <a:lnTo>
                      <a:pt x="2834" y="2438"/>
                    </a:lnTo>
                    <a:lnTo>
                      <a:pt x="2864" y="2481"/>
                    </a:lnTo>
                    <a:lnTo>
                      <a:pt x="2915" y="2525"/>
                    </a:lnTo>
                    <a:lnTo>
                      <a:pt x="2975" y="2536"/>
                    </a:lnTo>
                    <a:lnTo>
                      <a:pt x="3016" y="2547"/>
                    </a:lnTo>
                    <a:lnTo>
                      <a:pt x="3056" y="2569"/>
                    </a:lnTo>
                    <a:lnTo>
                      <a:pt x="3096" y="2612"/>
                    </a:lnTo>
                    <a:lnTo>
                      <a:pt x="3137" y="2634"/>
                    </a:lnTo>
                    <a:lnTo>
                      <a:pt x="3177" y="2645"/>
                    </a:lnTo>
                    <a:lnTo>
                      <a:pt x="3228" y="2656"/>
                    </a:lnTo>
                    <a:lnTo>
                      <a:pt x="3268" y="2656"/>
                    </a:lnTo>
                    <a:lnTo>
                      <a:pt x="3308" y="2666"/>
                    </a:lnTo>
                    <a:lnTo>
                      <a:pt x="3349" y="2699"/>
                    </a:lnTo>
                    <a:lnTo>
                      <a:pt x="3389" y="2732"/>
                    </a:lnTo>
                    <a:lnTo>
                      <a:pt x="3459" y="2743"/>
                    </a:lnTo>
                    <a:lnTo>
                      <a:pt x="3500" y="2743"/>
                    </a:lnTo>
                    <a:lnTo>
                      <a:pt x="3540" y="2764"/>
                    </a:lnTo>
                    <a:lnTo>
                      <a:pt x="3621" y="2786"/>
                    </a:lnTo>
                    <a:lnTo>
                      <a:pt x="3691" y="2797"/>
                    </a:lnTo>
                    <a:lnTo>
                      <a:pt x="3752" y="2808"/>
                    </a:lnTo>
                    <a:lnTo>
                      <a:pt x="3843" y="2852"/>
                    </a:lnTo>
                    <a:lnTo>
                      <a:pt x="3883" y="2873"/>
                    </a:lnTo>
                    <a:lnTo>
                      <a:pt x="3923" y="2917"/>
                    </a:lnTo>
                    <a:lnTo>
                      <a:pt x="3994" y="2960"/>
                    </a:lnTo>
                    <a:lnTo>
                      <a:pt x="4034" y="2982"/>
                    </a:lnTo>
                    <a:lnTo>
                      <a:pt x="4075" y="3004"/>
                    </a:lnTo>
                    <a:lnTo>
                      <a:pt x="4125" y="3026"/>
                    </a:lnTo>
                    <a:lnTo>
                      <a:pt x="4186" y="3047"/>
                    </a:lnTo>
                    <a:lnTo>
                      <a:pt x="4236" y="3080"/>
                    </a:lnTo>
                    <a:lnTo>
                      <a:pt x="4276" y="3102"/>
                    </a:lnTo>
                    <a:lnTo>
                      <a:pt x="4317" y="3134"/>
                    </a:lnTo>
                    <a:lnTo>
                      <a:pt x="4357" y="3167"/>
                    </a:lnTo>
                    <a:lnTo>
                      <a:pt x="4428" y="3178"/>
                    </a:lnTo>
                    <a:lnTo>
                      <a:pt x="4468" y="3189"/>
                    </a:lnTo>
                    <a:lnTo>
                      <a:pt x="4519" y="3211"/>
                    </a:lnTo>
                    <a:lnTo>
                      <a:pt x="4569" y="3243"/>
                    </a:lnTo>
                    <a:lnTo>
                      <a:pt x="4609" y="3287"/>
                    </a:lnTo>
                    <a:lnTo>
                      <a:pt x="4650" y="3298"/>
                    </a:lnTo>
                    <a:lnTo>
                      <a:pt x="4690" y="3309"/>
                    </a:lnTo>
                    <a:lnTo>
                      <a:pt x="4730" y="3341"/>
                    </a:lnTo>
                    <a:lnTo>
                      <a:pt x="4771" y="3374"/>
                    </a:lnTo>
                    <a:lnTo>
                      <a:pt x="4811" y="3385"/>
                    </a:lnTo>
                    <a:lnTo>
                      <a:pt x="4771" y="3363"/>
                    </a:lnTo>
                    <a:lnTo>
                      <a:pt x="4720" y="3320"/>
                    </a:lnTo>
                    <a:lnTo>
                      <a:pt x="4690" y="3276"/>
                    </a:lnTo>
                    <a:lnTo>
                      <a:pt x="4650" y="3265"/>
                    </a:lnTo>
                    <a:lnTo>
                      <a:pt x="4599" y="3232"/>
                    </a:lnTo>
                    <a:lnTo>
                      <a:pt x="4549" y="3189"/>
                    </a:lnTo>
                    <a:lnTo>
                      <a:pt x="4508" y="3145"/>
                    </a:lnTo>
                    <a:lnTo>
                      <a:pt x="4468" y="3134"/>
                    </a:lnTo>
                    <a:lnTo>
                      <a:pt x="4428" y="3134"/>
                    </a:lnTo>
                    <a:lnTo>
                      <a:pt x="4387" y="3113"/>
                    </a:lnTo>
                    <a:lnTo>
                      <a:pt x="4347" y="3091"/>
                    </a:lnTo>
                    <a:lnTo>
                      <a:pt x="4276" y="3047"/>
                    </a:lnTo>
                    <a:lnTo>
                      <a:pt x="4236" y="3026"/>
                    </a:lnTo>
                    <a:lnTo>
                      <a:pt x="4196" y="3015"/>
                    </a:lnTo>
                    <a:lnTo>
                      <a:pt x="4145" y="3004"/>
                    </a:lnTo>
                    <a:lnTo>
                      <a:pt x="4105" y="2960"/>
                    </a:lnTo>
                    <a:lnTo>
                      <a:pt x="4055" y="2960"/>
                    </a:lnTo>
                    <a:lnTo>
                      <a:pt x="4004" y="2906"/>
                    </a:lnTo>
                    <a:lnTo>
                      <a:pt x="3964" y="2862"/>
                    </a:lnTo>
                    <a:lnTo>
                      <a:pt x="3923" y="2841"/>
                    </a:lnTo>
                    <a:lnTo>
                      <a:pt x="3883" y="2819"/>
                    </a:lnTo>
                    <a:lnTo>
                      <a:pt x="3823" y="2808"/>
                    </a:lnTo>
                    <a:lnTo>
                      <a:pt x="3782" y="2786"/>
                    </a:lnTo>
                    <a:lnTo>
                      <a:pt x="3742" y="2764"/>
                    </a:lnTo>
                    <a:lnTo>
                      <a:pt x="3702" y="2764"/>
                    </a:lnTo>
                    <a:lnTo>
                      <a:pt x="3661" y="2764"/>
                    </a:lnTo>
                    <a:lnTo>
                      <a:pt x="3611" y="2732"/>
                    </a:lnTo>
                    <a:lnTo>
                      <a:pt x="3570" y="2699"/>
                    </a:lnTo>
                    <a:lnTo>
                      <a:pt x="3530" y="2699"/>
                    </a:lnTo>
                    <a:lnTo>
                      <a:pt x="3490" y="2677"/>
                    </a:lnTo>
                    <a:lnTo>
                      <a:pt x="3439" y="2656"/>
                    </a:lnTo>
                    <a:lnTo>
                      <a:pt x="3379" y="2645"/>
                    </a:lnTo>
                    <a:lnTo>
                      <a:pt x="3338" y="2645"/>
                    </a:lnTo>
                    <a:lnTo>
                      <a:pt x="3278" y="2634"/>
                    </a:lnTo>
                    <a:lnTo>
                      <a:pt x="3228" y="2623"/>
                    </a:lnTo>
                    <a:lnTo>
                      <a:pt x="3187" y="2601"/>
                    </a:lnTo>
                    <a:lnTo>
                      <a:pt x="3137" y="2558"/>
                    </a:lnTo>
                    <a:lnTo>
                      <a:pt x="3086" y="2514"/>
                    </a:lnTo>
                    <a:lnTo>
                      <a:pt x="3036" y="2481"/>
                    </a:lnTo>
                    <a:lnTo>
                      <a:pt x="2996" y="2460"/>
                    </a:lnTo>
                    <a:lnTo>
                      <a:pt x="2945" y="2438"/>
                    </a:lnTo>
                    <a:lnTo>
                      <a:pt x="2864" y="2416"/>
                    </a:lnTo>
                    <a:lnTo>
                      <a:pt x="2824" y="2394"/>
                    </a:lnTo>
                    <a:lnTo>
                      <a:pt x="2733" y="2362"/>
                    </a:lnTo>
                    <a:lnTo>
                      <a:pt x="2693" y="2340"/>
                    </a:lnTo>
                    <a:lnTo>
                      <a:pt x="2673" y="2296"/>
                    </a:lnTo>
                    <a:lnTo>
                      <a:pt x="2643" y="2253"/>
                    </a:lnTo>
                    <a:lnTo>
                      <a:pt x="2602" y="2231"/>
                    </a:lnTo>
                    <a:lnTo>
                      <a:pt x="2572" y="2177"/>
                    </a:lnTo>
                    <a:lnTo>
                      <a:pt x="2521" y="2133"/>
                    </a:lnTo>
                    <a:lnTo>
                      <a:pt x="2511" y="2090"/>
                    </a:lnTo>
                    <a:lnTo>
                      <a:pt x="2501" y="2046"/>
                    </a:lnTo>
                    <a:lnTo>
                      <a:pt x="2481" y="2003"/>
                    </a:lnTo>
                    <a:lnTo>
                      <a:pt x="2461" y="1959"/>
                    </a:lnTo>
                    <a:lnTo>
                      <a:pt x="2441" y="1916"/>
                    </a:lnTo>
                    <a:lnTo>
                      <a:pt x="2431" y="1872"/>
                    </a:lnTo>
                    <a:lnTo>
                      <a:pt x="2411" y="1828"/>
                    </a:lnTo>
                    <a:lnTo>
                      <a:pt x="2390" y="1785"/>
                    </a:lnTo>
                    <a:lnTo>
                      <a:pt x="2350" y="1752"/>
                    </a:lnTo>
                    <a:lnTo>
                      <a:pt x="2330" y="1709"/>
                    </a:lnTo>
                    <a:lnTo>
                      <a:pt x="2300" y="1665"/>
                    </a:lnTo>
                    <a:lnTo>
                      <a:pt x="2259" y="1643"/>
                    </a:lnTo>
                    <a:lnTo>
                      <a:pt x="2209" y="1622"/>
                    </a:lnTo>
                    <a:lnTo>
                      <a:pt x="2168" y="1600"/>
                    </a:lnTo>
                    <a:lnTo>
                      <a:pt x="2118" y="1589"/>
                    </a:lnTo>
                    <a:lnTo>
                      <a:pt x="2078" y="1578"/>
                    </a:lnTo>
                    <a:lnTo>
                      <a:pt x="2037" y="1556"/>
                    </a:lnTo>
                    <a:lnTo>
                      <a:pt x="1997" y="1513"/>
                    </a:lnTo>
                    <a:lnTo>
                      <a:pt x="1957" y="1469"/>
                    </a:lnTo>
                    <a:lnTo>
                      <a:pt x="1916" y="1437"/>
                    </a:lnTo>
                    <a:lnTo>
                      <a:pt x="1876" y="1426"/>
                    </a:lnTo>
                    <a:lnTo>
                      <a:pt x="1846" y="1371"/>
                    </a:lnTo>
                    <a:lnTo>
                      <a:pt x="1805" y="1339"/>
                    </a:lnTo>
                    <a:lnTo>
                      <a:pt x="1765" y="1317"/>
                    </a:lnTo>
                    <a:lnTo>
                      <a:pt x="1725" y="1295"/>
                    </a:lnTo>
                    <a:lnTo>
                      <a:pt x="1684" y="1252"/>
                    </a:lnTo>
                    <a:lnTo>
                      <a:pt x="1644" y="1219"/>
                    </a:lnTo>
                    <a:lnTo>
                      <a:pt x="1604" y="1208"/>
                    </a:lnTo>
                    <a:lnTo>
                      <a:pt x="1563" y="1186"/>
                    </a:lnTo>
                    <a:lnTo>
                      <a:pt x="1523" y="1143"/>
                    </a:lnTo>
                    <a:lnTo>
                      <a:pt x="1493" y="1099"/>
                    </a:lnTo>
                    <a:lnTo>
                      <a:pt x="1452" y="1067"/>
                    </a:lnTo>
                    <a:lnTo>
                      <a:pt x="1402" y="1012"/>
                    </a:lnTo>
                    <a:lnTo>
                      <a:pt x="1362" y="969"/>
                    </a:lnTo>
                    <a:lnTo>
                      <a:pt x="1321" y="947"/>
                    </a:lnTo>
                    <a:lnTo>
                      <a:pt x="1281" y="947"/>
                    </a:lnTo>
                    <a:lnTo>
                      <a:pt x="1230" y="914"/>
                    </a:lnTo>
                    <a:lnTo>
                      <a:pt x="1180" y="882"/>
                    </a:lnTo>
                    <a:lnTo>
                      <a:pt x="1140" y="860"/>
                    </a:lnTo>
                    <a:lnTo>
                      <a:pt x="1099" y="827"/>
                    </a:lnTo>
                    <a:lnTo>
                      <a:pt x="1059" y="805"/>
                    </a:lnTo>
                    <a:lnTo>
                      <a:pt x="1019" y="784"/>
                    </a:lnTo>
                    <a:lnTo>
                      <a:pt x="978" y="751"/>
                    </a:lnTo>
                    <a:lnTo>
                      <a:pt x="938" y="740"/>
                    </a:lnTo>
                    <a:lnTo>
                      <a:pt x="898" y="718"/>
                    </a:lnTo>
                    <a:lnTo>
                      <a:pt x="867" y="675"/>
                    </a:lnTo>
                    <a:lnTo>
                      <a:pt x="847" y="631"/>
                    </a:lnTo>
                    <a:lnTo>
                      <a:pt x="817" y="588"/>
                    </a:lnTo>
                    <a:lnTo>
                      <a:pt x="787" y="544"/>
                    </a:lnTo>
                    <a:lnTo>
                      <a:pt x="756" y="501"/>
                    </a:lnTo>
                    <a:lnTo>
                      <a:pt x="716" y="468"/>
                    </a:lnTo>
                    <a:lnTo>
                      <a:pt x="676" y="435"/>
                    </a:lnTo>
                    <a:lnTo>
                      <a:pt x="635" y="403"/>
                    </a:lnTo>
                    <a:lnTo>
                      <a:pt x="595" y="392"/>
                    </a:lnTo>
                    <a:lnTo>
                      <a:pt x="555" y="381"/>
                    </a:lnTo>
                    <a:lnTo>
                      <a:pt x="514" y="359"/>
                    </a:lnTo>
                    <a:lnTo>
                      <a:pt x="474" y="348"/>
                    </a:lnTo>
                    <a:lnTo>
                      <a:pt x="434" y="327"/>
                    </a:lnTo>
                    <a:lnTo>
                      <a:pt x="403" y="283"/>
                    </a:lnTo>
                    <a:lnTo>
                      <a:pt x="383" y="239"/>
                    </a:lnTo>
                    <a:lnTo>
                      <a:pt x="353" y="196"/>
                    </a:lnTo>
                    <a:lnTo>
                      <a:pt x="313" y="163"/>
                    </a:lnTo>
                    <a:lnTo>
                      <a:pt x="282" y="120"/>
                    </a:lnTo>
                    <a:lnTo>
                      <a:pt x="242" y="87"/>
                    </a:lnTo>
                    <a:lnTo>
                      <a:pt x="202" y="65"/>
                    </a:lnTo>
                    <a:lnTo>
                      <a:pt x="161" y="44"/>
                    </a:lnTo>
                    <a:lnTo>
                      <a:pt x="121" y="11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90600" y="32400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0" y="0"/>
                    </a:moveTo>
                    <a:lnTo>
                      <a:pt x="108" y="116"/>
                    </a:lnTo>
                    <a:lnTo>
                      <a:pt x="5162" y="116"/>
                    </a:lnTo>
                    <a:lnTo>
                      <a:pt x="527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90600" y="324000"/>
                <a:ext cx="16992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0"/>
                    </a:moveTo>
                    <a:lnTo>
                      <a:pt x="0" y="3888"/>
                    </a:lnTo>
                    <a:lnTo>
                      <a:pt x="106" y="3772"/>
                    </a:lnTo>
                    <a:lnTo>
                      <a:pt x="106" y="1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588520" y="324000"/>
                <a:ext cx="16956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116"/>
                    </a:moveTo>
                    <a:lnTo>
                      <a:pt x="0" y="3772"/>
                    </a:lnTo>
                    <a:lnTo>
                      <a:pt x="106" y="3888"/>
                    </a:lnTo>
                    <a:lnTo>
                      <a:pt x="106" y="0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90600" y="631188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108" y="0"/>
                    </a:moveTo>
                    <a:lnTo>
                      <a:pt x="5162" y="0"/>
                    </a:lnTo>
                    <a:lnTo>
                      <a:pt x="5270" y="116"/>
                    </a:lnTo>
                    <a:lnTo>
                      <a:pt x="0" y="116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88520" y="507960"/>
                <a:ext cx="126720" cy="2973600"/>
              </a:xfrm>
              <a:custGeom>
                <a:avLst/>
                <a:gdLst/>
                <a:ahLst/>
                <a:rect l="l" t="t" r="r" b="b"/>
                <a:pathLst>
                  <a:path w="80" h="1873">
                    <a:moveTo>
                      <a:pt x="0" y="0"/>
                    </a:moveTo>
                    <a:lnTo>
                      <a:pt x="40" y="51"/>
                    </a:lnTo>
                    <a:lnTo>
                      <a:pt x="46" y="80"/>
                    </a:lnTo>
                    <a:lnTo>
                      <a:pt x="46" y="109"/>
                    </a:lnTo>
                    <a:lnTo>
                      <a:pt x="33" y="138"/>
                    </a:lnTo>
                    <a:lnTo>
                      <a:pt x="26" y="167"/>
                    </a:lnTo>
                    <a:lnTo>
                      <a:pt x="33" y="196"/>
                    </a:lnTo>
                    <a:lnTo>
                      <a:pt x="40" y="225"/>
                    </a:lnTo>
                    <a:lnTo>
                      <a:pt x="53" y="254"/>
                    </a:lnTo>
                    <a:lnTo>
                      <a:pt x="53" y="283"/>
                    </a:lnTo>
                    <a:lnTo>
                      <a:pt x="53" y="312"/>
                    </a:lnTo>
                    <a:lnTo>
                      <a:pt x="46" y="341"/>
                    </a:lnTo>
                    <a:lnTo>
                      <a:pt x="33" y="370"/>
                    </a:lnTo>
                    <a:lnTo>
                      <a:pt x="33" y="406"/>
                    </a:lnTo>
                    <a:lnTo>
                      <a:pt x="40" y="435"/>
                    </a:lnTo>
                    <a:lnTo>
                      <a:pt x="46" y="464"/>
                    </a:lnTo>
                    <a:lnTo>
                      <a:pt x="53" y="501"/>
                    </a:lnTo>
                    <a:lnTo>
                      <a:pt x="46" y="530"/>
                    </a:lnTo>
                    <a:lnTo>
                      <a:pt x="40" y="559"/>
                    </a:lnTo>
                    <a:lnTo>
                      <a:pt x="33" y="588"/>
                    </a:lnTo>
                    <a:lnTo>
                      <a:pt x="40" y="617"/>
                    </a:lnTo>
                    <a:lnTo>
                      <a:pt x="46" y="646"/>
                    </a:lnTo>
                    <a:lnTo>
                      <a:pt x="53" y="675"/>
                    </a:lnTo>
                    <a:lnTo>
                      <a:pt x="59" y="704"/>
                    </a:lnTo>
                    <a:lnTo>
                      <a:pt x="66" y="733"/>
                    </a:lnTo>
                    <a:lnTo>
                      <a:pt x="66" y="769"/>
                    </a:lnTo>
                    <a:lnTo>
                      <a:pt x="66" y="798"/>
                    </a:lnTo>
                    <a:lnTo>
                      <a:pt x="53" y="834"/>
                    </a:lnTo>
                    <a:lnTo>
                      <a:pt x="33" y="863"/>
                    </a:lnTo>
                    <a:lnTo>
                      <a:pt x="20" y="892"/>
                    </a:lnTo>
                    <a:lnTo>
                      <a:pt x="13" y="921"/>
                    </a:lnTo>
                    <a:lnTo>
                      <a:pt x="20" y="958"/>
                    </a:lnTo>
                    <a:lnTo>
                      <a:pt x="33" y="987"/>
                    </a:lnTo>
                    <a:lnTo>
                      <a:pt x="46" y="1016"/>
                    </a:lnTo>
                    <a:lnTo>
                      <a:pt x="59" y="1052"/>
                    </a:lnTo>
                    <a:lnTo>
                      <a:pt x="59" y="1088"/>
                    </a:lnTo>
                    <a:lnTo>
                      <a:pt x="53" y="1125"/>
                    </a:lnTo>
                    <a:lnTo>
                      <a:pt x="46" y="1154"/>
                    </a:lnTo>
                    <a:lnTo>
                      <a:pt x="46" y="1190"/>
                    </a:lnTo>
                    <a:lnTo>
                      <a:pt x="53" y="1219"/>
                    </a:lnTo>
                    <a:lnTo>
                      <a:pt x="53" y="1248"/>
                    </a:lnTo>
                    <a:lnTo>
                      <a:pt x="59" y="1277"/>
                    </a:lnTo>
                    <a:lnTo>
                      <a:pt x="53" y="1313"/>
                    </a:lnTo>
                    <a:lnTo>
                      <a:pt x="53" y="1342"/>
                    </a:lnTo>
                    <a:lnTo>
                      <a:pt x="53" y="1379"/>
                    </a:lnTo>
                    <a:lnTo>
                      <a:pt x="53" y="1408"/>
                    </a:lnTo>
                    <a:lnTo>
                      <a:pt x="53" y="1466"/>
                    </a:lnTo>
                    <a:lnTo>
                      <a:pt x="53" y="1524"/>
                    </a:lnTo>
                    <a:lnTo>
                      <a:pt x="53" y="1553"/>
                    </a:lnTo>
                    <a:lnTo>
                      <a:pt x="53" y="1582"/>
                    </a:lnTo>
                    <a:lnTo>
                      <a:pt x="53" y="1611"/>
                    </a:lnTo>
                    <a:lnTo>
                      <a:pt x="53" y="1640"/>
                    </a:lnTo>
                    <a:lnTo>
                      <a:pt x="53" y="1669"/>
                    </a:lnTo>
                    <a:lnTo>
                      <a:pt x="66" y="1698"/>
                    </a:lnTo>
                    <a:lnTo>
                      <a:pt x="66" y="1727"/>
                    </a:lnTo>
                    <a:lnTo>
                      <a:pt x="53" y="1756"/>
                    </a:lnTo>
                    <a:lnTo>
                      <a:pt x="46" y="1785"/>
                    </a:lnTo>
                    <a:lnTo>
                      <a:pt x="59" y="1814"/>
                    </a:lnTo>
                    <a:lnTo>
                      <a:pt x="66" y="1843"/>
                    </a:lnTo>
                    <a:lnTo>
                      <a:pt x="66" y="1872"/>
                    </a:lnTo>
                    <a:lnTo>
                      <a:pt x="53" y="1843"/>
                    </a:lnTo>
                    <a:lnTo>
                      <a:pt x="40" y="1814"/>
                    </a:lnTo>
                    <a:lnTo>
                      <a:pt x="33" y="1785"/>
                    </a:lnTo>
                    <a:lnTo>
                      <a:pt x="46" y="1756"/>
                    </a:lnTo>
                    <a:lnTo>
                      <a:pt x="59" y="1727"/>
                    </a:lnTo>
                    <a:lnTo>
                      <a:pt x="53" y="1698"/>
                    </a:lnTo>
                    <a:lnTo>
                      <a:pt x="46" y="1669"/>
                    </a:lnTo>
                    <a:lnTo>
                      <a:pt x="53" y="1640"/>
                    </a:lnTo>
                    <a:lnTo>
                      <a:pt x="53" y="1611"/>
                    </a:lnTo>
                    <a:lnTo>
                      <a:pt x="53" y="1582"/>
                    </a:lnTo>
                    <a:lnTo>
                      <a:pt x="46" y="1553"/>
                    </a:lnTo>
                    <a:lnTo>
                      <a:pt x="46" y="1524"/>
                    </a:lnTo>
                    <a:lnTo>
                      <a:pt x="46" y="1495"/>
                    </a:lnTo>
                    <a:lnTo>
                      <a:pt x="53" y="1458"/>
                    </a:lnTo>
                    <a:lnTo>
                      <a:pt x="53" y="1429"/>
                    </a:lnTo>
                    <a:lnTo>
                      <a:pt x="53" y="1393"/>
                    </a:lnTo>
                    <a:lnTo>
                      <a:pt x="46" y="1364"/>
                    </a:lnTo>
                    <a:lnTo>
                      <a:pt x="46" y="1328"/>
                    </a:lnTo>
                    <a:lnTo>
                      <a:pt x="53" y="1299"/>
                    </a:lnTo>
                    <a:lnTo>
                      <a:pt x="53" y="1263"/>
                    </a:lnTo>
                    <a:lnTo>
                      <a:pt x="46" y="1233"/>
                    </a:lnTo>
                    <a:lnTo>
                      <a:pt x="40" y="1204"/>
                    </a:lnTo>
                    <a:lnTo>
                      <a:pt x="33" y="1175"/>
                    </a:lnTo>
                    <a:lnTo>
                      <a:pt x="40" y="1139"/>
                    </a:lnTo>
                    <a:lnTo>
                      <a:pt x="53" y="1110"/>
                    </a:lnTo>
                    <a:lnTo>
                      <a:pt x="66" y="1081"/>
                    </a:lnTo>
                    <a:lnTo>
                      <a:pt x="59" y="1052"/>
                    </a:lnTo>
                    <a:lnTo>
                      <a:pt x="40" y="1023"/>
                    </a:lnTo>
                    <a:lnTo>
                      <a:pt x="13" y="1001"/>
                    </a:lnTo>
                    <a:lnTo>
                      <a:pt x="7" y="972"/>
                    </a:lnTo>
                    <a:lnTo>
                      <a:pt x="33" y="943"/>
                    </a:lnTo>
                    <a:lnTo>
                      <a:pt x="53" y="907"/>
                    </a:lnTo>
                    <a:lnTo>
                      <a:pt x="53" y="878"/>
                    </a:lnTo>
                    <a:lnTo>
                      <a:pt x="53" y="842"/>
                    </a:lnTo>
                    <a:lnTo>
                      <a:pt x="53" y="813"/>
                    </a:lnTo>
                    <a:lnTo>
                      <a:pt x="59" y="784"/>
                    </a:lnTo>
                    <a:lnTo>
                      <a:pt x="59" y="755"/>
                    </a:lnTo>
                    <a:lnTo>
                      <a:pt x="53" y="726"/>
                    </a:lnTo>
                    <a:lnTo>
                      <a:pt x="53" y="697"/>
                    </a:lnTo>
                    <a:lnTo>
                      <a:pt x="40" y="668"/>
                    </a:lnTo>
                    <a:lnTo>
                      <a:pt x="40" y="639"/>
                    </a:lnTo>
                    <a:lnTo>
                      <a:pt x="40" y="609"/>
                    </a:lnTo>
                    <a:lnTo>
                      <a:pt x="59" y="580"/>
                    </a:lnTo>
                    <a:lnTo>
                      <a:pt x="72" y="551"/>
                    </a:lnTo>
                    <a:lnTo>
                      <a:pt x="79" y="515"/>
                    </a:lnTo>
                    <a:lnTo>
                      <a:pt x="79" y="486"/>
                    </a:lnTo>
                    <a:lnTo>
                      <a:pt x="59" y="457"/>
                    </a:lnTo>
                    <a:lnTo>
                      <a:pt x="53" y="428"/>
                    </a:lnTo>
                    <a:lnTo>
                      <a:pt x="53" y="399"/>
                    </a:lnTo>
                    <a:lnTo>
                      <a:pt x="53" y="370"/>
                    </a:lnTo>
                    <a:lnTo>
                      <a:pt x="46" y="341"/>
                    </a:lnTo>
                    <a:lnTo>
                      <a:pt x="33" y="312"/>
                    </a:lnTo>
                    <a:lnTo>
                      <a:pt x="33" y="283"/>
                    </a:lnTo>
                    <a:lnTo>
                      <a:pt x="26" y="247"/>
                    </a:lnTo>
                    <a:lnTo>
                      <a:pt x="26" y="218"/>
                    </a:lnTo>
                    <a:lnTo>
                      <a:pt x="40" y="189"/>
                    </a:lnTo>
                    <a:lnTo>
                      <a:pt x="53" y="160"/>
                    </a:lnTo>
                    <a:lnTo>
                      <a:pt x="53" y="131"/>
                    </a:lnTo>
                    <a:lnTo>
                      <a:pt x="53" y="102"/>
                    </a:lnTo>
                    <a:lnTo>
                      <a:pt x="33" y="73"/>
                    </a:lnTo>
                    <a:lnTo>
                      <a:pt x="20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477800" y="6337440"/>
                <a:ext cx="2372040" cy="126720"/>
              </a:xfrm>
              <a:custGeom>
                <a:avLst/>
                <a:gdLst/>
                <a:ahLst/>
                <a:rect l="l" t="t" r="r" b="b"/>
                <a:pathLst>
                  <a:path w="1494" h="80">
                    <a:moveTo>
                      <a:pt x="13" y="43"/>
                    </a:moveTo>
                    <a:lnTo>
                      <a:pt x="87" y="0"/>
                    </a:lnTo>
                    <a:lnTo>
                      <a:pt x="114" y="7"/>
                    </a:lnTo>
                    <a:lnTo>
                      <a:pt x="141" y="29"/>
                    </a:lnTo>
                    <a:lnTo>
                      <a:pt x="168" y="43"/>
                    </a:lnTo>
                    <a:lnTo>
                      <a:pt x="202" y="43"/>
                    </a:lnTo>
                    <a:lnTo>
                      <a:pt x="242" y="43"/>
                    </a:lnTo>
                    <a:lnTo>
                      <a:pt x="269" y="43"/>
                    </a:lnTo>
                    <a:lnTo>
                      <a:pt x="309" y="50"/>
                    </a:lnTo>
                    <a:lnTo>
                      <a:pt x="336" y="65"/>
                    </a:lnTo>
                    <a:lnTo>
                      <a:pt x="390" y="79"/>
                    </a:lnTo>
                    <a:lnTo>
                      <a:pt x="444" y="79"/>
                    </a:lnTo>
                    <a:lnTo>
                      <a:pt x="484" y="79"/>
                    </a:lnTo>
                    <a:lnTo>
                      <a:pt x="525" y="72"/>
                    </a:lnTo>
                    <a:lnTo>
                      <a:pt x="565" y="65"/>
                    </a:lnTo>
                    <a:lnTo>
                      <a:pt x="612" y="65"/>
                    </a:lnTo>
                    <a:lnTo>
                      <a:pt x="659" y="57"/>
                    </a:lnTo>
                    <a:lnTo>
                      <a:pt x="713" y="43"/>
                    </a:lnTo>
                    <a:lnTo>
                      <a:pt x="747" y="43"/>
                    </a:lnTo>
                    <a:lnTo>
                      <a:pt x="773" y="43"/>
                    </a:lnTo>
                    <a:lnTo>
                      <a:pt x="814" y="43"/>
                    </a:lnTo>
                    <a:lnTo>
                      <a:pt x="841" y="50"/>
                    </a:lnTo>
                    <a:lnTo>
                      <a:pt x="874" y="57"/>
                    </a:lnTo>
                    <a:lnTo>
                      <a:pt x="901" y="57"/>
                    </a:lnTo>
                    <a:lnTo>
                      <a:pt x="975" y="50"/>
                    </a:lnTo>
                    <a:lnTo>
                      <a:pt x="1002" y="43"/>
                    </a:lnTo>
                    <a:lnTo>
                      <a:pt x="1029" y="36"/>
                    </a:lnTo>
                    <a:lnTo>
                      <a:pt x="1069" y="36"/>
                    </a:lnTo>
                    <a:lnTo>
                      <a:pt x="1096" y="36"/>
                    </a:lnTo>
                    <a:lnTo>
                      <a:pt x="1137" y="36"/>
                    </a:lnTo>
                    <a:lnTo>
                      <a:pt x="1190" y="36"/>
                    </a:lnTo>
                    <a:lnTo>
                      <a:pt x="1231" y="36"/>
                    </a:lnTo>
                    <a:lnTo>
                      <a:pt x="1285" y="29"/>
                    </a:lnTo>
                    <a:lnTo>
                      <a:pt x="1311" y="29"/>
                    </a:lnTo>
                    <a:lnTo>
                      <a:pt x="1352" y="29"/>
                    </a:lnTo>
                    <a:lnTo>
                      <a:pt x="1379" y="29"/>
                    </a:lnTo>
                    <a:lnTo>
                      <a:pt x="1406" y="36"/>
                    </a:lnTo>
                    <a:lnTo>
                      <a:pt x="1439" y="43"/>
                    </a:lnTo>
                    <a:lnTo>
                      <a:pt x="1466" y="22"/>
                    </a:lnTo>
                    <a:lnTo>
                      <a:pt x="1493" y="14"/>
                    </a:lnTo>
                    <a:lnTo>
                      <a:pt x="1466" y="22"/>
                    </a:lnTo>
                    <a:lnTo>
                      <a:pt x="1439" y="29"/>
                    </a:lnTo>
                    <a:lnTo>
                      <a:pt x="1412" y="36"/>
                    </a:lnTo>
                    <a:lnTo>
                      <a:pt x="1385" y="36"/>
                    </a:lnTo>
                    <a:lnTo>
                      <a:pt x="1352" y="29"/>
                    </a:lnTo>
                    <a:lnTo>
                      <a:pt x="1325" y="29"/>
                    </a:lnTo>
                    <a:lnTo>
                      <a:pt x="1298" y="29"/>
                    </a:lnTo>
                    <a:lnTo>
                      <a:pt x="1237" y="43"/>
                    </a:lnTo>
                    <a:lnTo>
                      <a:pt x="1197" y="57"/>
                    </a:lnTo>
                    <a:lnTo>
                      <a:pt x="1170" y="72"/>
                    </a:lnTo>
                    <a:lnTo>
                      <a:pt x="1137" y="72"/>
                    </a:lnTo>
                    <a:lnTo>
                      <a:pt x="1110" y="65"/>
                    </a:lnTo>
                    <a:lnTo>
                      <a:pt x="1083" y="57"/>
                    </a:lnTo>
                    <a:lnTo>
                      <a:pt x="1056" y="50"/>
                    </a:lnTo>
                    <a:lnTo>
                      <a:pt x="1022" y="36"/>
                    </a:lnTo>
                    <a:lnTo>
                      <a:pt x="962" y="36"/>
                    </a:lnTo>
                    <a:lnTo>
                      <a:pt x="915" y="36"/>
                    </a:lnTo>
                    <a:lnTo>
                      <a:pt x="881" y="43"/>
                    </a:lnTo>
                    <a:lnTo>
                      <a:pt x="854" y="50"/>
                    </a:lnTo>
                    <a:lnTo>
                      <a:pt x="827" y="57"/>
                    </a:lnTo>
                    <a:lnTo>
                      <a:pt x="800" y="57"/>
                    </a:lnTo>
                    <a:lnTo>
                      <a:pt x="747" y="57"/>
                    </a:lnTo>
                    <a:lnTo>
                      <a:pt x="693" y="57"/>
                    </a:lnTo>
                    <a:lnTo>
                      <a:pt x="659" y="57"/>
                    </a:lnTo>
                    <a:lnTo>
                      <a:pt x="632" y="50"/>
                    </a:lnTo>
                    <a:lnTo>
                      <a:pt x="605" y="50"/>
                    </a:lnTo>
                    <a:lnTo>
                      <a:pt x="578" y="57"/>
                    </a:lnTo>
                    <a:lnTo>
                      <a:pt x="551" y="57"/>
                    </a:lnTo>
                    <a:lnTo>
                      <a:pt x="525" y="65"/>
                    </a:lnTo>
                    <a:lnTo>
                      <a:pt x="484" y="65"/>
                    </a:lnTo>
                    <a:lnTo>
                      <a:pt x="444" y="57"/>
                    </a:lnTo>
                    <a:lnTo>
                      <a:pt x="417" y="57"/>
                    </a:lnTo>
                    <a:lnTo>
                      <a:pt x="390" y="43"/>
                    </a:lnTo>
                    <a:lnTo>
                      <a:pt x="363" y="36"/>
                    </a:lnTo>
                    <a:lnTo>
                      <a:pt x="336" y="43"/>
                    </a:lnTo>
                    <a:lnTo>
                      <a:pt x="309" y="57"/>
                    </a:lnTo>
                    <a:lnTo>
                      <a:pt x="282" y="57"/>
                    </a:lnTo>
                    <a:lnTo>
                      <a:pt x="256" y="57"/>
                    </a:lnTo>
                    <a:lnTo>
                      <a:pt x="222" y="50"/>
                    </a:lnTo>
                    <a:lnTo>
                      <a:pt x="195" y="50"/>
                    </a:lnTo>
                    <a:lnTo>
                      <a:pt x="168" y="22"/>
                    </a:lnTo>
                    <a:lnTo>
                      <a:pt x="141" y="7"/>
                    </a:lnTo>
                    <a:lnTo>
                      <a:pt x="114" y="14"/>
                    </a:lnTo>
                    <a:lnTo>
                      <a:pt x="81" y="22"/>
                    </a:lnTo>
                    <a:lnTo>
                      <a:pt x="54" y="36"/>
                    </a:lnTo>
                    <a:lnTo>
                      <a:pt x="27" y="36"/>
                    </a:lnTo>
                    <a:lnTo>
                      <a:pt x="0" y="50"/>
                    </a:lnTo>
                    <a:lnTo>
                      <a:pt x="13" y="43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402080" y="6311880"/>
                <a:ext cx="2733840" cy="128520"/>
              </a:xfrm>
              <a:custGeom>
                <a:avLst/>
                <a:gdLst/>
                <a:ahLst/>
                <a:rect l="l" t="t" r="r" b="b"/>
                <a:pathLst>
                  <a:path w="1722" h="81">
                    <a:moveTo>
                      <a:pt x="0" y="0"/>
                    </a:moveTo>
                    <a:lnTo>
                      <a:pt x="1721" y="0"/>
                    </a:lnTo>
                    <a:lnTo>
                      <a:pt x="1640" y="22"/>
                    </a:lnTo>
                    <a:lnTo>
                      <a:pt x="1613" y="7"/>
                    </a:lnTo>
                    <a:lnTo>
                      <a:pt x="1587" y="0"/>
                    </a:lnTo>
                    <a:lnTo>
                      <a:pt x="1560" y="15"/>
                    </a:lnTo>
                    <a:lnTo>
                      <a:pt x="1533" y="44"/>
                    </a:lnTo>
                    <a:lnTo>
                      <a:pt x="1506" y="58"/>
                    </a:lnTo>
                    <a:lnTo>
                      <a:pt x="1479" y="73"/>
                    </a:lnTo>
                    <a:lnTo>
                      <a:pt x="1418" y="80"/>
                    </a:lnTo>
                    <a:lnTo>
                      <a:pt x="1351" y="80"/>
                    </a:lnTo>
                    <a:lnTo>
                      <a:pt x="1311" y="73"/>
                    </a:lnTo>
                    <a:lnTo>
                      <a:pt x="1284" y="65"/>
                    </a:lnTo>
                    <a:lnTo>
                      <a:pt x="1250" y="73"/>
                    </a:lnTo>
                    <a:lnTo>
                      <a:pt x="1224" y="73"/>
                    </a:lnTo>
                    <a:lnTo>
                      <a:pt x="1170" y="73"/>
                    </a:lnTo>
                    <a:lnTo>
                      <a:pt x="1123" y="65"/>
                    </a:lnTo>
                    <a:lnTo>
                      <a:pt x="1096" y="65"/>
                    </a:lnTo>
                    <a:lnTo>
                      <a:pt x="1055" y="58"/>
                    </a:lnTo>
                    <a:lnTo>
                      <a:pt x="1029" y="58"/>
                    </a:lnTo>
                    <a:lnTo>
                      <a:pt x="1002" y="36"/>
                    </a:lnTo>
                    <a:lnTo>
                      <a:pt x="968" y="15"/>
                    </a:lnTo>
                    <a:lnTo>
                      <a:pt x="934" y="15"/>
                    </a:lnTo>
                    <a:lnTo>
                      <a:pt x="908" y="15"/>
                    </a:lnTo>
                    <a:lnTo>
                      <a:pt x="881" y="15"/>
                    </a:lnTo>
                    <a:lnTo>
                      <a:pt x="847" y="29"/>
                    </a:lnTo>
                    <a:lnTo>
                      <a:pt x="787" y="44"/>
                    </a:lnTo>
                    <a:lnTo>
                      <a:pt x="753" y="51"/>
                    </a:lnTo>
                    <a:lnTo>
                      <a:pt x="726" y="51"/>
                    </a:lnTo>
                    <a:lnTo>
                      <a:pt x="686" y="44"/>
                    </a:lnTo>
                    <a:lnTo>
                      <a:pt x="659" y="29"/>
                    </a:lnTo>
                    <a:lnTo>
                      <a:pt x="632" y="22"/>
                    </a:lnTo>
                    <a:lnTo>
                      <a:pt x="598" y="22"/>
                    </a:lnTo>
                    <a:lnTo>
                      <a:pt x="565" y="22"/>
                    </a:lnTo>
                    <a:lnTo>
                      <a:pt x="531" y="29"/>
                    </a:lnTo>
                    <a:lnTo>
                      <a:pt x="477" y="29"/>
                    </a:lnTo>
                    <a:lnTo>
                      <a:pt x="437" y="36"/>
                    </a:lnTo>
                    <a:lnTo>
                      <a:pt x="403" y="44"/>
                    </a:lnTo>
                    <a:lnTo>
                      <a:pt x="376" y="44"/>
                    </a:lnTo>
                    <a:lnTo>
                      <a:pt x="343" y="44"/>
                    </a:lnTo>
                    <a:lnTo>
                      <a:pt x="282" y="44"/>
                    </a:lnTo>
                    <a:lnTo>
                      <a:pt x="229" y="29"/>
                    </a:lnTo>
                    <a:lnTo>
                      <a:pt x="195" y="22"/>
                    </a:lnTo>
                    <a:lnTo>
                      <a:pt x="168" y="22"/>
                    </a:lnTo>
                    <a:lnTo>
                      <a:pt x="141" y="15"/>
                    </a:lnTo>
                    <a:lnTo>
                      <a:pt x="114" y="7"/>
                    </a:lnTo>
                    <a:lnTo>
                      <a:pt x="87" y="7"/>
                    </a:lnTo>
                    <a:lnTo>
                      <a:pt x="61" y="15"/>
                    </a:lnTo>
                    <a:lnTo>
                      <a:pt x="34" y="22"/>
                    </a:lnTo>
                    <a:lnTo>
                      <a:pt x="7" y="36"/>
                    </a:ln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588520" y="3179880"/>
                <a:ext cx="126720" cy="2168280"/>
              </a:xfrm>
              <a:custGeom>
                <a:avLst/>
                <a:gdLst/>
                <a:ahLst/>
                <a:rect l="l" t="t" r="r" b="b"/>
                <a:pathLst>
                  <a:path w="80" h="1366">
                    <a:moveTo>
                      <a:pt x="0" y="0"/>
                    </a:moveTo>
                    <a:lnTo>
                      <a:pt x="33" y="109"/>
                    </a:lnTo>
                    <a:lnTo>
                      <a:pt x="53" y="138"/>
                    </a:lnTo>
                    <a:lnTo>
                      <a:pt x="59" y="167"/>
                    </a:lnTo>
                    <a:lnTo>
                      <a:pt x="66" y="196"/>
                    </a:lnTo>
                    <a:lnTo>
                      <a:pt x="59" y="232"/>
                    </a:lnTo>
                    <a:lnTo>
                      <a:pt x="46" y="269"/>
                    </a:lnTo>
                    <a:lnTo>
                      <a:pt x="40" y="298"/>
                    </a:lnTo>
                    <a:lnTo>
                      <a:pt x="33" y="334"/>
                    </a:lnTo>
                    <a:lnTo>
                      <a:pt x="33" y="363"/>
                    </a:lnTo>
                    <a:lnTo>
                      <a:pt x="33" y="392"/>
                    </a:lnTo>
                    <a:lnTo>
                      <a:pt x="40" y="421"/>
                    </a:lnTo>
                    <a:lnTo>
                      <a:pt x="40" y="457"/>
                    </a:lnTo>
                    <a:lnTo>
                      <a:pt x="53" y="494"/>
                    </a:lnTo>
                    <a:lnTo>
                      <a:pt x="53" y="523"/>
                    </a:lnTo>
                    <a:lnTo>
                      <a:pt x="53" y="581"/>
                    </a:lnTo>
                    <a:lnTo>
                      <a:pt x="53" y="610"/>
                    </a:lnTo>
                    <a:lnTo>
                      <a:pt x="53" y="653"/>
                    </a:lnTo>
                    <a:lnTo>
                      <a:pt x="53" y="697"/>
                    </a:lnTo>
                    <a:lnTo>
                      <a:pt x="59" y="741"/>
                    </a:lnTo>
                    <a:lnTo>
                      <a:pt x="66" y="770"/>
                    </a:lnTo>
                    <a:lnTo>
                      <a:pt x="66" y="799"/>
                    </a:lnTo>
                    <a:lnTo>
                      <a:pt x="59" y="835"/>
                    </a:lnTo>
                    <a:lnTo>
                      <a:pt x="46" y="871"/>
                    </a:lnTo>
                    <a:lnTo>
                      <a:pt x="53" y="900"/>
                    </a:lnTo>
                    <a:lnTo>
                      <a:pt x="66" y="929"/>
                    </a:lnTo>
                    <a:lnTo>
                      <a:pt x="66" y="958"/>
                    </a:lnTo>
                    <a:lnTo>
                      <a:pt x="59" y="1016"/>
                    </a:lnTo>
                    <a:lnTo>
                      <a:pt x="53" y="1060"/>
                    </a:lnTo>
                    <a:lnTo>
                      <a:pt x="53" y="1089"/>
                    </a:lnTo>
                    <a:lnTo>
                      <a:pt x="59" y="1118"/>
                    </a:lnTo>
                    <a:lnTo>
                      <a:pt x="72" y="1147"/>
                    </a:lnTo>
                    <a:lnTo>
                      <a:pt x="72" y="1176"/>
                    </a:lnTo>
                    <a:lnTo>
                      <a:pt x="59" y="1213"/>
                    </a:lnTo>
                    <a:lnTo>
                      <a:pt x="46" y="1242"/>
                    </a:lnTo>
                    <a:lnTo>
                      <a:pt x="53" y="1278"/>
                    </a:lnTo>
                    <a:lnTo>
                      <a:pt x="66" y="1307"/>
                    </a:lnTo>
                    <a:lnTo>
                      <a:pt x="72" y="1336"/>
                    </a:lnTo>
                    <a:lnTo>
                      <a:pt x="79" y="1365"/>
                    </a:lnTo>
                    <a:lnTo>
                      <a:pt x="59" y="1300"/>
                    </a:lnTo>
                    <a:lnTo>
                      <a:pt x="40" y="1271"/>
                    </a:lnTo>
                    <a:lnTo>
                      <a:pt x="33" y="1242"/>
                    </a:lnTo>
                    <a:lnTo>
                      <a:pt x="33" y="1183"/>
                    </a:lnTo>
                    <a:lnTo>
                      <a:pt x="46" y="1154"/>
                    </a:lnTo>
                    <a:lnTo>
                      <a:pt x="59" y="1125"/>
                    </a:lnTo>
                    <a:lnTo>
                      <a:pt x="59" y="1089"/>
                    </a:lnTo>
                    <a:lnTo>
                      <a:pt x="59" y="1060"/>
                    </a:lnTo>
                    <a:lnTo>
                      <a:pt x="59" y="1031"/>
                    </a:lnTo>
                    <a:lnTo>
                      <a:pt x="66" y="995"/>
                    </a:lnTo>
                    <a:lnTo>
                      <a:pt x="66" y="966"/>
                    </a:lnTo>
                    <a:lnTo>
                      <a:pt x="66" y="922"/>
                    </a:lnTo>
                    <a:lnTo>
                      <a:pt x="66" y="864"/>
                    </a:lnTo>
                    <a:lnTo>
                      <a:pt x="40" y="835"/>
                    </a:lnTo>
                    <a:lnTo>
                      <a:pt x="26" y="799"/>
                    </a:lnTo>
                    <a:lnTo>
                      <a:pt x="26" y="770"/>
                    </a:lnTo>
                    <a:lnTo>
                      <a:pt x="26" y="726"/>
                    </a:lnTo>
                    <a:lnTo>
                      <a:pt x="26" y="683"/>
                    </a:lnTo>
                    <a:lnTo>
                      <a:pt x="26" y="639"/>
                    </a:lnTo>
                    <a:lnTo>
                      <a:pt x="26" y="610"/>
                    </a:lnTo>
                    <a:lnTo>
                      <a:pt x="26" y="581"/>
                    </a:lnTo>
                    <a:lnTo>
                      <a:pt x="26" y="552"/>
                    </a:lnTo>
                    <a:lnTo>
                      <a:pt x="40" y="523"/>
                    </a:lnTo>
                    <a:lnTo>
                      <a:pt x="46" y="486"/>
                    </a:lnTo>
                    <a:lnTo>
                      <a:pt x="46" y="450"/>
                    </a:lnTo>
                    <a:lnTo>
                      <a:pt x="46" y="421"/>
                    </a:lnTo>
                    <a:lnTo>
                      <a:pt x="46" y="392"/>
                    </a:lnTo>
                    <a:lnTo>
                      <a:pt x="46" y="349"/>
                    </a:lnTo>
                    <a:lnTo>
                      <a:pt x="46" y="319"/>
                    </a:lnTo>
                    <a:lnTo>
                      <a:pt x="46" y="290"/>
                    </a:lnTo>
                    <a:lnTo>
                      <a:pt x="46" y="254"/>
                    </a:lnTo>
                    <a:lnTo>
                      <a:pt x="46" y="225"/>
                    </a:lnTo>
                    <a:lnTo>
                      <a:pt x="53" y="196"/>
                    </a:lnTo>
                    <a:lnTo>
                      <a:pt x="59" y="160"/>
                    </a:lnTo>
                    <a:lnTo>
                      <a:pt x="46" y="131"/>
                    </a:lnTo>
                    <a:lnTo>
                      <a:pt x="26" y="102"/>
                    </a:lnTo>
                    <a:lnTo>
                      <a:pt x="13" y="73"/>
                    </a:lnTo>
                    <a:lnTo>
                      <a:pt x="13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0600" y="324000"/>
                <a:ext cx="169920" cy="3389040"/>
              </a:xfrm>
              <a:custGeom>
                <a:avLst/>
                <a:gdLst/>
                <a:ahLst/>
                <a:rect l="l" t="t" r="r" b="b"/>
                <a:pathLst>
                  <a:path w="107" h="2135">
                    <a:moveTo>
                      <a:pt x="0" y="0"/>
                    </a:moveTo>
                    <a:lnTo>
                      <a:pt x="106" y="116"/>
                    </a:lnTo>
                    <a:lnTo>
                      <a:pt x="106" y="987"/>
                    </a:lnTo>
                    <a:lnTo>
                      <a:pt x="53" y="1045"/>
                    </a:lnTo>
                    <a:lnTo>
                      <a:pt x="53" y="1161"/>
                    </a:lnTo>
                    <a:lnTo>
                      <a:pt x="66" y="1219"/>
                    </a:lnTo>
                    <a:lnTo>
                      <a:pt x="40" y="1277"/>
                    </a:lnTo>
                    <a:lnTo>
                      <a:pt x="40" y="1336"/>
                    </a:lnTo>
                    <a:lnTo>
                      <a:pt x="27" y="1394"/>
                    </a:lnTo>
                    <a:lnTo>
                      <a:pt x="40" y="1452"/>
                    </a:lnTo>
                    <a:lnTo>
                      <a:pt x="53" y="1510"/>
                    </a:lnTo>
                    <a:lnTo>
                      <a:pt x="53" y="1568"/>
                    </a:lnTo>
                    <a:lnTo>
                      <a:pt x="66" y="1626"/>
                    </a:lnTo>
                    <a:lnTo>
                      <a:pt x="40" y="1684"/>
                    </a:lnTo>
                    <a:lnTo>
                      <a:pt x="27" y="1742"/>
                    </a:lnTo>
                    <a:lnTo>
                      <a:pt x="27" y="1800"/>
                    </a:lnTo>
                    <a:lnTo>
                      <a:pt x="40" y="1873"/>
                    </a:lnTo>
                    <a:lnTo>
                      <a:pt x="40" y="1945"/>
                    </a:lnTo>
                    <a:lnTo>
                      <a:pt x="27" y="2018"/>
                    </a:lnTo>
                    <a:lnTo>
                      <a:pt x="40" y="2076"/>
                    </a:lnTo>
                    <a:lnTo>
                      <a:pt x="53" y="2134"/>
                    </a:lnTo>
                    <a:lnTo>
                      <a:pt x="13" y="2061"/>
                    </a:lnTo>
                    <a:lnTo>
                      <a:pt x="13" y="1974"/>
                    </a:lnTo>
                    <a:lnTo>
                      <a:pt x="13" y="1916"/>
                    </a:lnTo>
                    <a:lnTo>
                      <a:pt x="27" y="1858"/>
                    </a:lnTo>
                    <a:lnTo>
                      <a:pt x="40" y="1800"/>
                    </a:lnTo>
                    <a:lnTo>
                      <a:pt x="40" y="1684"/>
                    </a:lnTo>
                    <a:lnTo>
                      <a:pt x="40" y="1597"/>
                    </a:lnTo>
                    <a:lnTo>
                      <a:pt x="40" y="1539"/>
                    </a:lnTo>
                    <a:lnTo>
                      <a:pt x="40" y="1481"/>
                    </a:lnTo>
                    <a:lnTo>
                      <a:pt x="53" y="1423"/>
                    </a:lnTo>
                    <a:lnTo>
                      <a:pt x="53" y="1350"/>
                    </a:lnTo>
                    <a:lnTo>
                      <a:pt x="53" y="1292"/>
                    </a:lnTo>
                    <a:lnTo>
                      <a:pt x="40" y="1234"/>
                    </a:lnTo>
                    <a:lnTo>
                      <a:pt x="40" y="1176"/>
                    </a:lnTo>
                    <a:lnTo>
                      <a:pt x="53" y="1118"/>
                    </a:lnTo>
                    <a:lnTo>
                      <a:pt x="66" y="1060"/>
                    </a:lnTo>
                    <a:lnTo>
                      <a:pt x="66" y="987"/>
                    </a:lnTo>
                    <a:lnTo>
                      <a:pt x="66" y="929"/>
                    </a:lnTo>
                    <a:lnTo>
                      <a:pt x="66" y="871"/>
                    </a:lnTo>
                    <a:lnTo>
                      <a:pt x="66" y="798"/>
                    </a:lnTo>
                    <a:lnTo>
                      <a:pt x="66" y="726"/>
                    </a:lnTo>
                    <a:lnTo>
                      <a:pt x="66" y="668"/>
                    </a:lnTo>
                    <a:lnTo>
                      <a:pt x="66" y="552"/>
                    </a:lnTo>
                    <a:lnTo>
                      <a:pt x="53" y="494"/>
                    </a:lnTo>
                    <a:lnTo>
                      <a:pt x="53" y="436"/>
                    </a:lnTo>
                    <a:lnTo>
                      <a:pt x="53" y="377"/>
                    </a:lnTo>
                    <a:lnTo>
                      <a:pt x="53" y="319"/>
                    </a:lnTo>
                    <a:lnTo>
                      <a:pt x="53" y="261"/>
                    </a:lnTo>
                    <a:lnTo>
                      <a:pt x="53" y="203"/>
                    </a:lnTo>
                    <a:lnTo>
                      <a:pt x="53" y="145"/>
                    </a:lnTo>
                    <a:lnTo>
                      <a:pt x="27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2920" y="693720"/>
                <a:ext cx="147600" cy="2697120"/>
              </a:xfrm>
              <a:custGeom>
                <a:avLst/>
                <a:gdLst/>
                <a:ahLst/>
                <a:rect l="l" t="t" r="r" b="b"/>
                <a:pathLst>
                  <a:path w="93" h="1699">
                    <a:moveTo>
                      <a:pt x="92" y="0"/>
                    </a:moveTo>
                    <a:lnTo>
                      <a:pt x="79" y="73"/>
                    </a:lnTo>
                    <a:lnTo>
                      <a:pt x="79" y="131"/>
                    </a:lnTo>
                    <a:lnTo>
                      <a:pt x="66" y="189"/>
                    </a:lnTo>
                    <a:lnTo>
                      <a:pt x="26" y="247"/>
                    </a:lnTo>
                    <a:lnTo>
                      <a:pt x="26" y="305"/>
                    </a:lnTo>
                    <a:lnTo>
                      <a:pt x="26" y="363"/>
                    </a:lnTo>
                    <a:lnTo>
                      <a:pt x="39" y="421"/>
                    </a:lnTo>
                    <a:lnTo>
                      <a:pt x="53" y="479"/>
                    </a:lnTo>
                    <a:lnTo>
                      <a:pt x="53" y="537"/>
                    </a:lnTo>
                    <a:lnTo>
                      <a:pt x="39" y="610"/>
                    </a:lnTo>
                    <a:lnTo>
                      <a:pt x="39" y="668"/>
                    </a:lnTo>
                    <a:lnTo>
                      <a:pt x="39" y="726"/>
                    </a:lnTo>
                    <a:lnTo>
                      <a:pt x="39" y="784"/>
                    </a:lnTo>
                    <a:lnTo>
                      <a:pt x="13" y="856"/>
                    </a:lnTo>
                    <a:lnTo>
                      <a:pt x="0" y="914"/>
                    </a:lnTo>
                    <a:lnTo>
                      <a:pt x="0" y="972"/>
                    </a:lnTo>
                    <a:lnTo>
                      <a:pt x="26" y="1030"/>
                    </a:lnTo>
                    <a:lnTo>
                      <a:pt x="26" y="1103"/>
                    </a:lnTo>
                    <a:lnTo>
                      <a:pt x="13" y="1176"/>
                    </a:lnTo>
                    <a:lnTo>
                      <a:pt x="13" y="1234"/>
                    </a:lnTo>
                    <a:lnTo>
                      <a:pt x="13" y="1292"/>
                    </a:lnTo>
                    <a:lnTo>
                      <a:pt x="13" y="1350"/>
                    </a:lnTo>
                    <a:lnTo>
                      <a:pt x="0" y="1408"/>
                    </a:lnTo>
                    <a:lnTo>
                      <a:pt x="0" y="1466"/>
                    </a:lnTo>
                    <a:lnTo>
                      <a:pt x="13" y="1524"/>
                    </a:lnTo>
                    <a:lnTo>
                      <a:pt x="53" y="1582"/>
                    </a:lnTo>
                    <a:lnTo>
                      <a:pt x="53" y="1640"/>
                    </a:lnTo>
                    <a:lnTo>
                      <a:pt x="26" y="1698"/>
                    </a:lnTo>
                    <a:lnTo>
                      <a:pt x="53" y="1640"/>
                    </a:lnTo>
                    <a:lnTo>
                      <a:pt x="39" y="1567"/>
                    </a:lnTo>
                    <a:lnTo>
                      <a:pt x="26" y="1509"/>
                    </a:lnTo>
                    <a:lnTo>
                      <a:pt x="26" y="1437"/>
                    </a:lnTo>
                    <a:lnTo>
                      <a:pt x="26" y="1379"/>
                    </a:lnTo>
                    <a:lnTo>
                      <a:pt x="26" y="1321"/>
                    </a:lnTo>
                    <a:lnTo>
                      <a:pt x="26" y="1263"/>
                    </a:lnTo>
                    <a:lnTo>
                      <a:pt x="26" y="1205"/>
                    </a:lnTo>
                    <a:lnTo>
                      <a:pt x="53" y="1147"/>
                    </a:lnTo>
                    <a:lnTo>
                      <a:pt x="66" y="1088"/>
                    </a:lnTo>
                    <a:lnTo>
                      <a:pt x="39" y="1030"/>
                    </a:lnTo>
                    <a:lnTo>
                      <a:pt x="13" y="972"/>
                    </a:lnTo>
                    <a:lnTo>
                      <a:pt x="13" y="914"/>
                    </a:lnTo>
                    <a:lnTo>
                      <a:pt x="26" y="856"/>
                    </a:lnTo>
                    <a:lnTo>
                      <a:pt x="39" y="798"/>
                    </a:lnTo>
                    <a:lnTo>
                      <a:pt x="39" y="740"/>
                    </a:lnTo>
                    <a:lnTo>
                      <a:pt x="53" y="682"/>
                    </a:lnTo>
                    <a:lnTo>
                      <a:pt x="66" y="624"/>
                    </a:lnTo>
                    <a:lnTo>
                      <a:pt x="66" y="566"/>
                    </a:lnTo>
                    <a:lnTo>
                      <a:pt x="53" y="508"/>
                    </a:lnTo>
                    <a:lnTo>
                      <a:pt x="39" y="450"/>
                    </a:lnTo>
                    <a:lnTo>
                      <a:pt x="26" y="392"/>
                    </a:lnTo>
                    <a:lnTo>
                      <a:pt x="26" y="334"/>
                    </a:lnTo>
                    <a:lnTo>
                      <a:pt x="26" y="276"/>
                    </a:lnTo>
                    <a:lnTo>
                      <a:pt x="66" y="218"/>
                    </a:lnTo>
                    <a:lnTo>
                      <a:pt x="66" y="160"/>
                    </a:lnTo>
                    <a:lnTo>
                      <a:pt x="66" y="102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843200" y="324000"/>
                <a:ext cx="4011480" cy="185760"/>
              </a:xfrm>
              <a:custGeom>
                <a:avLst/>
                <a:gdLst/>
                <a:ahLst/>
                <a:rect l="l" t="t" r="r" b="b"/>
                <a:pathLst>
                  <a:path w="2527" h="117">
                    <a:moveTo>
                      <a:pt x="0" y="116"/>
                    </a:moveTo>
                    <a:lnTo>
                      <a:pt x="81" y="73"/>
                    </a:lnTo>
                    <a:lnTo>
                      <a:pt x="134" y="58"/>
                    </a:lnTo>
                    <a:lnTo>
                      <a:pt x="188" y="44"/>
                    </a:lnTo>
                    <a:lnTo>
                      <a:pt x="242" y="44"/>
                    </a:lnTo>
                    <a:lnTo>
                      <a:pt x="296" y="58"/>
                    </a:lnTo>
                    <a:lnTo>
                      <a:pt x="363" y="87"/>
                    </a:lnTo>
                    <a:lnTo>
                      <a:pt x="417" y="87"/>
                    </a:lnTo>
                    <a:lnTo>
                      <a:pt x="470" y="87"/>
                    </a:lnTo>
                    <a:lnTo>
                      <a:pt x="524" y="87"/>
                    </a:lnTo>
                    <a:lnTo>
                      <a:pt x="591" y="87"/>
                    </a:lnTo>
                    <a:lnTo>
                      <a:pt x="645" y="73"/>
                    </a:lnTo>
                    <a:lnTo>
                      <a:pt x="752" y="58"/>
                    </a:lnTo>
                    <a:lnTo>
                      <a:pt x="833" y="58"/>
                    </a:lnTo>
                    <a:lnTo>
                      <a:pt x="887" y="44"/>
                    </a:lnTo>
                    <a:lnTo>
                      <a:pt x="941" y="44"/>
                    </a:lnTo>
                    <a:lnTo>
                      <a:pt x="1008" y="58"/>
                    </a:lnTo>
                    <a:lnTo>
                      <a:pt x="1061" y="58"/>
                    </a:lnTo>
                    <a:lnTo>
                      <a:pt x="1115" y="58"/>
                    </a:lnTo>
                    <a:lnTo>
                      <a:pt x="1209" y="58"/>
                    </a:lnTo>
                    <a:lnTo>
                      <a:pt x="1276" y="44"/>
                    </a:lnTo>
                    <a:lnTo>
                      <a:pt x="1344" y="44"/>
                    </a:lnTo>
                    <a:lnTo>
                      <a:pt x="1397" y="44"/>
                    </a:lnTo>
                    <a:lnTo>
                      <a:pt x="1451" y="44"/>
                    </a:lnTo>
                    <a:lnTo>
                      <a:pt x="1505" y="29"/>
                    </a:lnTo>
                    <a:lnTo>
                      <a:pt x="1559" y="0"/>
                    </a:lnTo>
                    <a:lnTo>
                      <a:pt x="2472" y="0"/>
                    </a:lnTo>
                    <a:lnTo>
                      <a:pt x="2526" y="29"/>
                    </a:lnTo>
                    <a:lnTo>
                      <a:pt x="2472" y="58"/>
                    </a:lnTo>
                    <a:lnTo>
                      <a:pt x="2419" y="58"/>
                    </a:lnTo>
                    <a:lnTo>
                      <a:pt x="2351" y="58"/>
                    </a:lnTo>
                    <a:lnTo>
                      <a:pt x="2298" y="58"/>
                    </a:lnTo>
                    <a:lnTo>
                      <a:pt x="2244" y="58"/>
                    </a:lnTo>
                    <a:lnTo>
                      <a:pt x="2177" y="102"/>
                    </a:lnTo>
                    <a:lnTo>
                      <a:pt x="2123" y="73"/>
                    </a:lnTo>
                    <a:lnTo>
                      <a:pt x="2069" y="73"/>
                    </a:lnTo>
                    <a:lnTo>
                      <a:pt x="2015" y="87"/>
                    </a:lnTo>
                    <a:lnTo>
                      <a:pt x="1935" y="87"/>
                    </a:lnTo>
                    <a:lnTo>
                      <a:pt x="1868" y="73"/>
                    </a:lnTo>
                    <a:lnTo>
                      <a:pt x="1814" y="58"/>
                    </a:lnTo>
                    <a:lnTo>
                      <a:pt x="1760" y="58"/>
                    </a:lnTo>
                    <a:lnTo>
                      <a:pt x="1706" y="58"/>
                    </a:lnTo>
                    <a:lnTo>
                      <a:pt x="1639" y="58"/>
                    </a:lnTo>
                    <a:lnTo>
                      <a:pt x="1585" y="58"/>
                    </a:lnTo>
                    <a:lnTo>
                      <a:pt x="1532" y="73"/>
                    </a:lnTo>
                    <a:lnTo>
                      <a:pt x="1478" y="73"/>
                    </a:lnTo>
                    <a:lnTo>
                      <a:pt x="1424" y="73"/>
                    </a:lnTo>
                    <a:lnTo>
                      <a:pt x="1370" y="58"/>
                    </a:lnTo>
                    <a:lnTo>
                      <a:pt x="1317" y="58"/>
                    </a:lnTo>
                    <a:lnTo>
                      <a:pt x="1196" y="58"/>
                    </a:lnTo>
                    <a:lnTo>
                      <a:pt x="1088" y="73"/>
                    </a:lnTo>
                    <a:lnTo>
                      <a:pt x="1035" y="73"/>
                    </a:lnTo>
                    <a:lnTo>
                      <a:pt x="967" y="73"/>
                    </a:lnTo>
                    <a:lnTo>
                      <a:pt x="914" y="87"/>
                    </a:lnTo>
                    <a:lnTo>
                      <a:pt x="846" y="87"/>
                    </a:lnTo>
                    <a:lnTo>
                      <a:pt x="779" y="73"/>
                    </a:lnTo>
                    <a:lnTo>
                      <a:pt x="726" y="73"/>
                    </a:lnTo>
                    <a:lnTo>
                      <a:pt x="658" y="73"/>
                    </a:lnTo>
                    <a:lnTo>
                      <a:pt x="591" y="73"/>
                    </a:lnTo>
                    <a:lnTo>
                      <a:pt x="524" y="73"/>
                    </a:lnTo>
                    <a:lnTo>
                      <a:pt x="470" y="73"/>
                    </a:lnTo>
                    <a:lnTo>
                      <a:pt x="417" y="73"/>
                    </a:lnTo>
                    <a:lnTo>
                      <a:pt x="363" y="73"/>
                    </a:lnTo>
                    <a:lnTo>
                      <a:pt x="309" y="44"/>
                    </a:lnTo>
                    <a:lnTo>
                      <a:pt x="255" y="44"/>
                    </a:lnTo>
                    <a:lnTo>
                      <a:pt x="202" y="44"/>
                    </a:lnTo>
                    <a:lnTo>
                      <a:pt x="148" y="73"/>
                    </a:lnTo>
                    <a:lnTo>
                      <a:pt x="94" y="73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873680" y="324000"/>
                <a:ext cx="2798640" cy="118800"/>
              </a:xfrm>
              <a:custGeom>
                <a:avLst/>
                <a:gdLst/>
                <a:ahLst/>
                <a:rect l="l" t="t" r="r" b="b"/>
                <a:pathLst>
                  <a:path w="1763" h="75">
                    <a:moveTo>
                      <a:pt x="188" y="0"/>
                    </a:moveTo>
                    <a:lnTo>
                      <a:pt x="363" y="74"/>
                    </a:lnTo>
                    <a:lnTo>
                      <a:pt x="444" y="74"/>
                    </a:lnTo>
                    <a:lnTo>
                      <a:pt x="565" y="74"/>
                    </a:lnTo>
                    <a:lnTo>
                      <a:pt x="619" y="74"/>
                    </a:lnTo>
                    <a:lnTo>
                      <a:pt x="699" y="59"/>
                    </a:lnTo>
                    <a:lnTo>
                      <a:pt x="753" y="59"/>
                    </a:lnTo>
                    <a:lnTo>
                      <a:pt x="807" y="44"/>
                    </a:lnTo>
                    <a:lnTo>
                      <a:pt x="874" y="44"/>
                    </a:lnTo>
                    <a:lnTo>
                      <a:pt x="928" y="44"/>
                    </a:lnTo>
                    <a:lnTo>
                      <a:pt x="995" y="74"/>
                    </a:lnTo>
                    <a:lnTo>
                      <a:pt x="1103" y="74"/>
                    </a:lnTo>
                    <a:lnTo>
                      <a:pt x="1157" y="74"/>
                    </a:lnTo>
                    <a:lnTo>
                      <a:pt x="1211" y="74"/>
                    </a:lnTo>
                    <a:lnTo>
                      <a:pt x="1332" y="74"/>
                    </a:lnTo>
                    <a:lnTo>
                      <a:pt x="1399" y="59"/>
                    </a:lnTo>
                    <a:lnTo>
                      <a:pt x="1453" y="44"/>
                    </a:lnTo>
                    <a:lnTo>
                      <a:pt x="1506" y="44"/>
                    </a:lnTo>
                    <a:lnTo>
                      <a:pt x="1560" y="30"/>
                    </a:lnTo>
                    <a:lnTo>
                      <a:pt x="1654" y="30"/>
                    </a:lnTo>
                    <a:lnTo>
                      <a:pt x="1708" y="30"/>
                    </a:lnTo>
                    <a:lnTo>
                      <a:pt x="1762" y="30"/>
                    </a:lnTo>
                    <a:lnTo>
                      <a:pt x="1708" y="30"/>
                    </a:lnTo>
                    <a:lnTo>
                      <a:pt x="1654" y="44"/>
                    </a:lnTo>
                    <a:lnTo>
                      <a:pt x="1601" y="74"/>
                    </a:lnTo>
                    <a:lnTo>
                      <a:pt x="1547" y="74"/>
                    </a:lnTo>
                    <a:lnTo>
                      <a:pt x="1493" y="74"/>
                    </a:lnTo>
                    <a:lnTo>
                      <a:pt x="1426" y="59"/>
                    </a:lnTo>
                    <a:lnTo>
                      <a:pt x="1372" y="59"/>
                    </a:lnTo>
                    <a:lnTo>
                      <a:pt x="1251" y="59"/>
                    </a:lnTo>
                    <a:lnTo>
                      <a:pt x="1184" y="59"/>
                    </a:lnTo>
                    <a:lnTo>
                      <a:pt x="1116" y="59"/>
                    </a:lnTo>
                    <a:lnTo>
                      <a:pt x="1009" y="59"/>
                    </a:lnTo>
                    <a:lnTo>
                      <a:pt x="955" y="59"/>
                    </a:lnTo>
                    <a:lnTo>
                      <a:pt x="888" y="59"/>
                    </a:lnTo>
                    <a:lnTo>
                      <a:pt x="820" y="74"/>
                    </a:lnTo>
                    <a:lnTo>
                      <a:pt x="767" y="74"/>
                    </a:lnTo>
                    <a:lnTo>
                      <a:pt x="699" y="59"/>
                    </a:lnTo>
                    <a:lnTo>
                      <a:pt x="646" y="44"/>
                    </a:lnTo>
                    <a:lnTo>
                      <a:pt x="592" y="44"/>
                    </a:lnTo>
                    <a:lnTo>
                      <a:pt x="538" y="44"/>
                    </a:lnTo>
                    <a:lnTo>
                      <a:pt x="484" y="59"/>
                    </a:lnTo>
                    <a:lnTo>
                      <a:pt x="430" y="59"/>
                    </a:lnTo>
                    <a:lnTo>
                      <a:pt x="377" y="30"/>
                    </a:lnTo>
                    <a:lnTo>
                      <a:pt x="323" y="15"/>
                    </a:lnTo>
                    <a:lnTo>
                      <a:pt x="269" y="15"/>
                    </a:lnTo>
                    <a:lnTo>
                      <a:pt x="215" y="15"/>
                    </a:lnTo>
                    <a:lnTo>
                      <a:pt x="161" y="15"/>
                    </a:lnTo>
                    <a:lnTo>
                      <a:pt x="108" y="30"/>
                    </a:lnTo>
                    <a:lnTo>
                      <a:pt x="54" y="44"/>
                    </a:lnTo>
                    <a:lnTo>
                      <a:pt x="0" y="59"/>
                    </a:lnTo>
                    <a:lnTo>
                      <a:pt x="54" y="59"/>
                    </a:lnTo>
                    <a:lnTo>
                      <a:pt x="108" y="30"/>
                    </a:lnTo>
                    <a:lnTo>
                      <a:pt x="161" y="30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0" y="0"/>
              <a:ext cx="1978200" cy="1955880"/>
              <a:chOff x="0" y="0"/>
              <a:chExt cx="1978200" cy="1955880"/>
            </a:xfrm>
          </p:grpSpPr>
          <p:sp>
            <p:nvSpPr>
              <p:cNvPr id="27" name=""/>
              <p:cNvSpPr/>
              <p:nvPr/>
            </p:nvSpPr>
            <p:spPr>
              <a:xfrm>
                <a:off x="0" y="0"/>
                <a:ext cx="1978200" cy="1955880"/>
              </a:xfrm>
              <a:prstGeom prst="rect">
                <a:avLst/>
              </a:prstGeom>
              <a:solidFill>
                <a:srgbClr val="1a0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90600" y="320760"/>
                <a:ext cx="1587600" cy="163512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0"/>
                <a:ext cx="1860480" cy="1849320"/>
              </a:xfrm>
              <a:prstGeom prst="rect">
                <a:avLst/>
              </a:prstGeom>
              <a:gradFill rotWithShape="0">
                <a:gsLst>
                  <a:gs pos="0">
                    <a:srgbClr val="790015"/>
                  </a:gs>
                  <a:gs pos="100000">
                    <a:srgbClr val="60001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" name="PlaceHolder 1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524880" y="6600960"/>
            <a:ext cx="309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7836120" y="6583320"/>
            <a:ext cx="125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- </a:t>
            </a:r>
            <a:fld id="{1500736C-5D4E-4181-B1CA-82A42AF4D2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 NETWORK INTERFAC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nan Basalamah &amp; Bondan Ruf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 Network Reseach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U Mikroelektronika I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mmand Option lain dari ifconfi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P &amp; Trai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ARP &amp; Trailers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etakan IP Address ke physical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lakukan enkapsulasi trailers terhadap paket 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tric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i harga pada suatu r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oleh RIP untuk mengambil keputusan 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Protokol Serial 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= Serial Line Interne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 = Point To Poin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SL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irim datagram melalui serial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ndefinisikan link control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ada err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yang sekarang dapat menggunakan kompresi Van Jacob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PP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informasi link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err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kompresi 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milih Protokol Serial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tersedia untuk banyak hard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lebih banyak diguna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lebih mudah diimplementasi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lebih dapat diandalkan (Reli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adalah Internet 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SL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 dikonfigurasi dahulu dengan ifconf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kukan perintah slatt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Slattac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untuk mengasosiasikan suatu tty sebagai port s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slattach -option &lt;nama_devic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nto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ifconfig sl0 167.205.22.1 167.205.136.15 netmask 0xffffffe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slattach -s 38400 -h tty0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elah ini maka secara otomatis tty00 dianggap sebagai sl0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Fleksibilitas TCP/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sa Digunakan Pada Semua Jenis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merlukan Interface Defa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rakteristik tiap Interface Harus Didefinisikan Dengan Je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PP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ppp 167.205.15.3 : 128.66.15.26 /dev/ttya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u bisa ju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ppp 167.205.15.3 : /dev/ttya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memiliki kemampuan untuk mempelajari IP Address lawann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Konfigurasi dari Startup Fil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BSD-Unix dilakukan dari /etc/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System V dilakukan dari /etc/initta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ipt diatas akan memanggil script script lain sesuai dengan keperlu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Karakteristik Network Interface Yang Pentin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adcast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etahui Interface Yang Aktif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netst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ifconfi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unakan Netsta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netstat -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= all network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 = display status of configured network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= display in numeric for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unakan ifconfi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ifconfig &lt;nama_interfac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ed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ampilkan karakteristik interface ed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-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ampilkan semua interface yang akt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Tiga Network Interface yang Umum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h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Interface Etherne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tukan Dahu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 Address Interface Terse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amat Broadc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ifc_name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ifc_name IP_add netmask mask broadcast bcast_add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ntoh perinta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config ed0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disable interface ed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config ed0 167.205.22.114 netmask 255.255.255.0 broadcast 167.205.22.255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konfigurasi dan menjalankan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9T10:45:20Z</dcterms:created>
  <dc:creator>IKUN HRK</dc:creator>
  <dc:description/>
  <dc:language>en-US</dc:language>
  <cp:lastModifiedBy>Onno W. Purbo</cp:lastModifiedBy>
  <cp:lastPrinted>1995-11-19T15:09:18Z</cp:lastPrinted>
  <dcterms:modified xsi:type="dcterms:W3CDTF">1999-04-19T03:10:28Z</dcterms:modified>
  <cp:revision>3</cp:revision>
  <dc:subject/>
  <dc:title>MENGKONFIGURASI  NETWORK INTERFACE</dc:title>
</cp:coreProperties>
</file>