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9DF-F9E6-42C4-9589-033B39D4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DBD-20F0-4505-9212-A47BC6CB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741-26E3-45F0-A7D1-190848B5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727-324C-4A98-AB02-BE14E1D0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6A64-F689-4C2A-9ED5-A0E777AF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C884-2A90-4B5A-90F3-5E7327D0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492D-78F1-4EC1-AB60-3C413C6F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FB88-0409-423C-AFA6-13CCA716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BB9A-A76A-41F2-9886-63CFB854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4EF0-E2D6-455B-8E0C-90706CB5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B913-0591-4632-BE1D-928BC18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237-EB22-486A-BCAA-68B0A72F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C1C5-A046-40C3-B4FC-37AA8EF4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4529-AAFA-48AB-95C1-105BACF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BB24-04AC-405D-94A8-46DD271E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9676-055E-440F-9D9C-885E1332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3A97-6359-4E4A-B9E5-B7CBED6F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C18-9C7B-4AB6-9E2F-EEFCA8CB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507-C5F3-42A4-8AC4-15450D7D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E77-AAEC-45E6-9BB8-B403FDA4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E8D-E8EB-4ECE-A4F7-F8227BA8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BE9-F1EA-41C8-8482-72865184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49D-E143-480D-A72A-83E15712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D47-2CD7-43ED-BD34-B7F3EAC3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2472-DAEB-4258-9B90-4B054D79880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70A8-2ACF-4C9F-8592-F26C944E484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mailto:ismail@itb.ac.i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groups.com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igital.lib.itb.ac.id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idln-announcement-subscribe@idln.itb.ac.id" TargetMode="External"/><Relationship Id="rId3" Type="http://schemas.openxmlformats.org/officeDocument/2006/relationships/hyperlink" Target="mailto:idln-announcement-subscribe@idln.itb.ac.id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http://netmon.itb.ac.id/~ismai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cisionmaker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Untuk 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mail Fah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@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Management Research Group IT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ma Dinamika - Sheraton, 18 Oktober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kmrg-logo-web01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868320" cy="101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Ms Out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mpilan dep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467480" cy="531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3429000"/>
            <a:ext cx="1219320" cy="2743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590920"/>
            <a:ext cx="5333760" cy="9144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962520"/>
            <a:ext cx="5333760" cy="23619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819520"/>
            <a:ext cx="76212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2286000"/>
            <a:ext cx="14821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lend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80" y="41148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2133720"/>
            <a:ext cx="2140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ader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800" y="3581280"/>
            <a:ext cx="13176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si sur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00200"/>
            <a:ext cx="762120" cy="304920"/>
          </a:xfrm>
          <a:prstGeom prst="ellipse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1752480" cy="228600"/>
          </a:xfrm>
          <a:prstGeom prst="rect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5120" y="1523880"/>
            <a:ext cx="871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a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7080" y="1066680"/>
            <a:ext cx="22428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i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120" y="1905120"/>
            <a:ext cx="21240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ules Wiz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D48-3916-4016-8071-984DAC3808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ngatur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at-surat masuk dikelompokkan berdasarkan topik/pengirim/gro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es Wiz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7080" y="2895480"/>
            <a:ext cx="1828800" cy="1600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00600"/>
            <a:ext cx="28954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1640" y="34290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5029200"/>
            <a:ext cx="1168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tu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F8B-F03E-4AE3-953F-094BEB87B9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oter, identitas pengirim, organisasi, alamat kontak 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4757" t="58197" r="0" b="0"/>
          <a:stretch/>
        </p:blipFill>
        <p:spPr>
          <a:xfrm>
            <a:off x="2895480" y="3733920"/>
            <a:ext cx="590580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4800600"/>
            <a:ext cx="54100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0248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F72-057A-4F92-988B-9F1BBB835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819520" cy="278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05792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8636000">
            <a:off x="2743200" y="3079800"/>
            <a:ext cx="2362320" cy="304560"/>
          </a:xfrm>
          <a:prstGeom prst="rightArrow">
            <a:avLst>
              <a:gd name="adj1" fmla="val 50000"/>
              <a:gd name="adj2" fmla="val 193913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9810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1F2-A007-4034-960A-602ABC8C85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rim File (Attach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5600880" cy="394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29200" y="2971800"/>
            <a:ext cx="380880" cy="38088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5257800" cy="7617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844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2720" y="2438280"/>
            <a:ext cx="155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nser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5867280"/>
            <a:ext cx="34099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ile yang akan dik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029-A98D-4EFA-AB61-46496AFF98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san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0" y="1525680"/>
            <a:ext cx="5301360" cy="277092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From: Mail Delivery Subsyste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ate: Sat, 25 May 91 16:45:14 -040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To: mg@gracie.co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Cc: Postmaster@cs.widener.edu Subject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eturned mail: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----- Transcript of session follows -----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While talking to cs.widener.edu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gt;&gt;&gt; RCPT To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lt;&lt;&lt; 550 ...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550 lsimpson... User unknow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352680"/>
            <a:ext cx="236232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6160" y="4267080"/>
            <a:ext cx="562896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esan error dapat diketahui da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Email yang dikembalikan ke peng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2FA-C8BD-48B4-9680-D3AE7914D2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alend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531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2895480"/>
            <a:ext cx="68580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53320" y="1219320"/>
            <a:ext cx="25473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ave sbg 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A64-41C4-455B-8112-B215F9AD92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ling list: sebuah alamat email yang mendistribusikan setiap pesan ke seluruh anggotany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uat mailing list sendir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egroups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277-B393-46BC-82A5-E972606DF0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al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Courier New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mendaftar sebagai anggo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 tertentu misa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subscrib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luar dari keanggota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unsubscri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un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F97-416D-429C-8B03-C35D5213F1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: etika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semakin diperlukan ketik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irim email ke distribution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net, at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oh netiquette yang buru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E20-9F3F-46B4-850C-8F66F05799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Public Re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ga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gaimana sampai ke s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643-282A-498B-9BB3-DFB095AACA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irim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nsolici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mail di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a perusahaan yang khusus mengumpulkan alamat email untuk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ispa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ang spamming misal ingin beriklan, promosi produk, dl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aki seseorang di forum umum (mailing lis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mming biasanya ditujukan pada ORANG (subjektif) bukan pada INFORMASI (objektif) yang sedang dibah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F7D-721C-4528-9479-41BFB68AFF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sl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19520" y="1295280"/>
            <a:ext cx="5157720" cy="533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7760" y="1828800"/>
            <a:ext cx="266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kirim hanya 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cri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gus untuk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yebarkan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si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baru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7760" y="6019920"/>
            <a:ext cx="21834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sis Te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F8B-AB13-47E4-87E7-3871250D35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39000" cy="4695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43600" y="2590920"/>
            <a:ext cx="12952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572000"/>
            <a:ext cx="160020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2590920"/>
            <a:ext cx="45720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4640" y="2133720"/>
            <a:ext cx="198828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Order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2760" y="2057400"/>
            <a:ext cx="16117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lp de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3200" y="4038480"/>
            <a:ext cx="1742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962520"/>
            <a:ext cx="2210040" cy="1371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4680" y="342900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5BA-0761-4FB7-AEF1-86D4936DA0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elola arsip-arsip secara digit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untung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mat temp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an cepat ditemu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iorganisasi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pat diakses secara on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ngat membantu kinerja organis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tuk berbagai format ars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arsi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ll teks, source c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e, gamb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media (audio, vide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AD7-D4F4-4105-A9BC-68D672EB03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</a:t>
            </a: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digital.lib.itb.ac.i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6105240" cy="516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809880"/>
            <a:ext cx="3733920" cy="10670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952880"/>
            <a:ext cx="1905120" cy="15242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3352680"/>
            <a:ext cx="3733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gai tip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1480" y="533412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86A-037D-4B9F-926E-C919B44648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dahnya akses arsip dig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5440" y="1371600"/>
            <a:ext cx="4973760" cy="536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6766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0" t="27931" r="29011" b="7700"/>
          <a:stretch/>
        </p:blipFill>
        <p:spPr>
          <a:xfrm>
            <a:off x="228600" y="27432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657600"/>
            <a:ext cx="2286000" cy="3049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286000"/>
            <a:ext cx="31240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3124080"/>
            <a:ext cx="173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Judul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31480" y="1752480"/>
            <a:ext cx="22046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tegori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6095880"/>
            <a:ext cx="2133360" cy="457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11600" y="5334120"/>
            <a:ext cx="213588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Download/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lay file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2680" y="4191120"/>
            <a:ext cx="2817360" cy="1373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eal Player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utk mendengarkan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rsip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rcRect l="0" t="44018" r="28947" b="0"/>
          <a:stretch/>
        </p:blipFill>
        <p:spPr>
          <a:xfrm>
            <a:off x="228600" y="1676520"/>
            <a:ext cx="2971800" cy="102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600200"/>
            <a:ext cx="2590560" cy="5335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360" y="1219320"/>
            <a:ext cx="11469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362320"/>
            <a:ext cx="0" cy="5331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048120"/>
            <a:ext cx="1752840" cy="7617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76F-5094-43B5-988A-C1EAB64AE5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ringan Digital Library Na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itusi pendidikan dan ri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ling berbagi informasi ilmu pengetahuan yang dimilik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siatif KMRG ITB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nesiaDLN, Indonesian Digital Library Networ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site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scribe mailing list: </a:t>
            </a:r>
            <a:br>
              <a:rPr sz="32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idln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-announcement-subscribe@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14F-F722-4D53-A8CD-A7295AA94D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kenario IndonesiaD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147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76520" y="1447920"/>
          <a:ext cx="670536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7053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A0C-4033-401C-A904-84E9C4FC6E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ncana Implementas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447920"/>
          <a:ext cx="708660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08660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AB7-14CC-4BA2-B10F-878B73D471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imakasi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MRG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@itb.ac.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netmon.itb.ac.id/~isma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/Fax: 022-250008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pustakaan Pusat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l. Ganesha 10 Bandung 4013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B73-C226-4EE7-86DF-737D999D32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ap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lombang ketiga: Informa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tumbuh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pat, Efektif, Efisi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lua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ll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ntanga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ktretaris, staff, boss mau tidak mau harus dapat memanfaatk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ABF-C9DB-41E7-8724-E844CAFDC4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Tai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is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an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38B-D369-47B7-9DB2-C3BCE09D51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Commerce (EC): Jual beli barang/jasa di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 dilakukan melalui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tailing (virtual storefronts, virtual mall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mazon.com: buk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DNow: C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liesOnline: office supply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 (misal data demigrafis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lling, survey via web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I, Electronic Data Interchange, pertukaran data bisnis secara elektro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ersambu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003-E4D3-4BFB-848A-1BBFA36F50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, Fax, Internet Telephon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solicited ads (promosi lewat email spam)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newsletter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gn-up to receive email (ttg produk yang diminat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-to-B (Business-to-Business)  jual bel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Jual beli produk antar perusahaan melalui Intern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4 jam/hari showc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 reach a right people in a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Business Transactio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ent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gistrasi akses dan log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kripsi (penyandian dat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8FF-A974-4E9C-B36E-108036C0CE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Bisnis, Bisnis di Interne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dak hanya untuk jual be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i juga pemberian layanan, kolaborasi, dan joint research dengan partner bisn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tama kali digunakan oleh IBM (Oktober 97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ni banyak perusahaan berfikir bisnis dengan budaya dan kapabilitas baru menggunakan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oh sukses: Amazon.com, IBM, H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alah ttg E-bisnis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decisionmaker.c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242-3B29-4D4D-8641-66712E3250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gaimana bisa ke san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 dasar bagi Public Rela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AD3-1D6A-4DC3-9CF8-1B7883BBAA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 tool paling ampuh untuk  komunikasi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at dan mudah memberi response, tidak perlu khawatir bagaimana sampai ke tuju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-2 Emai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 Outloo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Communica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gasus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7B2-9F92-436C-97C7-6A349C6237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1:18:43Z</dcterms:created>
  <dc:creator>Ismail Fahmi</dc:creator>
  <dc:description/>
  <dc:language>en-US</dc:language>
  <cp:lastModifiedBy>Ismail Fahmi</cp:lastModifiedBy>
  <dcterms:modified xsi:type="dcterms:W3CDTF">2000-10-16T09:29:38Z</dcterms:modified>
  <cp:revision>35</cp:revision>
  <dc:subject/>
  <dc:title>Internet Untuk Sekretaris</dc:title>
</cp:coreProperties>
</file>