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966-40DF-42C6-B375-C06E5DB0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C80-67AB-40F8-AD8C-C0E8DF7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943-A46C-4052-9BA1-28749F52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F16-2E12-4CC9-97D9-25D5A3BF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B8FB-5356-4856-8955-5A26F33C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DB7E-1C8D-45F8-B22E-F11A41D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ED21-7F90-456E-A12D-672637EC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C610-B923-4D88-BBD0-C605C17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F448-1A24-4F94-A9F3-89965346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0431-5617-43BE-9927-452B23D7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E57C-0133-4E8E-AD26-34E56FB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13D-19BC-4614-A122-2C47860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4FD6-EF32-4B70-BB5A-5A13A2E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E96D-1F71-4C22-B20E-F52DC82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FCCF-B76E-4E5A-B46D-EA9D638D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840E-89F7-4CC4-8FAB-E2AB0B59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CD3-2648-4884-9F68-20304A02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73B-0EA2-4515-BE56-64774B7A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55B-DBE8-470E-8F8C-A45EA5EB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C5D-CB5B-4497-BF73-F71AF3E9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D43-CE46-4411-A0A7-639C29EE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FA2-2F23-4095-8D05-B8345647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2FA-30A9-4E33-9A3E-3FF8AE25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15D-758A-4EE9-ABBF-8A8D793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D004-D35B-4BDF-ACB8-E0D843E3D2D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6CDE-4B2C-49BD-B011-2CE565DF8BFD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Kontribusi Perpustakaan Pusat ITB:</a:t>
            </a:r>
            <a:br>
              <a:rPr sz="32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nsep, strategi, teknologi, dan jaringan Digital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MRG, AI3, CN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mail Fahmi - Ismail@itb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228E-16DE-4A7D-B5A1-CF8285FC28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WAIS-IS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566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B8C-1802-46E1-A76B-25D672E3AC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 server di ITB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ggo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1 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40 buah database CDS/ISIS on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an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ll host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33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419720" cy="39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845-1DA0-4833-89B4-9E19B765D1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nline shopping &amp; ord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971800" cy="2073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552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2438640" cy="202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9084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90920" cy="1984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4527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324480" y="4114800"/>
            <a:ext cx="2543400" cy="2489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5276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924280" cy="24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5276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52280" y="4114800"/>
            <a:ext cx="284796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81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3276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6019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B00-F0A8-48FD-8605-AB625E65AE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Ganesha Digital Library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62360" y="16765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jadi knowledgebase dari IC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gan mengelola tacit &amp; explicit knowledge civitas ITB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nggunakan TI yang tepat dan terjangkau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membuka akses bagi masyarakat secara lua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http://digital.lib.itb.ac.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468-068F-4BA4-B083-054FD333C1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plic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urse materi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334-AF70-4ADD-9963-40D4B9CA3E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Map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Tac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iling list archiv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0AF-FD70-4483-9B01-54120BBF1E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Captur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555bad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5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192-1DF2-4B11-96C3-A8C7CE15E7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Access &amp; Dissemin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9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0" name=""/>
          <p:cNvCxnSpPr>
            <a:stCxn id="198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b97c0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198" idx="4"/>
            <a:endCxn id="203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9E7-E168-48EB-A7DE-856C4E7240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Pres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29F-07D6-4C3E-8BA2-24229CE7BC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ampus Network Topolog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01A-F607-4039-8CBB-1A0B36A97B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kilas tentang Knowledge Manag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KM di PP IT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ISNetwork, One Stop Shop for Libraries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nesha Digital Libr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ringan Digital Library: Nasional &amp; Internas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Free-Software: GNU-Li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6B1-4FA7-4975-A6AA-3CC0003486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onfigurasi Serv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at ini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tium 1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4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 GB H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IS-ISIS search eng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l ser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mail + Ezml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8840" y="182880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00 GB HD (hingga TB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E95-5A04-45F7-A96D-E59A909424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Jaringan Digital Library Nasional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yek pembuatan sistem jaringan digital library nasional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husus mengelola laporan penelitian, thesis, dan disertas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34360" y="141120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99B-9346-44C0-8BB2-28A315D514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kus komunitas targ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asiswa dan Peneli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omunitas yang kreatif dan inovatif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sen knowled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pustak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bagai knowledge manager, organis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adigma library sbg information cen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luang linkag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5D6-DA6A-4098-A7C5-990BB5D978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si hasil penelitian terbuka dan mudah diaks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blikasi hasil penelitian semakin cepat, mudah, dan murah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ualitas lulusan dan hasil penelitiannya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manfaatkan hasil penelitian mening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ksternalisasi tacit knowled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kage dengan dunia bisnis, industri, dan masyarak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03E-B2A7-4016-BF4D-E94D0912B6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1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laksana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MRG &amp; CN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und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N ASIA/IDRC Singapo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yasan Litbang Telekomunikasi dan Informatik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NR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n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pport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ian Internet Interconnection Initiatives (AI3)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76B-4A65-4213-B25C-48E74543F7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rganisasi (2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rtner (pioneer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A5F-19B6-4066-850F-533A2125D2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85800" y="228600"/>
          <a:ext cx="82296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2296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digital librar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00005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FBB-4662-4F4E-92ED-9A10B89CEA01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utput proje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 server Digital Library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ndard: metadata, naming, submission method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 pengelola di tiap part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357-E380-47A2-BD8C-A9117CABCC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Jaringan Digital Library Internasional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tukaran knowledgebase (laporan penelitian, tesis, dan disertas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rtner di luar negeri (confirmed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Groningen, Belan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iversitas Aalborg, Denm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B sebagai hub/gateway untuk Indones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timasi tahun 20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8BE-B12A-4E26-A84D-60DC7D493F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5C3-C779-423B-89AF-FBC92B8195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Knowledge Management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555ba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555b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329-2FF8-49E3-90A3-127FD47EC9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uang jaringan Internasion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7CA-1B10-4AA4-B35A-54EAB114B4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a Self-Sustainab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ding hanya diperlukan diaw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anjutnya pola self-sustainable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ree akses ke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ualan CD-ROM database metadat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base sebagai modal barter dengan partner internasio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6C0-4F4B-448D-9A4E-608E8BDF29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u Plagiatis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tiap orang akan dengan mudah mengetahui hasil / laporan riset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setiap plagiat akan mudah dilacak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g keinginan berbuat plagiat semakin keci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CEF-A257-4485-95EB-CFA7DEE801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GNU-Lib, Free-Software Library Automation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-Softwar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erarti “freedom”, “bebas”, “liberty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kan “gratis”, “harga 0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rary Automatio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orkflow aktifitas perpustakaan dengan bantuan TI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ncarian, peminjaman, pengembalian, denda, pemesanan, perpanjangan, pengadaan buku, keanggotaan, dll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NU-Lib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ject pembuatan Free-Software Library Auto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leh KMRG IT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gnu-head-sm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362320" cy="2233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939000" y="5410080"/>
            <a:ext cx="120636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ahun in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C66-A52D-48E2-872D-24B4AD86FC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eatu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ungsi library automation pada umumny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b akses: online search, pesan, perpanjangan, d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ail aler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code enab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324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8164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758-3509-4406-A41D-43FD60C9DE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entium 100 MHz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32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4 GB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, minimum requirem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or 48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16 MB Mem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No H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thernet car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Mod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Internet connection to ISP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240-27C3-4CA6-840C-4BDFDA0794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erve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perating system: Linux or Unix FreeBS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atabase server: MySQ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cripting language: Per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eb server: Apache + PH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il server: Qmai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lie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OS with TCP/IP applica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ptional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or barcode printing, using Windows 95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0B5-A55B-4D23-AE1F-C16C803351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74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398-4BA0-4975-9ECF-26C5A5CFB8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ve K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4e1d"/>
              </a:gs>
              <a:gs pos="50000">
                <a:srgbClr val="fcab40"/>
              </a:gs>
              <a:gs pos="100000">
                <a:srgbClr val="744e1d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24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0E6-3AFD-4268-8D44-7A0A4D726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27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744e1d"/>
                </a:gs>
                <a:gs pos="50000">
                  <a:srgbClr val="fcab40"/>
                </a:gs>
                <a:gs pos="100000">
                  <a:srgbClr val="744e1d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ikator Keberhasil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31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C06-390A-4E5C-B237-1133760CD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unci suks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daya “knowledge-friend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juan dan Bahasa yang jel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transfer dengan berbagai ja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kungan senior manajem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8CB-2710-4138-8635-F700B28FE4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roject KM di PP ITB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s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uju masyarakat berbasis ilmu pengetahuan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lalui pengelolaan modal intelektual secara efektif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nggunakan teknologi informasi yang tepat dan terjangkau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1D3-4D17-4AB8-9BAA-94BE50A25F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rateg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-Software/Open-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mbangun tool DL yang  “free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ngelola dan membuka akses ke IC IT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are teknologi DL dan membangun jaringan D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si komunitas “knowledge-shar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22E-2559-4907-8A4A-9B39AA39A6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SISNetwork, One Stop Sho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8140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34320" cy="506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70240" y="2133720"/>
            <a:ext cx="3292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4"/>
                </a:solidFill>
                <a:latin typeface="Arial Narrow"/>
              </a:rPr>
              <a:t>http://isisnetwork.lib.itb.ac.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F40-56A6-4E4E-9316-55D8C9289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8:51:05Z</dcterms:created>
  <dc:creator>Ismail Fahmi</dc:creator>
  <dc:description/>
  <dc:language>en-US</dc:language>
  <cp:lastModifiedBy>Ismail Fahmi</cp:lastModifiedBy>
  <dcterms:modified xsi:type="dcterms:W3CDTF">2000-06-30T01:13:32Z</dcterms:modified>
  <cp:revision>39</cp:revision>
  <dc:subject/>
  <dc:title>Leveraging Intellectual Capital Assets within Research &amp; Education Institutions</dc:title>
</cp:coreProperties>
</file>