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1C3-D986-48B1-A431-66899540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58A-5ECC-476E-8E1D-6412958A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968-67F7-483F-B7D6-16A32DE5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521-659D-423B-BB25-F2092F06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CA06-839A-47A2-AF4D-C344F655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F2D7-E33A-4750-9CFE-6F4C3252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4553-309E-419A-9E9D-919D6A24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87CA-3977-4A82-9759-C50283CA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04F3-29A7-4A14-8C30-780B2AA5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9D64-588E-4A0B-8525-C6F66F9A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AAA1-D9D4-4559-8E7E-C0CE9D2D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B92-1931-4B0B-8360-962A0EDA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8BF8-DEF5-4134-B43D-393CBFBA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2D15-1C64-4265-8BB7-5777B226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BB0D-0374-4DBD-A45A-6C65CF1A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5F3D-8500-4D44-BEC2-A9BD78AF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320F-39B9-4F97-8784-3BB35CE0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2E8-6A7A-4ED5-9F00-CC0643FC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07F-806D-43B7-9761-AF4D4C45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159-45FD-45C0-A0A7-29C911B6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F0D-E9B0-411F-B1F4-BCAD3B56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C2B-9B89-46F1-950E-FEC6D228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45B-117A-459F-85F6-34C0982B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B47-91A4-4A31-8024-23E8D0F3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2A81-A099-4B3C-A18F-17B8616D72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AAEB-0F79-4E59-9A36-FCA5F9C34D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isasi Internet dalam Meningkatkan Mutu Pendidik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mail Fahmi, Ir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smail@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Management Research Group I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ar Nasional STMIK Jabar 8 Agustus 2000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yakarta Hot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bih bersifat Sos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0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ang kopi (informal) lebih efektif untuk belajar dari pada ruang kelas (form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stanford_study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525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Kompo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cloud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046920" cy="4235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7720" y="2792520"/>
            <a:ext cx="38120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many even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1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labbo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ency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 manajemen “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 Manajemen “Learning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lms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029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eBisn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hubungan deng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-chai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angnya intermedi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bang perangkap (pitfal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si; penyedia eLearning bermil-mil dari monitor learner. Tanpa motivasi tak akan ada koneksi akhir ke pikiran lea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trasi; belajar melalui desktop, diantara berbagai ganggungan telepon, teman, tetangga, anak, tv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isi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ucational psychologist William Glasser mengatakan, kita belaj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% of what we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% of what we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0% of what we 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0% of what we see &amp;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0% of what we discus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80% of what we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5% of what we teach someone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kegaga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ualitas dan intensitas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tersediaan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biasaan, sifat, dan buda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knologi pengiriman materi -- bandwidth, dl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la pembiay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kurangan dari model kolaborasi dig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p dalam ri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alibrasi dari ekspek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liott Masie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earning Briefing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January 2000, Seatt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en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ingkat kebutuha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jemen berbasis standard (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anj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bedded dalam perangk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” learning menggunakan berbagai media (multimed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cok untu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usahaan &amp; pegaw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jangka pendek (ski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deng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jaran etika dan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sialisasi, ber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um tergantikan oleh eLearn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Knowledge Managemen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di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 K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60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63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94d"/>
                </a:gs>
                <a:gs pos="50000">
                  <a:srgbClr val="00e4a8"/>
                </a:gs>
                <a:gs pos="100000">
                  <a:srgbClr val="00694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kator Keberhasi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unci suk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aya “knowledge-friendl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dan Bahasa yang je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transfer dengan berbagai ja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an senior manaje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anesha Digital Librar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78280" y="20178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jadi knowledgebase dari IC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gelola tacit &amp; explicit knowledge civitas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ggunakan TI yang tepat dan terjangkau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 membuka akses bagi masyarakat secara lu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digital.lib.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plic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rse related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Tac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iling list and archiv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Captu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Access &amp; Disse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3" name=""/>
          <p:cNvCxnSpPr>
            <a:stCxn id="201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1" idx="4"/>
            <a:endCxn id="206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mpus Network To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di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pendidikan konvensional (class room) belum tergantikan (tatap muka, moral, etik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bisa sangat membantu pendidi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lam beberapa hal, Internet lebih baik dari pendidikan konvens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figurasi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at i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tium 10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 MB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GB 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B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+ 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S-ISIS search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mail + Ezml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568480" y="1828800"/>
            <a:ext cx="29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GB HD (hingga T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ing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Jaringan Digital Library Nasion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3313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yek pembuatan sistem jaringan digital library nasio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usus mengelola laporan penelitian, thesis, dan disert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150200" y="175248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komunitas tar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hasiswa dan Penel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omunitas yang kreatif dan inovati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sen knowl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pustak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nowledge manager, organi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digma library sbg information ce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luang link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si hasil penelitian terbuka dan mudah diak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asi hasil penelitian semakin cepat, mudah, dan mura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alitas lulusan dan hasil penelitiannya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anfaatkan hasil penelitian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ernalisasi tacit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age dengan dunia bisnis, industri, dan masyara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ksa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MRG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 ASIA/IDRC Singapor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yasan Litbang Telekomunikasi dan Informatik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n Internet Interconnection Initiatives (AI3)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N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(pionee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28600" y="228600"/>
          <a:ext cx="86868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umulasi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6765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6765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2096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b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7432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2767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2096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Medica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7432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Phil, Religion, Agricultu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2767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8098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8098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Human Right,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3434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tern U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8769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4100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43434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8769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4100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put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-Software server Digital Librar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: metadata, naming, submission method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 pengelola di tiap 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ringan Digital Library Internasio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ukaran knowledgebase (laporan penelitian, tesis, dan diserta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di luar neger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Groningen, Belanda (proposal in progr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Aalborg, Denmark (potens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B sebagai hub/gateway untuk Indon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si tahu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Era Ba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7325" t="28734" r="35011" b="12291"/>
          <a:stretch/>
        </p:blipFill>
        <p:spPr>
          <a:xfrm>
            <a:off x="1371600" y="2057400"/>
            <a:ext cx="6553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jaringan Internas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 Self-Sustain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ing hanya diperlukan diaw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anjutnya pola self-sustain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akses ke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jualan CD-ROM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base sebagai modal barter dengan partner internas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lagiatis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iap orang akan dengan mudah mengetahui hasil / laporan rise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setiap plagiat akan mudah dilacak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keinginan berbuat plagiat semakin ke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imakas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proses belajar memanfaatkan internet (internet-enabled learning) – C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memanfaatkan kekuatan jaringan untuk belajar, kapan pun, dimana pun – Arista Knowledg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gabungan antara proses belajar dan internet – Bank of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dinamis, real time, kolaboratif, individual, dan komprehensi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thd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ga sudut panda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osof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p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tif Filosof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mengubah segalanya; pendidikan dan training sedang berubah, radikal – Nicholas Negropo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olusi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ama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dalah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bih bersifat sos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er yang bertanggung jaw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olusio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inscentered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72080" cy="270504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5" name="learnercentered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5079960" cy="27180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6" name=""/>
          <p:cNvSpPr/>
          <p:nvPr/>
        </p:nvSpPr>
        <p:spPr>
          <a:xfrm rot="1888200">
            <a:off x="3962160" y="26668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120" y="495288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i berpu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a “instru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8600" y="274320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 berpusat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amany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berkelanju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a 40-tahun (vs 4 tah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setiap h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ja menjadi belaj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menjadi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 seorang pun pernah seles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0:33:28Z</dcterms:created>
  <dc:creator>Ismail Fahmi</dc:creator>
  <dc:description/>
  <dc:language>en-US</dc:language>
  <cp:lastModifiedBy>Ismail Fahmi</cp:lastModifiedBy>
  <dcterms:modified xsi:type="dcterms:W3CDTF">2000-08-07T02:26:35Z</dcterms:modified>
  <cp:revision>12</cp:revision>
  <dc:subject/>
  <dc:title>Optimalisasi Internet dalam Meningkatkan Mutu Pendidikan</dc:title>
</cp:coreProperties>
</file>