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D0E-B412-4FCA-96FB-E1038C15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5A4-C2D4-43E1-A7FA-E28B2492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D51-2F73-4940-98AF-E8FF5FA5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326-1B2F-49D4-8B69-4067E03A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981C-4354-4A98-B401-28EE4D7A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7631-1B01-4511-973F-933AEB69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EA95-AA43-4D5B-B195-8D281FE1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2A59-A0F5-440F-A121-49D1B6DB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C40F-9FE4-40EF-AB8E-BC6807AE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F768-1A5F-4B68-ACA4-68A3E8F7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6AA0-F2DD-4D6A-A9D9-080B4FA9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27C-9331-4291-98A8-298AAE81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E071-746D-4E3D-B619-55A7BE3A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649C-483E-4D47-A7C0-91B9A4AD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21A3-385F-4E8D-A914-DD8D0EAA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9D34-C9E3-4DCC-A3A0-DDEF783A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B7E1-A54A-4599-BC55-7E37BD06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C46-96A0-465D-BF87-2B6FB829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398-91E9-41C2-AFD0-C8E57C7F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F5E8-FC9D-47A3-99F0-ADB7CA0B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01A-B0B4-4063-8903-7CA66D4D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9DE-BD85-4914-9AA1-161A5A58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E31-3FE7-4946-A278-B0D31AF1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DD1-DD04-40F7-971D-008773EB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E3C7-1584-4E61-A1A1-40C364FDA4CB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2EE8-C67D-4B7A-9712-6D481CC9A9DA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r.org/diglib/about/strategic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 Bulan IndonesiaDLN dan Tantangan Di Depan It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smail Fahmi &lt;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jen IndonesiaDLN (s/d 2002)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tua KMRG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1 April 2002, Savoy Homan, Bandung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ktif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 4 aspe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cie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mengelola forum IndonesiaDLN (lewat milis dan pertemuan tahun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olic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proaktif memberi masukan kepada pimpinan institusi-institusi untuk berbagi pengetahuan (belum terlalu diaktifk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rateg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standard metadata dan protokol, strategic business unit model, servi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chn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tools, arsitektur, network, hub server, instalasi, training, operas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rt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simpul/node dari jarin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penggu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i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institusi kerjas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kretari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execu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ndard &amp; T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metadata, protokol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ub Serv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the storages of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il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kretariat; numpang bareng KMRG di Perpustakaan Pusat ITB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Hub; numpang bareng server KMR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eksi Internet, 2 mbps numpang bareng AI3 IT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figurasi sebuah LAN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1478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gdl-lan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943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sitektur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971800"/>
            <a:ext cx="182880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4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0880" y="4267080"/>
            <a:ext cx="1523880" cy="1143000"/>
            <a:chOff x="380880" y="4267080"/>
            <a:chExt cx="1523880" cy="1143000"/>
          </a:xfrm>
        </p:grpSpPr>
        <p:sp>
          <p:nvSpPr>
            <p:cNvPr id="145" name=""/>
            <p:cNvSpPr/>
            <p:nvPr/>
          </p:nvSpPr>
          <p:spPr>
            <a:xfrm>
              <a:off x="380880" y="4267080"/>
              <a:ext cx="152388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uman Rights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5029200"/>
              <a:ext cx="1523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4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5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5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75248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362320"/>
            <a:ext cx="762120" cy="12189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057400" y="1828800"/>
            <a:ext cx="1904760" cy="914040"/>
            <a:chOff x="2057400" y="1828800"/>
            <a:chExt cx="1904760" cy="914040"/>
          </a:xfrm>
        </p:grpSpPr>
        <p:sp>
          <p:nvSpPr>
            <p:cNvPr id="164" name=""/>
            <p:cNvSpPr/>
            <p:nvPr/>
          </p:nvSpPr>
          <p:spPr>
            <a:xfrm>
              <a:off x="2057400" y="1828800"/>
              <a:ext cx="1904760" cy="609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tance Learning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2438280"/>
              <a:ext cx="19047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90920" y="2743200"/>
            <a:ext cx="990360" cy="60948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0" y="0"/>
                </a:moveTo>
                <a:lnTo>
                  <a:pt x="0" y="384"/>
                </a:lnTo>
                <a:lnTo>
                  <a:pt x="624" y="384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638680"/>
            <a:ext cx="13716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886200"/>
            <a:ext cx="761760" cy="19810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arat Menjadi Partner/No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miliki sumber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rsedia berbagi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gi kemajuan bangsa Indonesia.”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ngkah Menjadi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sikan: knowledge source, type, user, dan serv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kan staf dan mekanisme pengelolaa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rver digital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sikan server ke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ronisasi data (share and harv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ervic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ni 2001 – April 200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Hub Ser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mlah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n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de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ABB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A = Kode wilayah (menurut Indomar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sal: JB = Jawa Bar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B = Tipe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 = Perguruan Ting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K = Perpustakaan Khu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N = Wa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 = Pers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 = Singkatan nama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oh: JBPTITBPP (Perpustakaan Pusat IT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ktober 2000: Forum dibentu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i 2001: Jaringan DL diluncur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l 2002: Pertemuan Tahunan Keti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got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divid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tertarik pada PENGEMBANGAN DL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stitu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ingin turut BERBAGI PENGETAHUAN bagi bangsa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/Nodes (Institusi)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 6 April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disi Koneksi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l-up / tempo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pe Cont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2133720"/>
          <a:ext cx="845820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5820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488200" y="5715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= 4023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t Fi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6104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6104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Besar Kontributor Metadata &amp;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371600"/>
          <a:ext cx="70102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010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e Vs Harv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mlah Partn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fi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vest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/ Us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00200"/>
          <a:ext cx="609624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60962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151760" y="1563840"/>
            <a:ext cx="124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d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il b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bi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gara Asal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1600" y="1981080"/>
          <a:ext cx="406728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406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59960" y="20210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 juga 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ng dari 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file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905120"/>
          <a:ext cx="40179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4017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160320" y="1639800"/>
            <a:ext cx="21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,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siswa S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si ked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 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Akses GDL 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usage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10640" cy="3505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4200" y="590724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agian besar berupa sinkronisasi data dari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523880" y="3124080"/>
          <a:ext cx="6553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553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3716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2743200"/>
            <a:ext cx="2209680" cy="1447560"/>
            <a:chOff x="5638680" y="2743200"/>
            <a:chExt cx="2209680" cy="1447560"/>
          </a:xfrm>
        </p:grpSpPr>
        <p:sp>
          <p:nvSpPr>
            <p:cNvPr id="110" name=""/>
            <p:cNvSpPr/>
            <p:nvPr/>
          </p:nvSpPr>
          <p:spPr>
            <a:xfrm>
              <a:off x="5638680" y="3264120"/>
              <a:ext cx="1493280" cy="92664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3640" y="2743200"/>
              <a:ext cx="1134720" cy="127404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77360" y="3322440"/>
              <a:ext cx="298440" cy="57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43000" y="2590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to our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cenderungan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dan melakukan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tapi tidak aktif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aktif harvest/download metada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terdaftar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al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cenderungan tsb mungkin disebabk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 adalah sesuatu yang baru dan ingin dicob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kungan pimpinan institusi untuk mengelola DL kurang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dard operasi sinkronisasi data belum a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sialisasi aktif dan service bagi partner belum didefinisik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definisi pasar, kebutuhan user, dan standard service bers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Di De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8cs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tanyaan untuk Meeting Ketig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our users and what are their nee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ervices we will provi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standard, protocol, and too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will lead the IndonesiaDLN nex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survive from the financial issu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2819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Terbes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asal dari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dalam diri kita sendi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ur knowledg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want to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t,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i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72200" y="4191120"/>
            <a:ext cx="1494000" cy="1523880"/>
            <a:chOff x="6172200" y="4191120"/>
            <a:chExt cx="1494000" cy="1523880"/>
          </a:xfrm>
        </p:grpSpPr>
        <p:sp>
          <p:nvSpPr>
            <p:cNvPr id="117" name=""/>
            <p:cNvSpPr/>
            <p:nvPr/>
          </p:nvSpPr>
          <p:spPr>
            <a:xfrm>
              <a:off x="6172200" y="4788000"/>
              <a:ext cx="1494000" cy="92700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191120"/>
              <a:ext cx="1135080" cy="127476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it is lock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rena KI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idak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erlu 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orang lain ingin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cara memberi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t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 seterusnya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to Unlock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lah tugas KITA di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TA haru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TAH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SADA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u BERBAGI, l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it ! Tunggu apa lagi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 yang perlu dike-TAHU-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kayaan intelektual kit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a membutuhkan ap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mun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menyampaikanny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ulture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operation, commerce, capital, capacity, dan connectiv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hat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http://idln.lib.itb.ac.id/Open.html?target= overview/delapan_kesenjangan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ngapa Digital Librar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upakan ‘storage of knowledge’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ah dan mura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, anywhere, anytim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 (Perpustakaan) sudah lama dikenal masyarak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 Digital Libr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Digital librari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ganization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provid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ourc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cluding the specialize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af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lec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ruct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ffe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llectu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erpre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tribut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serv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integrity of,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s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sistenc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ver time of collections of digital works so that they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di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onomical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vailable f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a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ed commun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t of communiti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http://www.clir.org/diglib/about/strategic.ht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0:50:10Z</dcterms:created>
  <dc:creator>Ismail Fahmi</dc:creator>
  <dc:description/>
  <dc:language>en-US</dc:language>
  <cp:lastModifiedBy>Ismail Fahmi</cp:lastModifiedBy>
  <dcterms:modified xsi:type="dcterms:W3CDTF">2002-04-10T05:01:40Z</dcterms:modified>
  <cp:revision>14</cp:revision>
  <dc:subject/>
  <dc:title>11 Bulan IndonesiaDLN dan Tantangan Masa Depan</dc:title>
</cp:coreProperties>
</file>