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7B2-D4BF-470F-9E65-D54C9B86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3D9-D4B5-4D14-9A74-21CD0EC9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C49-79C9-4422-9FDF-75F047DB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E84C-5C41-4A5C-9B62-1C722CE6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71FA-61CA-400F-9B6E-94A16A59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F015-9E74-4E8B-88A7-59F14107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0955-08BE-4B05-9D8C-E824A782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A12E-895A-4EF6-A876-9EB52C22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7951-C65A-437D-A20B-E62EB6FD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AA52-5A1C-44F7-A9C4-65E11FDC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BD6C-5EB2-4539-863E-4EBDC5C2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12E-FE22-4B18-AFC4-8F8DD5F5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6D9D-9E8F-4B35-B412-A5A911A6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204B-41E1-4B6A-99F9-E448DF2D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DDFE-15DE-487A-AB4F-07AA71B8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F2C3-70FC-413A-9C2F-34742F8C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590C-1271-4259-BC4D-F0C6859F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1FAA-BAEE-408E-BC55-DCAF0100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4D4-2CA1-436E-AEF8-210E1B11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F03-0F3E-489C-A467-12739097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E862-50E2-4237-8E7A-47EB497D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68A-7C3C-4D23-91B5-415F4A6B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05F-298B-4673-A87F-46200C9C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5A1-2393-4104-B28A-3DF97005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1E2C-B27E-4EF0-936B-55F293E92412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09FF-33AC-4EF2-A5E8-315CB532F14C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4.wmf"/><Relationship Id="rId3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: How It Work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0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28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33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46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62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64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6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69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173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187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9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14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16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29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47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4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49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51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55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56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66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67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77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78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88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89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99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00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10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11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21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22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25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28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34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35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45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46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56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57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67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0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91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4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39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21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22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5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8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9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55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57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59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60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1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575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578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0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2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4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0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4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9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6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9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8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599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2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0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4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06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10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16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21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2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50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63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679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681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8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83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68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689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690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693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696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02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06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10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21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23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26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71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7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3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7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5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9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1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19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20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23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26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32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36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38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3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40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42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43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53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54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64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6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68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0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884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887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890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893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896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13716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905120" y="1981080"/>
            <a:ext cx="1676160" cy="152424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2-03-19T15:04:09Z</dcterms:modified>
  <cp:revision>59</cp:revision>
  <dc:subject/>
  <dc:title>IndonesiaDLN: How It Works?</dc:title>
</cp:coreProperties>
</file>