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129-6F8A-4F82-9A80-2D970D24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E91-69FE-4326-BD66-E7D17F20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6332-6F74-47F1-8222-369412F3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5839-E767-43DA-9D9C-28E106B6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28D6-E55F-4B0A-B6AD-2D30AADE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CAA1-4A6D-4D28-8134-9EEDDA69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C429-16BA-4F8A-905A-47A1CB0E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EAC7-C10F-437D-A45D-24A85CDA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421E-1606-4173-A377-9B134F95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4B04-DF27-4C21-A4FC-9EB4C9C7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7B38-774F-48D2-B48D-65997A9A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9BF-2ED2-4AC4-8116-22846D20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2230-0FBD-4AB0-A92C-70F87D72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D461-10AC-486B-8DC5-72FE24CF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E5D5-67F4-449A-A664-37F5B434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4268-A384-4B21-8543-CE0A2E8C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AAED-6C5F-4269-B1C4-90373B9D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A5DD-453C-42E3-B09A-DE7379B5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475-A946-45C4-AEF6-2721F9DB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A486-14B0-41A2-895D-84B13CDE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E819-0779-4EA3-A4D1-80B09FE4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87B-2C42-454A-9F6F-D23A3716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9EA-03AE-4935-8C7A-6BE7D95D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C2AB-5264-448C-9064-EA00ECDC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19B4-DAE4-46BD-BAC8-7264FF5A1611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2915-40D0-41D3-96F3-B2956F5EC585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dln.itb.ac.id/" TargetMode="External"/><Relationship Id="rId2" Type="http://schemas.openxmlformats.org/officeDocument/2006/relationships/hyperlink" Target="mailto:Area-technical@idln.itb.ac.id" TargetMode="External"/><Relationship Id="rId3" Type="http://schemas.openxmlformats.org/officeDocument/2006/relationships/hyperlink" Target="mailto:Area-scenario@idln.itb.ac.id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16.wmf"/><Relationship Id="rId30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ndonesiaDLN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Juli 2001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Kap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canang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k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luncur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i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isiati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Inisiative bottom-u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ari grass root (awalnya dari universitas, perpustakaan, dan lembaga riset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tuk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engelol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berbag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lmu pengetahuan bangsa Indonesi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lui sebuah jaringan digital library yang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distrib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sent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um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 yang membah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pertukaran informas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kenari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 digital library di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anggota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sialis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gram jaringan digit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temuan partner/konsorsium setiap tah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diman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kretariat di KMRG, Perpustakaan Pusat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impin seorang sekjen (Ismail Fahmi, 2000 – sekarang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rgabung mailing list, kirim email kosong ke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a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-2 d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adal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di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work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Network, menggunakan software GDL (Ganesha Digital Library), dibuat KMRG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U-VL, menggunakan software New Spektra, dibuat oleh UK Petra Surabay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lain… (futur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b http://gdlhub.indonesiaDLN.or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ringan yang sud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dalam pengembang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jicoba interoperabilitas metada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= institusi, individu yang memiliki server digital library (GDL) dan bergabung ke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saat ini, terhubu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B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pustakaan Pus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t Biologi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sca Sarjana ITB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versitas Syah Kuala Banda Ace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2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65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njutan, terhubu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MA IP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Muhammadiyah Mal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dan Litbang Kesehatan Depkes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ina Nusanta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Atmajaya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Sam Ratulangi Man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Haluoleo Kenda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AIN Yogyakar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Cendrawasih Irian Jay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SM Dana Mitra Lingkung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install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mbaga Pendidikan Al-Azhar J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r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daftar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hayangkara Suraba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pemakai, pengguna, anggota yang mendaftar ke server-server GD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terdaftar di GDL Hub sekitar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ang, sebagian besar dari Indonesia, dan sebagian dari Luar Nege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capan 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72320" y="2844720"/>
            <a:ext cx="46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sama-sama membang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38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46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49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52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55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58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61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64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67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70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7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97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99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28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30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3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32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34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36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3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3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4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5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6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6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7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7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8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8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9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9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0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0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0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1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1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1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2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2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3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4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5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53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7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7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8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04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05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8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9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38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39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40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42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4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44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58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61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3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5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7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9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1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3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7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5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7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7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78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9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80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1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82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85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7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88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89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93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99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04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1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34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5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47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63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65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6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7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69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1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73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74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77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80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86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90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94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05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6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07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08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0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10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11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55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5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7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5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9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3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7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98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0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02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03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06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09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15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19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21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23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25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26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36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37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47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9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51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3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1207440" y="2786040"/>
            <a:ext cx="64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gaiman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eme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i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sa Bergabu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f Bergabung Bagi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anfa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PP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ndi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di Departe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anfaatkan Server GDL PP IT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untung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menyediakan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biaya instalasi dan mainten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SDM Administrator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pat dimulai dengan Cep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any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njuk staff departemen yang akan menjadi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EDITO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ak Perpustakaan Pusat ITB untuk mendapatkan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Training Editor GD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gratis). Koordinasi, registrasi, dan akses ke GDL akan dilakukan selama Train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ai upload abstrak dan full content dari departemen masing-mas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Bergab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528200" y="541008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Sub kategor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epartemen Biolo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Lihat 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368280" y="5731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sang server GDL sendiri di departem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oftware GDL, download free di http://gdl.itb.ac.id/download, atau pesan CD-ROM ke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 form registrasi untuk Institusi, kirim ke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sendi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butuh bantuan dan training, hubungi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abstrak dan full content ke server lokal, dan share ke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k dari knowledgebase IndonesiaDLN, secara otomatis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rver GDL 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elah Registr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dapat Publisher ID,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JBPTITB**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iliki server sendiri dg alamat http://digilib.**.itb.ac.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**=EL, BI, MS, et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r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iknya memiliki SDM Admin yang bisa mengelola server GDL Departemen untuk maintena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min perlu selalu koordinasi dengan KMRG ITB untuk maintenance dan troubleshoo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ke knowledgebase partner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3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gaimana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Mahasiswa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sa Sharing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angka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strasi online &amp; free menjadi member d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HUB, http://gdlhub.indonesiaDLN.o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ke server digital library lokal (milik institusi/departeme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&amp; share abstrak dan full content dari paper, laporan penelitian, dll An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 Directory And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anda.com/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mudi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rver otomatis akan menyebarkan ke IndonesiaDLN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ribusi Anda segera bisa di-AKSES secara lu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2355480" y="3063960"/>
            <a:ext cx="449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cana IndonesiaD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ata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biasanya berhubungan deng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membantu otonomi daerah dan pemanfaatan budaya bang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si dengan jaringan informasi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manfaatk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nowledgebase aset ilmu pengetahuan dan budaya bangsa di IndonesiaDLN dengan berbagai media kreatif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13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16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19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Network di dun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DLTD, Networked Digital Library of Theses and Dissertation, Virginia, member 80++ universitas di dunia, http://www.ndltd.or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T, Australian Digital Theses. Member 7 universitas besar di Australia, http://adt.caul.edu.au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, di Indonesia, didesain khusus untuk negara berkembang, http://gdlhub.indonesiaDLN.or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RL Pent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ntang GDL, registrasi, bergabung, patch, download, dll, http://gdlhub.indonesiaDLN.org/faqgdl.ph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tak KMRG: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2153160" y="2565360"/>
            <a:ext cx="454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erima kasi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epas kunci/borgol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K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rhadap kekayaan Ilmu Pengetahuan bangsa Indone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lalui sebuah jaringan digital library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tiap orang/institusi mengelola sendiri kekayaan intelektualn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atu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ebar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nggunakan standard metadata inter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ber informasi yang akan dikelola dan disebarkan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ri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ipu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 Penelit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gas Akhir, Tesis,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kel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, Heritage, Multimedia, direktori expert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nelit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merintah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s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asjid, Lembaga Keagam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sasi Masyara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7-17T00:58:25Z</dcterms:modified>
  <cp:revision>75</cp:revision>
  <dc:subject/>
  <dc:title>Digital Library Network dan  Riset Nasional</dc:title>
</cp:coreProperties>
</file>