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0720-FE37-4AD2-B8C5-3A028409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0F5D-623F-4DD5-9956-EB991116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C2E7-2669-41E2-A690-092385E0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821A-D4A0-45B5-9CFD-284941C5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7246-BC6C-461C-9974-11D989DA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540F-7A57-4BBE-AA1C-1CB9EA70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2C10-DCC0-4740-9FB9-78C3573D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8D05-2068-4019-9395-E9A3DBA7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C80D-957D-40B6-8BEC-906BB96C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A283-CA65-4F29-949B-08F2F7B9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7CD9-FAC5-47A0-B675-C92D6C66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F24B-8551-4520-A562-8B92066F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17DB-1229-4071-8C81-1667C98B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3B21-56AD-4D46-9DB3-4BED3559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2F99-96DA-478C-9805-0110C04C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7C30-A0DA-4304-BA40-F7939C21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A12A-7348-434A-A168-8E48647B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8186-47A0-4419-BB3F-BCD8AF6B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DA9F-6332-476A-806D-2797647C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7196-B67A-4C8E-B7C4-E5378361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CD38-C4D6-4B9B-BFD0-5B66C2EA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03D6-B8A4-4FCF-8473-5638F2AD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CB90-5FA9-4D16-80AD-3E7BFCB2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7658-EE93-4E20-848B-770D59D2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4644-6DFE-47B3-8D01-12059A3C512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199B-4BD2-4FEC-A392-AC4FF301842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2590920"/>
            <a:ext cx="8458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IAP STASIUN RADIO HARUS MEMILIKI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LL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4114800"/>
            <a:ext cx="8686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IAP PANCARAN RADIO HARUS SELALU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NYEBUTKAN CALLSIGN DENGAN LENGKAP DALAM INTERVAL PEND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5778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ALLSIGN = NAMA PANGGI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5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8600" y="2514600"/>
            <a:ext cx="86868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1752480"/>
            <a:ext cx="94788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3240" y="1752480"/>
            <a:ext cx="209052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1752480"/>
            <a:ext cx="205740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259092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NGKUL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MA - R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M - Z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MAA - PZZ          ZMA - ZR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35812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MPU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S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S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SAA - YZZ          ZS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35053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42670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MBA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M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MZZ          ZAA - ZM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41911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495288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AU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NA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N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NAA - PZZ          ZN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4876920"/>
            <a:ext cx="8686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598644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.A.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G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GZZ          ZAA - ZG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28600" y="2514600"/>
            <a:ext cx="86868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8640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95680" y="1752480"/>
            <a:ext cx="94788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3240" y="1752480"/>
            <a:ext cx="209052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1752480"/>
            <a:ext cx="205740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259092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M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HA - R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H - Z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HAA - PZZ          ZHA - ZR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35812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BA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YH, YD, YC, YB           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G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GZZ          ZAA - ZG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5053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42670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SE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YH, YD, YC, YB           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HA - N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H - Z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HAA - NZZ          ZHA - ZN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41911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495288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TENG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OA - T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O - Z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OAA - PZZ          ZOA - ZT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T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4876920"/>
            <a:ext cx="8686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598644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TI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U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U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UAA - YZZ          ZU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28600" y="251460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2133720"/>
            <a:ext cx="167652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86400" y="2133720"/>
            <a:ext cx="167652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95680" y="1752480"/>
            <a:ext cx="94788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43240" y="1752480"/>
            <a:ext cx="209052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1752480"/>
            <a:ext cx="205740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25909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LSE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H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HZZ          ZHA - Z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32767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LTR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8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IA - L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 - Z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IAA - LZZ          ZIA - ZL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320040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46483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A - S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L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8            RAA - SZZ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4572000"/>
            <a:ext cx="868680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53341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TA – U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ZQ - Z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A – U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QA - ZU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0" y="52578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525780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39574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LTE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8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MA - PZ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M - Z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MAA - PZZ          ZMA - ZP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238880" y="2133720"/>
            <a:ext cx="16765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86400" y="2133720"/>
            <a:ext cx="16765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1752480"/>
            <a:ext cx="947880" cy="47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43240" y="1752480"/>
            <a:ext cx="2090520" cy="47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1752480"/>
            <a:ext cx="2057400" cy="47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38815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A - W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LUKU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8            VAA - WZZ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2514600"/>
            <a:ext cx="8686800" cy="129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45673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X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V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AA - YZZ          ZV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0" y="32004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86400" y="320040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25621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A – S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Q - Z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RONTAL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G, YF,Y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8            RAA - SZZ          ZQA - ZU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321480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TA - U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A -U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0" y="44956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86400" y="449568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5181480"/>
            <a:ext cx="868680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52531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A - W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V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LUKU UTARA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8            VAA - WZZ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VA - Z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867280"/>
            <a:ext cx="868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XA –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XAA - Y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5867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586728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28600" y="251460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238880" y="2133720"/>
            <a:ext cx="1676520" cy="32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486400" y="2133720"/>
            <a:ext cx="1676520" cy="32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95680" y="1752480"/>
            <a:ext cx="94788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43240" y="1752480"/>
            <a:ext cx="209052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1752480"/>
            <a:ext cx="205740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25909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L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F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FZZ          ZAA - ZF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32767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.T.B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GA - K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 - Z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GAA - KZZ         ZGA - ZK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320040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46483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H, YD, YC, YB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Q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Q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PU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RAA - YZZ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QA - Z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" y="4572000"/>
            <a:ext cx="868680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39574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.T.T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LA - PZ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L - Z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LAA - PZZ          ZLA - ZP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ALLSIGN AMATIR RADIO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SUSUN DALAM BENTUK KOMBINASI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URUF DAN ANG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LAM SATU KESATUAN YANG TERDIRI ATA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FIX &amp; SUFF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40384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FI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NJELASKAN LOKASI (NEGARA &amp; W.R.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FFI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LENGKAPAN PREFIX UNTU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NJELASKAN PEMILIK STASI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90920" y="3505320"/>
            <a:ext cx="5943600" cy="1218960"/>
          </a:xfrm>
          <a:prstGeom prst="rect">
            <a:avLst/>
          </a:prstGeom>
          <a:solidFill>
            <a:srgbClr val="3333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4800600"/>
            <a:ext cx="6782040" cy="1600200"/>
          </a:xfrm>
          <a:prstGeom prst="rect">
            <a:avLst/>
          </a:prstGeom>
          <a:solidFill>
            <a:srgbClr val="3333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8229600" cy="19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Tahoma"/>
              </a:rPr>
              <a:t>YB</a:t>
            </a:r>
            <a:r>
              <a:rPr b="1" lang="en-US" sz="8000" spc="-1" strike="noStrike">
                <a:solidFill>
                  <a:srgbClr val="3333ff"/>
                </a:solidFill>
                <a:latin typeface="Tahoma"/>
                <a:ea typeface="Arial"/>
              </a:rPr>
              <a:t>ØCAK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ALLSIGN AMATIR RADI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585144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NEGARA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DON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547056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W.R.A     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AKAR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41752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PEMILIK STASIUN RA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019920"/>
            <a:ext cx="20098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3352680"/>
            <a:ext cx="0" cy="228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905120" y="5633640"/>
            <a:ext cx="914400" cy="4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419040" y="262908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3124080" y="2438280"/>
            <a:ext cx="457200" cy="1981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505320"/>
            <a:ext cx="0" cy="2514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36576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4800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EF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3581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FF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2133720"/>
            <a:ext cx="46483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r. Iskandar A.Q. SALE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omp. PLN Duren Tiga, Jl, Jatiluhur no.34. JAKARTA 12760 - INDON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35053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90920" y="3505320"/>
            <a:ext cx="5943600" cy="1218960"/>
          </a:xfrm>
          <a:prstGeom prst="rect">
            <a:avLst/>
          </a:prstGeom>
          <a:solidFill>
            <a:srgbClr val="3333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4800600"/>
            <a:ext cx="6782040" cy="1600200"/>
          </a:xfrm>
          <a:prstGeom prst="rect">
            <a:avLst/>
          </a:prstGeom>
          <a:solidFill>
            <a:srgbClr val="3333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ALLSIGN AMATIR RADI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585144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NEGARA = INDON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547056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W.R.A      = JAWA BAR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71800" y="41752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PEMILIK STASIUN RA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47760" y="6019920"/>
            <a:ext cx="1447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3352680"/>
            <a:ext cx="0" cy="228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286000" y="5633640"/>
            <a:ext cx="533520" cy="4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1062000" y="270504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3047760" y="2819160"/>
            <a:ext cx="457200" cy="1219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66480" y="3733920"/>
            <a:ext cx="28440" cy="228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36576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4800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EF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3581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FF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81480" y="2133720"/>
            <a:ext cx="3276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ONI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7 RUA AGUSTA        SAO PAULO - BRAZ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96524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YB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198108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98108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P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851440"/>
            <a:ext cx="198108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RAZ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5491080"/>
            <a:ext cx="198108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O PA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10405E-006 L 0.22916 0.00671 E">
                                      <p:cBhvr>
                                        <p:cTn id="112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6.93642E-007 L -0.21666 6.93642E-007 E">
                                      <p:cBhvr>
                                        <p:cTn id="114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2598840"/>
            <a:ext cx="8915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a500"/>
                </a:solidFill>
                <a:latin typeface="Tahoma"/>
              </a:rPr>
              <a:t>TINGKATAN / CLAS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mula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No Code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D &amp; YG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ag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Novice   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C &amp; YF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nggalang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General  Clas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B &amp; Y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negak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Advance Clas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97488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Tahoma"/>
              </a:rPr>
              <a:t>INDONE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19051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FI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8458200" cy="42242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259884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WILAYAH RADIO AMATIR = CALL AREA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97488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Tahoma"/>
              </a:rPr>
              <a:t>INDONE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19051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FI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00"/>
                            </p:stCondLst>
                            <p:childTnLst>
                              <p:par>
                                <p:cTn id="15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9051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FFI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25909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06"/>
                </a:solidFill>
                <a:latin typeface="Tahoma"/>
              </a:rPr>
              <a:t>A s/d Z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AR KHUSUS dgn rekomendasi ORARI Pus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3505320"/>
            <a:ext cx="6781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06"/>
                </a:solidFill>
                <a:latin typeface="Tahoma"/>
              </a:rPr>
              <a:t>ZA s/d ZZ   &amp;   ZAA s/d ZZZ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AR KHU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5484960"/>
            <a:ext cx="85341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90319"/>
                </a:solidFill>
                <a:latin typeface="Tahoma"/>
              </a:rPr>
              <a:t>QAA s/d QZZ, SOS, TTT, XXX, DDD</a:t>
            </a:r>
            <a:r>
              <a:rPr b="1" lang="en-US" sz="3200" spc="-1" strike="noStrike">
                <a:solidFill>
                  <a:srgbClr val="e90319"/>
                </a:solidFill>
                <a:latin typeface="Tahoma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IDAK DIALOKASI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4465800"/>
            <a:ext cx="8610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06"/>
                </a:solidFill>
                <a:latin typeface="Tahoma"/>
              </a:rPr>
              <a:t>AA s/d AZ,  AAA s/d PZZ,  RAA s/d YZZ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AR PERORAN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2514600"/>
            <a:ext cx="86868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1752480"/>
            <a:ext cx="94788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43240" y="1752480"/>
            <a:ext cx="209052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1752480"/>
            <a:ext cx="205740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259092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KART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PZZ          ZA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5812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BA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Q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PZZ          ZAA - ZQ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35053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42670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TE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R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R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RAA - YZZ          ZR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41911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495288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TENG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PZZ          ZAA - ZT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T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4876920"/>
            <a:ext cx="8686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598644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I.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U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U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UAA - YZZ          ZU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2514600"/>
            <a:ext cx="86868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38880" y="2133720"/>
            <a:ext cx="167652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2133720"/>
            <a:ext cx="167652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1752480"/>
            <a:ext cx="947880" cy="510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43240" y="1752480"/>
            <a:ext cx="2090520" cy="510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1752480"/>
            <a:ext cx="2057400" cy="510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259092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TI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PZZ          ZA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35812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MB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E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EZZ          ZAA - Z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35053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42670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FA - I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MSE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4            FAA - IZZ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4191120"/>
            <a:ext cx="8686800" cy="129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490536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JA - L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F - Z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A - LZZ          ZFA - ZL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48481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48481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5486400"/>
            <a:ext cx="868680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551016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FA - I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F - Z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BE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4            FAA - IZZ          ZFA - Z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61675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JA - L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A - L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60958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609588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04:32:59Z</dcterms:created>
  <dc:creator>.</dc:creator>
  <dc:description/>
  <dc:language>en-US</dc:language>
  <cp:lastModifiedBy>Ir. Iskandar A.Q. SALEH</cp:lastModifiedBy>
  <dcterms:modified xsi:type="dcterms:W3CDTF">2004-05-07T05:10:28Z</dcterms:modified>
  <cp:revision>9</cp:revision>
  <dc:subject/>
  <dc:title>Slide 1</dc:title>
</cp:coreProperties>
</file>